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C28-5B5B-4991-A674-15A5E52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7CD-962B-4C89-B946-4737761E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967-42A8-4317-9942-939CBFAB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1C1-C8AD-41D7-8C51-0C4BBAA5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E55-A5F9-473E-85C9-1C149B9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F26-EA99-4F74-9E17-BE608CBC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F7B-C64A-42A5-9AE1-07970E5E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226-6AC5-4F3B-9B4B-7C47171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2D7-57E5-4323-9E0B-60175C7D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66B-A81D-4E48-A963-4C52A5C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6DC-9B1B-44D0-86BB-ADDC330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08C-CA83-4D0C-9FAD-373DC13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890-A618-40BF-A4D6-5AEBDD3B12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2.5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9x + 9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Ink 3"/>
          <p:cNvSpPr/>
          <p:nvPr/>
        </p:nvSpPr>
        <p:spPr>
          <a:xfrm>
            <a:off x="428760" y="1535040"/>
            <a:ext cx="1687320" cy="554040"/>
          </a:xfrm>
          <a:custGeom>
            <a:avLst/>
            <a:gdLst/>
            <a:ahLst/>
            <a:rect l="l" t="t" r="r" b="b"/>
            <a:pathLst>
              <a:path w="4689" h="1539">
                <a:moveTo>
                  <a:pt x="1538" y="4266"/>
                </a:moveTo>
                <a:cubicBezTo>
                  <a:pt x="1577" y="4356"/>
                  <a:pt x="1542" y="4417"/>
                  <a:pt x="1538" y="4514"/>
                </a:cubicBezTo>
                <a:cubicBezTo>
                  <a:pt x="1534" y="4630"/>
                  <a:pt x="1547" y="4726"/>
                  <a:pt x="1563" y="4837"/>
                </a:cubicBezTo>
                <a:cubicBezTo>
                  <a:pt x="1563" y="4879"/>
                  <a:pt x="1571" y="4895"/>
                  <a:pt x="1538" y="4887"/>
                </a:cubicBezTo>
              </a:path>
              <a:path w="4689" h="1539">
                <a:moveTo>
                  <a:pt x="1191" y="4738"/>
                </a:moveTo>
                <a:cubicBezTo>
                  <a:pt x="1373" y="4738"/>
                  <a:pt x="1554" y="4738"/>
                  <a:pt x="1736" y="4738"/>
                </a:cubicBezTo>
              </a:path>
              <a:path w="4689" h="1539">
                <a:moveTo>
                  <a:pt x="1265" y="5259"/>
                </a:moveTo>
                <a:cubicBezTo>
                  <a:pt x="1363" y="5312"/>
                  <a:pt x="1401" y="5308"/>
                  <a:pt x="1513" y="5308"/>
                </a:cubicBezTo>
                <a:cubicBezTo>
                  <a:pt x="1619" y="5308"/>
                  <a:pt x="1728" y="5276"/>
                  <a:pt x="1836" y="5259"/>
                </a:cubicBezTo>
              </a:path>
              <a:path w="4689" h="1539">
                <a:moveTo>
                  <a:pt x="2282" y="4291"/>
                </a:moveTo>
                <a:cubicBezTo>
                  <a:pt x="2256" y="4386"/>
                  <a:pt x="2257" y="4464"/>
                  <a:pt x="2257" y="4564"/>
                </a:cubicBezTo>
                <a:cubicBezTo>
                  <a:pt x="2257" y="4749"/>
                  <a:pt x="2247" y="4930"/>
                  <a:pt x="2232" y="5110"/>
                </a:cubicBezTo>
                <a:cubicBezTo>
                  <a:pt x="2224" y="5210"/>
                  <a:pt x="2223" y="5290"/>
                  <a:pt x="2208" y="5383"/>
                </a:cubicBezTo>
                <a:cubicBezTo>
                  <a:pt x="2208" y="5399"/>
                  <a:pt x="2208" y="5416"/>
                  <a:pt x="2208" y="5432"/>
                </a:cubicBezTo>
              </a:path>
              <a:path w="4689" h="1539">
                <a:moveTo>
                  <a:pt x="2580" y="5482"/>
                </a:moveTo>
                <a:cubicBezTo>
                  <a:pt x="2574" y="5588"/>
                  <a:pt x="2547" y="5644"/>
                  <a:pt x="2530" y="5730"/>
                </a:cubicBezTo>
                <a:cubicBezTo>
                  <a:pt x="2519" y="5785"/>
                  <a:pt x="2506" y="5792"/>
                  <a:pt x="2530" y="5804"/>
                </a:cubicBezTo>
              </a:path>
              <a:path w="4689" h="1539">
                <a:moveTo>
                  <a:pt x="3175" y="4266"/>
                </a:moveTo>
                <a:cubicBezTo>
                  <a:pt x="3175" y="4379"/>
                  <a:pt x="3162" y="4480"/>
                  <a:pt x="3150" y="4589"/>
                </a:cubicBezTo>
                <a:cubicBezTo>
                  <a:pt x="3140" y="4677"/>
                  <a:pt x="3170" y="4735"/>
                  <a:pt x="3175" y="4812"/>
                </a:cubicBezTo>
                <a:cubicBezTo>
                  <a:pt x="3175" y="4862"/>
                  <a:pt x="3175" y="4878"/>
                  <a:pt x="3175" y="4911"/>
                </a:cubicBezTo>
              </a:path>
              <a:path w="4689" h="1539">
                <a:moveTo>
                  <a:pt x="2902" y="4812"/>
                </a:moveTo>
                <a:cubicBezTo>
                  <a:pt x="3005" y="4812"/>
                  <a:pt x="3077" y="4801"/>
                  <a:pt x="3175" y="4787"/>
                </a:cubicBezTo>
                <a:cubicBezTo>
                  <a:pt x="3225" y="4787"/>
                  <a:pt x="3241" y="4787"/>
                  <a:pt x="3274" y="4787"/>
                </a:cubicBezTo>
              </a:path>
              <a:path w="4689" h="1539">
                <a:moveTo>
                  <a:pt x="2977" y="5209"/>
                </a:moveTo>
                <a:cubicBezTo>
                  <a:pt x="3038" y="5271"/>
                  <a:pt x="3105" y="5262"/>
                  <a:pt x="3200" y="5234"/>
                </a:cubicBezTo>
                <a:cubicBezTo>
                  <a:pt x="3267" y="5215"/>
                  <a:pt x="3328" y="5202"/>
                  <a:pt x="3398" y="5184"/>
                </a:cubicBezTo>
              </a:path>
              <a:path w="4689" h="1539">
                <a:moveTo>
                  <a:pt x="3671" y="4564"/>
                </a:moveTo>
                <a:cubicBezTo>
                  <a:pt x="3725" y="4481"/>
                  <a:pt x="3763" y="4421"/>
                  <a:pt x="3845" y="4366"/>
                </a:cubicBezTo>
                <a:cubicBezTo>
                  <a:pt x="3887" y="4338"/>
                  <a:pt x="3993" y="4322"/>
                  <a:pt x="4043" y="4341"/>
                </a:cubicBezTo>
                <a:cubicBezTo>
                  <a:pt x="4068" y="4366"/>
                  <a:pt x="4076" y="4374"/>
                  <a:pt x="4093" y="4390"/>
                </a:cubicBezTo>
                <a:cubicBezTo>
                  <a:pt x="4063" y="4500"/>
                  <a:pt x="4035" y="4564"/>
                  <a:pt x="3969" y="4663"/>
                </a:cubicBezTo>
                <a:cubicBezTo>
                  <a:pt x="3912" y="4749"/>
                  <a:pt x="3831" y="4791"/>
                  <a:pt x="3770" y="4862"/>
                </a:cubicBezTo>
                <a:cubicBezTo>
                  <a:pt x="3746" y="4911"/>
                  <a:pt x="3737" y="4928"/>
                  <a:pt x="3696" y="4936"/>
                </a:cubicBezTo>
                <a:cubicBezTo>
                  <a:pt x="3751" y="4890"/>
                  <a:pt x="3807" y="4846"/>
                  <a:pt x="3870" y="4812"/>
                </a:cubicBezTo>
                <a:cubicBezTo>
                  <a:pt x="3930" y="4780"/>
                  <a:pt x="3994" y="4780"/>
                  <a:pt x="4043" y="4837"/>
                </a:cubicBezTo>
                <a:cubicBezTo>
                  <a:pt x="4102" y="4907"/>
                  <a:pt x="4066" y="5035"/>
                  <a:pt x="4043" y="5110"/>
                </a:cubicBezTo>
                <a:cubicBezTo>
                  <a:pt x="4005" y="5236"/>
                  <a:pt x="3910" y="5327"/>
                  <a:pt x="3820" y="5407"/>
                </a:cubicBezTo>
                <a:cubicBezTo>
                  <a:pt x="3803" y="5422"/>
                  <a:pt x="3655" y="5545"/>
                  <a:pt x="3621" y="5482"/>
                </a:cubicBezTo>
                <a:cubicBezTo>
                  <a:pt x="3621" y="5424"/>
                  <a:pt x="3621" y="5416"/>
                  <a:pt x="3621" y="5383"/>
                </a:cubicBezTo>
              </a:path>
              <a:path w="4689" h="1539">
                <a:moveTo>
                  <a:pt x="4316" y="5283"/>
                </a:moveTo>
                <a:cubicBezTo>
                  <a:pt x="4286" y="5385"/>
                  <a:pt x="4260" y="5556"/>
                  <a:pt x="4217" y="5655"/>
                </a:cubicBezTo>
                <a:cubicBezTo>
                  <a:pt x="4197" y="5702"/>
                  <a:pt x="4173" y="5701"/>
                  <a:pt x="4217" y="5730"/>
                </a:cubicBezTo>
              </a:path>
              <a:path w="4689" h="1539">
                <a:moveTo>
                  <a:pt x="4837" y="4316"/>
                </a:moveTo>
                <a:cubicBezTo>
                  <a:pt x="4837" y="4437"/>
                  <a:pt x="4799" y="4652"/>
                  <a:pt x="4862" y="4762"/>
                </a:cubicBezTo>
                <a:cubicBezTo>
                  <a:pt x="4896" y="4796"/>
                  <a:pt x="4905" y="4818"/>
                  <a:pt x="4887" y="4862"/>
                </a:cubicBezTo>
              </a:path>
              <a:path w="4689" h="1539">
                <a:moveTo>
                  <a:pt x="4638" y="4812"/>
                </a:moveTo>
                <a:cubicBezTo>
                  <a:pt x="4743" y="4812"/>
                  <a:pt x="4873" y="4832"/>
                  <a:pt x="4961" y="4787"/>
                </a:cubicBezTo>
              </a:path>
              <a:path w="4689" h="1539">
                <a:moveTo>
                  <a:pt x="4688" y="5184"/>
                </a:moveTo>
                <a:cubicBezTo>
                  <a:pt x="4818" y="5222"/>
                  <a:pt x="4946" y="5257"/>
                  <a:pt x="5085" y="5234"/>
                </a:cubicBezTo>
                <a:cubicBezTo>
                  <a:pt x="5184" y="5201"/>
                  <a:pt x="5234" y="5184"/>
                  <a:pt x="5308" y="5159"/>
                </a:cubicBezTo>
              </a:path>
              <a:path w="4689" h="1539">
                <a:moveTo>
                  <a:pt x="5854" y="4614"/>
                </a:moveTo>
                <a:cubicBezTo>
                  <a:pt x="5866" y="4528"/>
                  <a:pt x="5894" y="4442"/>
                  <a:pt x="5779" y="4415"/>
                </a:cubicBezTo>
                <a:cubicBezTo>
                  <a:pt x="5689" y="4394"/>
                  <a:pt x="5619" y="4434"/>
                  <a:pt x="5556" y="4490"/>
                </a:cubicBezTo>
                <a:cubicBezTo>
                  <a:pt x="5475" y="4563"/>
                  <a:pt x="5417" y="4607"/>
                  <a:pt x="5407" y="4713"/>
                </a:cubicBezTo>
                <a:cubicBezTo>
                  <a:pt x="5401" y="4772"/>
                  <a:pt x="5432" y="4829"/>
                  <a:pt x="5482" y="4862"/>
                </a:cubicBezTo>
                <a:cubicBezTo>
                  <a:pt x="5552" y="4908"/>
                  <a:pt x="5575" y="4922"/>
                  <a:pt x="5655" y="4887"/>
                </a:cubicBezTo>
                <a:cubicBezTo>
                  <a:pt x="5742" y="4849"/>
                  <a:pt x="5762" y="4821"/>
                  <a:pt x="5804" y="4738"/>
                </a:cubicBezTo>
                <a:cubicBezTo>
                  <a:pt x="5832" y="4682"/>
                  <a:pt x="5846" y="4650"/>
                  <a:pt x="5854" y="4589"/>
                </a:cubicBezTo>
                <a:cubicBezTo>
                  <a:pt x="5807" y="4636"/>
                  <a:pt x="5797" y="4673"/>
                  <a:pt x="5779" y="4738"/>
                </a:cubicBezTo>
                <a:cubicBezTo>
                  <a:pt x="5744" y="4862"/>
                  <a:pt x="5732" y="5029"/>
                  <a:pt x="5755" y="5159"/>
                </a:cubicBezTo>
                <a:cubicBezTo>
                  <a:pt x="5765" y="5215"/>
                  <a:pt x="5817" y="5305"/>
                  <a:pt x="5804" y="5358"/>
                </a:cubicBezTo>
                <a:cubicBezTo>
                  <a:pt x="5796" y="5374"/>
                  <a:pt x="5787" y="5391"/>
                  <a:pt x="5779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4"/>
          <p:cNvSpPr/>
          <p:nvPr/>
        </p:nvSpPr>
        <p:spPr>
          <a:xfrm>
            <a:off x="2320920" y="1677960"/>
            <a:ext cx="1893960" cy="509760"/>
          </a:xfrm>
          <a:custGeom>
            <a:avLst/>
            <a:gdLst/>
            <a:ahLst/>
            <a:rect l="l" t="t" r="r" b="b"/>
            <a:pathLst>
              <a:path w="5260" h="1415">
                <a:moveTo>
                  <a:pt x="6449" y="5804"/>
                </a:moveTo>
                <a:cubicBezTo>
                  <a:pt x="6550" y="5777"/>
                  <a:pt x="6665" y="5731"/>
                  <a:pt x="6772" y="5755"/>
                </a:cubicBezTo>
                <a:cubicBezTo>
                  <a:pt x="6820" y="5778"/>
                  <a:pt x="6834" y="5786"/>
                  <a:pt x="6871" y="5779"/>
                </a:cubicBezTo>
              </a:path>
              <a:path w="5260" h="1415">
                <a:moveTo>
                  <a:pt x="6524" y="6003"/>
                </a:moveTo>
                <a:cubicBezTo>
                  <a:pt x="6614" y="6034"/>
                  <a:pt x="6698" y="6028"/>
                  <a:pt x="6796" y="6028"/>
                </a:cubicBezTo>
                <a:cubicBezTo>
                  <a:pt x="6899" y="6028"/>
                  <a:pt x="6969" y="6023"/>
                  <a:pt x="7069" y="6003"/>
                </a:cubicBezTo>
              </a:path>
              <a:path w="5260" h="1415">
                <a:moveTo>
                  <a:pt x="7689" y="4837"/>
                </a:moveTo>
                <a:cubicBezTo>
                  <a:pt x="7678" y="4931"/>
                  <a:pt x="7628" y="5013"/>
                  <a:pt x="7615" y="5110"/>
                </a:cubicBezTo>
                <a:cubicBezTo>
                  <a:pt x="7604" y="5194"/>
                  <a:pt x="7604" y="5277"/>
                  <a:pt x="7590" y="5358"/>
                </a:cubicBezTo>
                <a:cubicBezTo>
                  <a:pt x="7590" y="5399"/>
                  <a:pt x="7590" y="5407"/>
                  <a:pt x="7590" y="5432"/>
                </a:cubicBezTo>
              </a:path>
              <a:path w="5260" h="1415">
                <a:moveTo>
                  <a:pt x="7268" y="5308"/>
                </a:moveTo>
                <a:cubicBezTo>
                  <a:pt x="7396" y="5308"/>
                  <a:pt x="7550" y="5285"/>
                  <a:pt x="7665" y="5308"/>
                </a:cubicBezTo>
              </a:path>
              <a:path w="5260" h="1415">
                <a:moveTo>
                  <a:pt x="7516" y="5655"/>
                </a:moveTo>
                <a:cubicBezTo>
                  <a:pt x="7614" y="5745"/>
                  <a:pt x="7672" y="5780"/>
                  <a:pt x="7813" y="5755"/>
                </a:cubicBezTo>
                <a:cubicBezTo>
                  <a:pt x="7895" y="5728"/>
                  <a:pt x="7928" y="5717"/>
                  <a:pt x="7987" y="5705"/>
                </a:cubicBezTo>
              </a:path>
              <a:path w="5260" h="1415">
                <a:moveTo>
                  <a:pt x="8483" y="4862"/>
                </a:moveTo>
                <a:cubicBezTo>
                  <a:pt x="8443" y="5000"/>
                  <a:pt x="8397" y="5142"/>
                  <a:pt x="8384" y="5283"/>
                </a:cubicBezTo>
                <a:cubicBezTo>
                  <a:pt x="8375" y="5384"/>
                  <a:pt x="8387" y="5485"/>
                  <a:pt x="8359" y="5581"/>
                </a:cubicBezTo>
                <a:cubicBezTo>
                  <a:pt x="8342" y="5640"/>
                  <a:pt x="8334" y="5666"/>
                  <a:pt x="8334" y="5730"/>
                </a:cubicBezTo>
              </a:path>
              <a:path w="5260" h="1415">
                <a:moveTo>
                  <a:pt x="8706" y="5854"/>
                </a:moveTo>
                <a:cubicBezTo>
                  <a:pt x="8685" y="5940"/>
                  <a:pt x="8648" y="5998"/>
                  <a:pt x="8632" y="6077"/>
                </a:cubicBezTo>
              </a:path>
              <a:path w="5260" h="1415">
                <a:moveTo>
                  <a:pt x="9178" y="4688"/>
                </a:moveTo>
                <a:cubicBezTo>
                  <a:pt x="9160" y="4847"/>
                  <a:pt x="9128" y="5001"/>
                  <a:pt x="9128" y="5159"/>
                </a:cubicBezTo>
                <a:cubicBezTo>
                  <a:pt x="9128" y="5218"/>
                  <a:pt x="9125" y="5244"/>
                  <a:pt x="9103" y="5283"/>
                </a:cubicBezTo>
              </a:path>
              <a:path w="5260" h="1415">
                <a:moveTo>
                  <a:pt x="8905" y="5283"/>
                </a:moveTo>
                <a:cubicBezTo>
                  <a:pt x="9026" y="5266"/>
                  <a:pt x="9131" y="5259"/>
                  <a:pt x="9252" y="5259"/>
                </a:cubicBezTo>
                <a:cubicBezTo>
                  <a:pt x="9277" y="5259"/>
                  <a:pt x="9302" y="5259"/>
                  <a:pt x="9327" y="5259"/>
                </a:cubicBezTo>
              </a:path>
              <a:path w="5260" h="1415">
                <a:moveTo>
                  <a:pt x="8954" y="5631"/>
                </a:moveTo>
                <a:cubicBezTo>
                  <a:pt x="9072" y="5646"/>
                  <a:pt x="9138" y="5637"/>
                  <a:pt x="9252" y="5606"/>
                </a:cubicBezTo>
              </a:path>
              <a:path w="5260" h="1415">
                <a:moveTo>
                  <a:pt x="9699" y="4911"/>
                </a:moveTo>
                <a:cubicBezTo>
                  <a:pt x="9793" y="4855"/>
                  <a:pt x="9863" y="4795"/>
                  <a:pt x="9971" y="4862"/>
                </a:cubicBezTo>
                <a:cubicBezTo>
                  <a:pt x="10022" y="4894"/>
                  <a:pt x="10000" y="4995"/>
                  <a:pt x="9971" y="5035"/>
                </a:cubicBezTo>
                <a:cubicBezTo>
                  <a:pt x="9925" y="5100"/>
                  <a:pt x="9803" y="5212"/>
                  <a:pt x="9723" y="5234"/>
                </a:cubicBezTo>
                <a:cubicBezTo>
                  <a:pt x="9679" y="5234"/>
                  <a:pt x="9665" y="5231"/>
                  <a:pt x="9649" y="5259"/>
                </a:cubicBezTo>
                <a:cubicBezTo>
                  <a:pt x="9727" y="5230"/>
                  <a:pt x="9769" y="5225"/>
                  <a:pt x="9847" y="5259"/>
                </a:cubicBezTo>
                <a:cubicBezTo>
                  <a:pt x="9907" y="5285"/>
                  <a:pt x="9957" y="5366"/>
                  <a:pt x="9971" y="5432"/>
                </a:cubicBezTo>
                <a:cubicBezTo>
                  <a:pt x="9999" y="5560"/>
                  <a:pt x="9865" y="5652"/>
                  <a:pt x="9773" y="5680"/>
                </a:cubicBezTo>
                <a:cubicBezTo>
                  <a:pt x="9710" y="5699"/>
                  <a:pt x="9618" y="5724"/>
                  <a:pt x="9550" y="5705"/>
                </a:cubicBezTo>
                <a:cubicBezTo>
                  <a:pt x="9482" y="5686"/>
                  <a:pt x="9478" y="5673"/>
                  <a:pt x="9500" y="5631"/>
                </a:cubicBezTo>
              </a:path>
              <a:path w="5260" h="1415">
                <a:moveTo>
                  <a:pt x="10319" y="5680"/>
                </a:moveTo>
                <a:cubicBezTo>
                  <a:pt x="10286" y="5774"/>
                  <a:pt x="10254" y="5893"/>
                  <a:pt x="10195" y="5978"/>
                </a:cubicBezTo>
                <a:cubicBezTo>
                  <a:pt x="10170" y="6003"/>
                  <a:pt x="10162" y="6011"/>
                  <a:pt x="10145" y="5978"/>
                </a:cubicBezTo>
              </a:path>
              <a:path w="5260" h="1415">
                <a:moveTo>
                  <a:pt x="10641" y="4713"/>
                </a:moveTo>
                <a:cubicBezTo>
                  <a:pt x="10627" y="4837"/>
                  <a:pt x="10616" y="4939"/>
                  <a:pt x="10616" y="5060"/>
                </a:cubicBezTo>
                <a:cubicBezTo>
                  <a:pt x="10616" y="5077"/>
                  <a:pt x="10616" y="5093"/>
                  <a:pt x="10616" y="5110"/>
                </a:cubicBezTo>
              </a:path>
              <a:path w="5260" h="1415">
                <a:moveTo>
                  <a:pt x="10393" y="4986"/>
                </a:moveTo>
                <a:cubicBezTo>
                  <a:pt x="10523" y="4986"/>
                  <a:pt x="10640" y="4994"/>
                  <a:pt x="10765" y="5011"/>
                </a:cubicBezTo>
                <a:cubicBezTo>
                  <a:pt x="10782" y="5011"/>
                  <a:pt x="10798" y="5011"/>
                  <a:pt x="10815" y="5011"/>
                </a:cubicBezTo>
              </a:path>
              <a:path w="5260" h="1415">
                <a:moveTo>
                  <a:pt x="10517" y="5407"/>
                </a:moveTo>
                <a:cubicBezTo>
                  <a:pt x="10592" y="5435"/>
                  <a:pt x="10661" y="5429"/>
                  <a:pt x="10740" y="5407"/>
                </a:cubicBezTo>
                <a:cubicBezTo>
                  <a:pt x="10757" y="5399"/>
                  <a:pt x="10773" y="5391"/>
                  <a:pt x="10790" y="5383"/>
                </a:cubicBezTo>
              </a:path>
              <a:path w="5260" h="1415">
                <a:moveTo>
                  <a:pt x="11708" y="4812"/>
                </a:moveTo>
                <a:cubicBezTo>
                  <a:pt x="11688" y="4683"/>
                  <a:pt x="11674" y="4668"/>
                  <a:pt x="11534" y="4663"/>
                </a:cubicBezTo>
                <a:cubicBezTo>
                  <a:pt x="11447" y="4660"/>
                  <a:pt x="11308" y="4684"/>
                  <a:pt x="11237" y="4738"/>
                </a:cubicBezTo>
                <a:cubicBezTo>
                  <a:pt x="11145" y="4807"/>
                  <a:pt x="11118" y="4862"/>
                  <a:pt x="11162" y="4961"/>
                </a:cubicBezTo>
                <a:cubicBezTo>
                  <a:pt x="11189" y="5023"/>
                  <a:pt x="11242" y="5070"/>
                  <a:pt x="11311" y="5085"/>
                </a:cubicBezTo>
                <a:cubicBezTo>
                  <a:pt x="11364" y="5097"/>
                  <a:pt x="11491" y="5102"/>
                  <a:pt x="11534" y="5060"/>
                </a:cubicBezTo>
                <a:cubicBezTo>
                  <a:pt x="11587" y="5007"/>
                  <a:pt x="11605" y="4943"/>
                  <a:pt x="11633" y="4887"/>
                </a:cubicBezTo>
                <a:cubicBezTo>
                  <a:pt x="11641" y="4879"/>
                  <a:pt x="11650" y="4870"/>
                  <a:pt x="11658" y="4862"/>
                </a:cubicBezTo>
                <a:cubicBezTo>
                  <a:pt x="11609" y="4989"/>
                  <a:pt x="11531" y="5125"/>
                  <a:pt x="11509" y="5259"/>
                </a:cubicBezTo>
                <a:cubicBezTo>
                  <a:pt x="11494" y="5349"/>
                  <a:pt x="11485" y="5438"/>
                  <a:pt x="11485" y="5531"/>
                </a:cubicBezTo>
                <a:cubicBezTo>
                  <a:pt x="11485" y="5567"/>
                  <a:pt x="11506" y="5713"/>
                  <a:pt x="11460" y="5730"/>
                </a:cubicBezTo>
                <a:cubicBezTo>
                  <a:pt x="11437" y="5707"/>
                  <a:pt x="11433" y="5699"/>
                  <a:pt x="11410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892080" y="2232000"/>
            <a:ext cx="438120" cy="331920"/>
          </a:xfrm>
          <a:custGeom>
            <a:avLst/>
            <a:gdLst/>
            <a:ahLst/>
            <a:rect l="l" t="t" r="r" b="b"/>
            <a:pathLst>
              <a:path w="1217" h="919">
                <a:moveTo>
                  <a:pt x="2828" y="6201"/>
                </a:moveTo>
                <a:cubicBezTo>
                  <a:pt x="2845" y="6317"/>
                  <a:pt x="2853" y="6409"/>
                  <a:pt x="2853" y="6524"/>
                </a:cubicBezTo>
                <a:cubicBezTo>
                  <a:pt x="2853" y="6575"/>
                  <a:pt x="2867" y="6581"/>
                  <a:pt x="2877" y="6623"/>
                </a:cubicBezTo>
              </a:path>
              <a:path w="1217" h="919">
                <a:moveTo>
                  <a:pt x="2480" y="6598"/>
                </a:moveTo>
                <a:cubicBezTo>
                  <a:pt x="2550" y="6640"/>
                  <a:pt x="2643" y="6623"/>
                  <a:pt x="2729" y="6623"/>
                </a:cubicBezTo>
                <a:cubicBezTo>
                  <a:pt x="2795" y="6623"/>
                  <a:pt x="2812" y="6623"/>
                  <a:pt x="2853" y="6623"/>
                </a:cubicBezTo>
              </a:path>
              <a:path w="1217" h="919">
                <a:moveTo>
                  <a:pt x="2530" y="6995"/>
                </a:moveTo>
                <a:cubicBezTo>
                  <a:pt x="2659" y="6995"/>
                  <a:pt x="2777" y="6981"/>
                  <a:pt x="2902" y="6970"/>
                </a:cubicBezTo>
                <a:cubicBezTo>
                  <a:pt x="3010" y="6970"/>
                  <a:pt x="3052" y="6968"/>
                  <a:pt x="3125" y="6945"/>
                </a:cubicBezTo>
              </a:path>
              <a:path w="1217" h="919">
                <a:moveTo>
                  <a:pt x="3696" y="6400"/>
                </a:moveTo>
                <a:cubicBezTo>
                  <a:pt x="3656" y="6560"/>
                  <a:pt x="3627" y="6705"/>
                  <a:pt x="3621" y="6871"/>
                </a:cubicBezTo>
                <a:cubicBezTo>
                  <a:pt x="3618" y="6953"/>
                  <a:pt x="3621" y="7037"/>
                  <a:pt x="3621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1643040" y="2901960"/>
            <a:ext cx="1662120" cy="741240"/>
          </a:xfrm>
          <a:custGeom>
            <a:avLst/>
            <a:gdLst/>
            <a:ahLst/>
            <a:rect l="l" t="t" r="r" b="b"/>
            <a:pathLst>
              <a:path w="4615" h="2059">
                <a:moveTo>
                  <a:pt x="5110" y="8086"/>
                </a:moveTo>
                <a:cubicBezTo>
                  <a:pt x="5086" y="8206"/>
                  <a:pt x="5100" y="8314"/>
                  <a:pt x="5085" y="8434"/>
                </a:cubicBezTo>
                <a:cubicBezTo>
                  <a:pt x="5067" y="8577"/>
                  <a:pt x="5060" y="8709"/>
                  <a:pt x="5060" y="8855"/>
                </a:cubicBezTo>
                <a:cubicBezTo>
                  <a:pt x="5060" y="8969"/>
                  <a:pt x="5040" y="9067"/>
                  <a:pt x="5035" y="9178"/>
                </a:cubicBezTo>
                <a:cubicBezTo>
                  <a:pt x="5031" y="9256"/>
                  <a:pt x="4989" y="9329"/>
                  <a:pt x="5035" y="9376"/>
                </a:cubicBezTo>
              </a:path>
              <a:path w="4615" h="2059">
                <a:moveTo>
                  <a:pt x="5407" y="9376"/>
                </a:moveTo>
                <a:cubicBezTo>
                  <a:pt x="5407" y="9516"/>
                  <a:pt x="5398" y="9634"/>
                  <a:pt x="5383" y="9773"/>
                </a:cubicBezTo>
              </a:path>
              <a:path w="4615" h="2059">
                <a:moveTo>
                  <a:pt x="5829" y="8706"/>
                </a:moveTo>
                <a:cubicBezTo>
                  <a:pt x="5944" y="8649"/>
                  <a:pt x="6020" y="8657"/>
                  <a:pt x="6152" y="8657"/>
                </a:cubicBezTo>
                <a:cubicBezTo>
                  <a:pt x="6261" y="8657"/>
                  <a:pt x="6362" y="8632"/>
                  <a:pt x="6474" y="8632"/>
                </a:cubicBezTo>
              </a:path>
              <a:path w="4615" h="2059">
                <a:moveTo>
                  <a:pt x="6697" y="8161"/>
                </a:moveTo>
                <a:cubicBezTo>
                  <a:pt x="6806" y="8088"/>
                  <a:pt x="6882" y="8037"/>
                  <a:pt x="7020" y="8062"/>
                </a:cubicBezTo>
                <a:cubicBezTo>
                  <a:pt x="7120" y="8080"/>
                  <a:pt x="7274" y="8164"/>
                  <a:pt x="7268" y="8285"/>
                </a:cubicBezTo>
                <a:cubicBezTo>
                  <a:pt x="7261" y="8415"/>
                  <a:pt x="7150" y="8417"/>
                  <a:pt x="7069" y="8483"/>
                </a:cubicBezTo>
                <a:cubicBezTo>
                  <a:pt x="6974" y="8561"/>
                  <a:pt x="6891" y="8661"/>
                  <a:pt x="6796" y="8706"/>
                </a:cubicBezTo>
                <a:cubicBezTo>
                  <a:pt x="6730" y="8737"/>
                  <a:pt x="6712" y="8724"/>
                  <a:pt x="6648" y="8781"/>
                </a:cubicBezTo>
                <a:cubicBezTo>
                  <a:pt x="6760" y="8696"/>
                  <a:pt x="6760" y="8753"/>
                  <a:pt x="6871" y="8781"/>
                </a:cubicBezTo>
                <a:cubicBezTo>
                  <a:pt x="6990" y="8811"/>
                  <a:pt x="7089" y="8807"/>
                  <a:pt x="7169" y="8930"/>
                </a:cubicBezTo>
                <a:cubicBezTo>
                  <a:pt x="7209" y="8992"/>
                  <a:pt x="7205" y="9114"/>
                  <a:pt x="7169" y="9178"/>
                </a:cubicBezTo>
                <a:cubicBezTo>
                  <a:pt x="7126" y="9255"/>
                  <a:pt x="6973" y="9299"/>
                  <a:pt x="6896" y="9302"/>
                </a:cubicBezTo>
                <a:cubicBezTo>
                  <a:pt x="6806" y="9305"/>
                  <a:pt x="6714" y="9302"/>
                  <a:pt x="6623" y="9302"/>
                </a:cubicBezTo>
              </a:path>
              <a:path w="4615" h="2059">
                <a:moveTo>
                  <a:pt x="7615" y="9302"/>
                </a:moveTo>
                <a:cubicBezTo>
                  <a:pt x="7575" y="9469"/>
                  <a:pt x="7512" y="9527"/>
                  <a:pt x="7441" y="9674"/>
                </a:cubicBezTo>
                <a:cubicBezTo>
                  <a:pt x="7413" y="9732"/>
                  <a:pt x="7417" y="9764"/>
                  <a:pt x="7417" y="9823"/>
                </a:cubicBezTo>
              </a:path>
              <a:path w="4615" h="2059">
                <a:moveTo>
                  <a:pt x="8260" y="8210"/>
                </a:moveTo>
                <a:cubicBezTo>
                  <a:pt x="8444" y="8106"/>
                  <a:pt x="8524" y="8076"/>
                  <a:pt x="8731" y="8111"/>
                </a:cubicBezTo>
                <a:cubicBezTo>
                  <a:pt x="8842" y="8130"/>
                  <a:pt x="8923" y="8189"/>
                  <a:pt x="9004" y="8260"/>
                </a:cubicBezTo>
                <a:cubicBezTo>
                  <a:pt x="8981" y="8361"/>
                  <a:pt x="8940" y="8375"/>
                  <a:pt x="8830" y="8409"/>
                </a:cubicBezTo>
                <a:cubicBezTo>
                  <a:pt x="8742" y="8436"/>
                  <a:pt x="8662" y="8492"/>
                  <a:pt x="8582" y="8508"/>
                </a:cubicBezTo>
                <a:cubicBezTo>
                  <a:pt x="8527" y="8519"/>
                  <a:pt x="8520" y="8530"/>
                  <a:pt x="8483" y="8558"/>
                </a:cubicBezTo>
                <a:cubicBezTo>
                  <a:pt x="8546" y="8604"/>
                  <a:pt x="8637" y="8687"/>
                  <a:pt x="8706" y="8706"/>
                </a:cubicBezTo>
                <a:cubicBezTo>
                  <a:pt x="8851" y="8746"/>
                  <a:pt x="8974" y="8796"/>
                  <a:pt x="9079" y="8930"/>
                </a:cubicBezTo>
                <a:cubicBezTo>
                  <a:pt x="9235" y="9129"/>
                  <a:pt x="9182" y="9184"/>
                  <a:pt x="9029" y="9302"/>
                </a:cubicBezTo>
                <a:cubicBezTo>
                  <a:pt x="8884" y="9414"/>
                  <a:pt x="8647" y="9410"/>
                  <a:pt x="8458" y="9376"/>
                </a:cubicBezTo>
                <a:cubicBezTo>
                  <a:pt x="8288" y="9345"/>
                  <a:pt x="8164" y="9309"/>
                  <a:pt x="7987" y="9302"/>
                </a:cubicBezTo>
              </a:path>
              <a:path w="4615" h="2059">
                <a:moveTo>
                  <a:pt x="4911" y="8062"/>
                </a:moveTo>
                <a:cubicBezTo>
                  <a:pt x="4865" y="8256"/>
                  <a:pt x="4835" y="8434"/>
                  <a:pt x="4812" y="8632"/>
                </a:cubicBezTo>
                <a:cubicBezTo>
                  <a:pt x="4782" y="8887"/>
                  <a:pt x="4728" y="9145"/>
                  <a:pt x="4713" y="9401"/>
                </a:cubicBezTo>
                <a:cubicBezTo>
                  <a:pt x="4702" y="9590"/>
                  <a:pt x="4696" y="9786"/>
                  <a:pt x="4663" y="9971"/>
                </a:cubicBezTo>
                <a:cubicBezTo>
                  <a:pt x="4652" y="10033"/>
                  <a:pt x="4599" y="10194"/>
                  <a:pt x="4564" y="10046"/>
                </a:cubicBezTo>
                <a:cubicBezTo>
                  <a:pt x="4564" y="10029"/>
                  <a:pt x="4564" y="10013"/>
                  <a:pt x="4564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419040" y="2081160"/>
            <a:ext cx="1706760" cy="34920"/>
          </a:xfrm>
          <a:custGeom>
            <a:avLst/>
            <a:gdLst/>
            <a:ahLst/>
            <a:rect l="l" t="t" r="r" b="b"/>
            <a:pathLst>
              <a:path w="4739" h="101">
                <a:moveTo>
                  <a:pt x="1166" y="5854"/>
                </a:moveTo>
                <a:cubicBezTo>
                  <a:pt x="1220" y="5867"/>
                  <a:pt x="1271" y="5888"/>
                  <a:pt x="1339" y="5879"/>
                </a:cubicBezTo>
                <a:cubicBezTo>
                  <a:pt x="1438" y="5866"/>
                  <a:pt x="1536" y="5865"/>
                  <a:pt x="1637" y="5854"/>
                </a:cubicBezTo>
                <a:cubicBezTo>
                  <a:pt x="1709" y="5846"/>
                  <a:pt x="1781" y="5829"/>
                  <a:pt x="1860" y="5829"/>
                </a:cubicBezTo>
                <a:cubicBezTo>
                  <a:pt x="1987" y="5829"/>
                  <a:pt x="2110" y="5813"/>
                  <a:pt x="2232" y="5804"/>
                </a:cubicBezTo>
                <a:cubicBezTo>
                  <a:pt x="2538" y="5781"/>
                  <a:pt x="2848" y="5812"/>
                  <a:pt x="3150" y="5779"/>
                </a:cubicBezTo>
                <a:cubicBezTo>
                  <a:pt x="3694" y="5720"/>
                  <a:pt x="4323" y="5751"/>
                  <a:pt x="4862" y="5804"/>
                </a:cubicBezTo>
                <a:cubicBezTo>
                  <a:pt x="5051" y="5822"/>
                  <a:pt x="5245" y="5808"/>
                  <a:pt x="5432" y="5829"/>
                </a:cubicBezTo>
                <a:cubicBezTo>
                  <a:pt x="5585" y="5846"/>
                  <a:pt x="5749" y="5829"/>
                  <a:pt x="5904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1625760" y="2724120"/>
            <a:ext cx="2214360" cy="1089000"/>
          </a:xfrm>
          <a:custGeom>
            <a:avLst/>
            <a:gdLst/>
            <a:ahLst/>
            <a:rect l="l" t="t" r="r" b="b"/>
            <a:pathLst>
              <a:path w="6153" h="3028">
                <a:moveTo>
                  <a:pt x="4713" y="7863"/>
                </a:moveTo>
                <a:cubicBezTo>
                  <a:pt x="4876" y="7841"/>
                  <a:pt x="5044" y="7799"/>
                  <a:pt x="5209" y="7789"/>
                </a:cubicBezTo>
                <a:cubicBezTo>
                  <a:pt x="5490" y="7771"/>
                  <a:pt x="5768" y="7740"/>
                  <a:pt x="6052" y="7714"/>
                </a:cubicBezTo>
                <a:cubicBezTo>
                  <a:pt x="6648" y="7660"/>
                  <a:pt x="7239" y="7613"/>
                  <a:pt x="7838" y="7590"/>
                </a:cubicBezTo>
                <a:cubicBezTo>
                  <a:pt x="8293" y="7573"/>
                  <a:pt x="8749" y="7582"/>
                  <a:pt x="9203" y="7565"/>
                </a:cubicBezTo>
                <a:cubicBezTo>
                  <a:pt x="9403" y="7557"/>
                  <a:pt x="9965" y="7464"/>
                  <a:pt x="10145" y="7590"/>
                </a:cubicBezTo>
                <a:cubicBezTo>
                  <a:pt x="10217" y="7640"/>
                  <a:pt x="10179" y="7691"/>
                  <a:pt x="10195" y="7764"/>
                </a:cubicBezTo>
                <a:cubicBezTo>
                  <a:pt x="10219" y="7871"/>
                  <a:pt x="10209" y="8001"/>
                  <a:pt x="10220" y="8111"/>
                </a:cubicBezTo>
                <a:cubicBezTo>
                  <a:pt x="10241" y="8315"/>
                  <a:pt x="10267" y="8530"/>
                  <a:pt x="10319" y="8731"/>
                </a:cubicBezTo>
                <a:cubicBezTo>
                  <a:pt x="10368" y="8920"/>
                  <a:pt x="10418" y="9120"/>
                  <a:pt x="10492" y="9302"/>
                </a:cubicBezTo>
                <a:cubicBezTo>
                  <a:pt x="10561" y="9472"/>
                  <a:pt x="10639" y="9638"/>
                  <a:pt x="10666" y="9823"/>
                </a:cubicBezTo>
                <a:cubicBezTo>
                  <a:pt x="10675" y="9883"/>
                  <a:pt x="10684" y="9994"/>
                  <a:pt x="10641" y="10046"/>
                </a:cubicBezTo>
                <a:cubicBezTo>
                  <a:pt x="10619" y="10073"/>
                  <a:pt x="10453" y="10114"/>
                  <a:pt x="10418" y="10120"/>
                </a:cubicBezTo>
                <a:cubicBezTo>
                  <a:pt x="10282" y="10142"/>
                  <a:pt x="10132" y="10118"/>
                  <a:pt x="9996" y="10145"/>
                </a:cubicBezTo>
                <a:cubicBezTo>
                  <a:pt x="9691" y="10205"/>
                  <a:pt x="9326" y="10163"/>
                  <a:pt x="9004" y="10145"/>
                </a:cubicBezTo>
                <a:cubicBezTo>
                  <a:pt x="8590" y="10121"/>
                  <a:pt x="8179" y="10120"/>
                  <a:pt x="7764" y="10120"/>
                </a:cubicBezTo>
                <a:cubicBezTo>
                  <a:pt x="7056" y="10120"/>
                  <a:pt x="6402" y="10163"/>
                  <a:pt x="5705" y="10294"/>
                </a:cubicBezTo>
                <a:cubicBezTo>
                  <a:pt x="5298" y="10371"/>
                  <a:pt x="4922" y="10522"/>
                  <a:pt x="4514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49x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Ink 3"/>
          <p:cNvSpPr/>
          <p:nvPr/>
        </p:nvSpPr>
        <p:spPr>
          <a:xfrm>
            <a:off x="3741840" y="892080"/>
            <a:ext cx="1884240" cy="509760"/>
          </a:xfrm>
          <a:custGeom>
            <a:avLst/>
            <a:gdLst/>
            <a:ahLst/>
            <a:rect l="l" t="t" r="r" b="b"/>
            <a:pathLst>
              <a:path w="5235" h="1415">
                <a:moveTo>
                  <a:pt x="10393" y="3200"/>
                </a:moveTo>
                <a:cubicBezTo>
                  <a:pt x="10483" y="3200"/>
                  <a:pt x="10557" y="3189"/>
                  <a:pt x="10641" y="3175"/>
                </a:cubicBezTo>
                <a:cubicBezTo>
                  <a:pt x="10687" y="3167"/>
                  <a:pt x="10743" y="3175"/>
                  <a:pt x="10790" y="3175"/>
                </a:cubicBezTo>
              </a:path>
              <a:path w="5235" h="1415">
                <a:moveTo>
                  <a:pt x="10418" y="3373"/>
                </a:moveTo>
                <a:cubicBezTo>
                  <a:pt x="10499" y="3373"/>
                  <a:pt x="10562" y="3356"/>
                  <a:pt x="10641" y="3349"/>
                </a:cubicBezTo>
              </a:path>
              <a:path w="5235" h="1415">
                <a:moveTo>
                  <a:pt x="11237" y="3051"/>
                </a:moveTo>
                <a:cubicBezTo>
                  <a:pt x="11269" y="3125"/>
                  <a:pt x="11287" y="3202"/>
                  <a:pt x="11311" y="3274"/>
                </a:cubicBezTo>
                <a:cubicBezTo>
                  <a:pt x="11335" y="3344"/>
                  <a:pt x="11410" y="3420"/>
                  <a:pt x="11460" y="3473"/>
                </a:cubicBezTo>
                <a:cubicBezTo>
                  <a:pt x="11514" y="3530"/>
                  <a:pt x="11552" y="3570"/>
                  <a:pt x="11609" y="3621"/>
                </a:cubicBezTo>
                <a:cubicBezTo>
                  <a:pt x="11637" y="3650"/>
                  <a:pt x="11650" y="3658"/>
                  <a:pt x="11683" y="3646"/>
                </a:cubicBezTo>
              </a:path>
              <a:path w="5235" h="1415">
                <a:moveTo>
                  <a:pt x="11708" y="2952"/>
                </a:moveTo>
                <a:cubicBezTo>
                  <a:pt x="11663" y="3042"/>
                  <a:pt x="11634" y="3138"/>
                  <a:pt x="11584" y="3225"/>
                </a:cubicBezTo>
                <a:cubicBezTo>
                  <a:pt x="11517" y="3344"/>
                  <a:pt x="11443" y="3424"/>
                  <a:pt x="11361" y="3522"/>
                </a:cubicBezTo>
                <a:cubicBezTo>
                  <a:pt x="11320" y="3571"/>
                  <a:pt x="11284" y="3624"/>
                  <a:pt x="11237" y="3671"/>
                </a:cubicBezTo>
                <a:cubicBezTo>
                  <a:pt x="11214" y="3694"/>
                  <a:pt x="11210" y="3702"/>
                  <a:pt x="11187" y="3696"/>
                </a:cubicBezTo>
              </a:path>
              <a:path w="5235" h="1415">
                <a:moveTo>
                  <a:pt x="12427" y="2679"/>
                </a:moveTo>
                <a:cubicBezTo>
                  <a:pt x="12345" y="2784"/>
                  <a:pt x="12248" y="2886"/>
                  <a:pt x="12179" y="3001"/>
                </a:cubicBezTo>
                <a:cubicBezTo>
                  <a:pt x="12099" y="3133"/>
                  <a:pt x="12058" y="3254"/>
                  <a:pt x="12030" y="3398"/>
                </a:cubicBezTo>
                <a:cubicBezTo>
                  <a:pt x="12009" y="3507"/>
                  <a:pt x="12018" y="3643"/>
                  <a:pt x="12080" y="3746"/>
                </a:cubicBezTo>
                <a:cubicBezTo>
                  <a:pt x="12150" y="3816"/>
                  <a:pt x="12190" y="3851"/>
                  <a:pt x="12254" y="3894"/>
                </a:cubicBezTo>
              </a:path>
              <a:path w="5235" h="1415">
                <a:moveTo>
                  <a:pt x="12526" y="2927"/>
                </a:moveTo>
                <a:cubicBezTo>
                  <a:pt x="12571" y="3016"/>
                  <a:pt x="12597" y="3100"/>
                  <a:pt x="12626" y="3200"/>
                </a:cubicBezTo>
                <a:cubicBezTo>
                  <a:pt x="12658" y="3311"/>
                  <a:pt x="12706" y="3413"/>
                  <a:pt x="12750" y="3522"/>
                </a:cubicBezTo>
                <a:cubicBezTo>
                  <a:pt x="12763" y="3554"/>
                  <a:pt x="12837" y="3746"/>
                  <a:pt x="12874" y="3746"/>
                </a:cubicBezTo>
                <a:cubicBezTo>
                  <a:pt x="12882" y="3738"/>
                  <a:pt x="12890" y="3729"/>
                  <a:pt x="12898" y="3721"/>
                </a:cubicBezTo>
              </a:path>
              <a:path w="5235" h="1415">
                <a:moveTo>
                  <a:pt x="12923" y="2877"/>
                </a:moveTo>
                <a:cubicBezTo>
                  <a:pt x="12858" y="2952"/>
                  <a:pt x="12821" y="3037"/>
                  <a:pt x="12774" y="3125"/>
                </a:cubicBezTo>
                <a:cubicBezTo>
                  <a:pt x="12710" y="3247"/>
                  <a:pt x="12660" y="3373"/>
                  <a:pt x="12601" y="3497"/>
                </a:cubicBezTo>
                <a:cubicBezTo>
                  <a:pt x="12590" y="3520"/>
                  <a:pt x="12487" y="3700"/>
                  <a:pt x="12477" y="3696"/>
                </a:cubicBezTo>
                <a:cubicBezTo>
                  <a:pt x="12477" y="3679"/>
                  <a:pt x="12477" y="3663"/>
                  <a:pt x="12477" y="3646"/>
                </a:cubicBezTo>
              </a:path>
              <a:path w="5235" h="1415">
                <a:moveTo>
                  <a:pt x="13221" y="2555"/>
                </a:moveTo>
                <a:cubicBezTo>
                  <a:pt x="13311" y="2505"/>
                  <a:pt x="13351" y="2481"/>
                  <a:pt x="13444" y="2505"/>
                </a:cubicBezTo>
                <a:cubicBezTo>
                  <a:pt x="13435" y="2608"/>
                  <a:pt x="13416" y="2674"/>
                  <a:pt x="13345" y="2753"/>
                </a:cubicBezTo>
                <a:cubicBezTo>
                  <a:pt x="13300" y="2804"/>
                  <a:pt x="13244" y="2830"/>
                  <a:pt x="13196" y="2877"/>
                </a:cubicBezTo>
                <a:cubicBezTo>
                  <a:pt x="13188" y="2885"/>
                  <a:pt x="13179" y="2894"/>
                  <a:pt x="13171" y="2902"/>
                </a:cubicBezTo>
                <a:cubicBezTo>
                  <a:pt x="13252" y="2951"/>
                  <a:pt x="13349" y="2911"/>
                  <a:pt x="13444" y="2927"/>
                </a:cubicBezTo>
                <a:cubicBezTo>
                  <a:pt x="13469" y="2935"/>
                  <a:pt x="13494" y="2944"/>
                  <a:pt x="13519" y="2952"/>
                </a:cubicBezTo>
              </a:path>
              <a:path w="5235" h="1415">
                <a:moveTo>
                  <a:pt x="13419" y="3274"/>
                </a:moveTo>
                <a:cubicBezTo>
                  <a:pt x="13507" y="3274"/>
                  <a:pt x="13581" y="3253"/>
                  <a:pt x="13667" y="3249"/>
                </a:cubicBezTo>
                <a:cubicBezTo>
                  <a:pt x="13745" y="3246"/>
                  <a:pt x="13813" y="3231"/>
                  <a:pt x="13891" y="3225"/>
                </a:cubicBezTo>
              </a:path>
              <a:path w="5235" h="1415">
                <a:moveTo>
                  <a:pt x="14461" y="2828"/>
                </a:moveTo>
                <a:cubicBezTo>
                  <a:pt x="14423" y="2899"/>
                  <a:pt x="14390" y="2967"/>
                  <a:pt x="14337" y="3026"/>
                </a:cubicBezTo>
                <a:cubicBezTo>
                  <a:pt x="14294" y="3073"/>
                  <a:pt x="14266" y="3091"/>
                  <a:pt x="14312" y="3150"/>
                </a:cubicBezTo>
                <a:cubicBezTo>
                  <a:pt x="14348" y="3196"/>
                  <a:pt x="14432" y="3175"/>
                  <a:pt x="14486" y="3175"/>
                </a:cubicBezTo>
                <a:cubicBezTo>
                  <a:pt x="14569" y="3175"/>
                  <a:pt x="14654" y="3147"/>
                  <a:pt x="14734" y="3125"/>
                </a:cubicBezTo>
              </a:path>
              <a:path w="5235" h="1415">
                <a:moveTo>
                  <a:pt x="14808" y="2604"/>
                </a:moveTo>
                <a:cubicBezTo>
                  <a:pt x="14749" y="2743"/>
                  <a:pt x="14760" y="2846"/>
                  <a:pt x="14734" y="3001"/>
                </a:cubicBezTo>
                <a:cubicBezTo>
                  <a:pt x="14713" y="3129"/>
                  <a:pt x="14710" y="3251"/>
                  <a:pt x="14660" y="3373"/>
                </a:cubicBezTo>
                <a:cubicBezTo>
                  <a:pt x="14643" y="3415"/>
                  <a:pt x="14578" y="3538"/>
                  <a:pt x="14585" y="3572"/>
                </a:cubicBezTo>
                <a:cubicBezTo>
                  <a:pt x="14610" y="3597"/>
                  <a:pt x="14618" y="3605"/>
                  <a:pt x="14635" y="3572"/>
                </a:cubicBezTo>
              </a:path>
              <a:path w="5235" h="1415">
                <a:moveTo>
                  <a:pt x="15602" y="2753"/>
                </a:moveTo>
                <a:cubicBezTo>
                  <a:pt x="15614" y="2673"/>
                  <a:pt x="15636" y="2587"/>
                  <a:pt x="15528" y="2555"/>
                </a:cubicBezTo>
                <a:cubicBezTo>
                  <a:pt x="15417" y="2522"/>
                  <a:pt x="15269" y="2568"/>
                  <a:pt x="15180" y="2629"/>
                </a:cubicBezTo>
                <a:cubicBezTo>
                  <a:pt x="15128" y="2665"/>
                  <a:pt x="15021" y="2764"/>
                  <a:pt x="15007" y="2828"/>
                </a:cubicBezTo>
                <a:cubicBezTo>
                  <a:pt x="14990" y="2904"/>
                  <a:pt x="15012" y="2967"/>
                  <a:pt x="15056" y="3026"/>
                </a:cubicBezTo>
                <a:cubicBezTo>
                  <a:pt x="15096" y="3080"/>
                  <a:pt x="15206" y="3056"/>
                  <a:pt x="15255" y="3026"/>
                </a:cubicBezTo>
                <a:cubicBezTo>
                  <a:pt x="15315" y="2989"/>
                  <a:pt x="15364" y="2936"/>
                  <a:pt x="15404" y="2877"/>
                </a:cubicBezTo>
                <a:cubicBezTo>
                  <a:pt x="15430" y="2838"/>
                  <a:pt x="15492" y="2745"/>
                  <a:pt x="15503" y="2704"/>
                </a:cubicBezTo>
                <a:cubicBezTo>
                  <a:pt x="15503" y="2687"/>
                  <a:pt x="15503" y="2671"/>
                  <a:pt x="15503" y="2654"/>
                </a:cubicBezTo>
                <a:cubicBezTo>
                  <a:pt x="15503" y="2774"/>
                  <a:pt x="15469" y="2860"/>
                  <a:pt x="15453" y="2977"/>
                </a:cubicBezTo>
                <a:cubicBezTo>
                  <a:pt x="15439" y="3084"/>
                  <a:pt x="15419" y="3193"/>
                  <a:pt x="15404" y="3299"/>
                </a:cubicBezTo>
                <a:cubicBezTo>
                  <a:pt x="15396" y="3360"/>
                  <a:pt x="15441" y="3542"/>
                  <a:pt x="15429" y="3572"/>
                </a:cubicBezTo>
                <a:cubicBezTo>
                  <a:pt x="15421" y="3572"/>
                  <a:pt x="15412" y="3572"/>
                  <a:pt x="15404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5946840" y="874800"/>
            <a:ext cx="152280" cy="411120"/>
          </a:xfrm>
          <a:custGeom>
            <a:avLst/>
            <a:gdLst/>
            <a:ahLst/>
            <a:rect l="l" t="t" r="r" b="b"/>
            <a:pathLst>
              <a:path w="423" h="1142">
                <a:moveTo>
                  <a:pt x="16520" y="2456"/>
                </a:moveTo>
                <a:cubicBezTo>
                  <a:pt x="16580" y="2432"/>
                  <a:pt x="16658" y="2457"/>
                  <a:pt x="16694" y="2530"/>
                </a:cubicBezTo>
                <a:cubicBezTo>
                  <a:pt x="16749" y="2640"/>
                  <a:pt x="16805" y="2758"/>
                  <a:pt x="16842" y="2877"/>
                </a:cubicBezTo>
                <a:cubicBezTo>
                  <a:pt x="16892" y="3037"/>
                  <a:pt x="16931" y="3194"/>
                  <a:pt x="16917" y="3349"/>
                </a:cubicBezTo>
                <a:cubicBezTo>
                  <a:pt x="16909" y="3436"/>
                  <a:pt x="16878" y="3485"/>
                  <a:pt x="16793" y="3522"/>
                </a:cubicBezTo>
                <a:cubicBezTo>
                  <a:pt x="16718" y="3547"/>
                  <a:pt x="16694" y="3555"/>
                  <a:pt x="16644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3044880" y="1643040"/>
            <a:ext cx="679320" cy="384120"/>
          </a:xfrm>
          <a:custGeom>
            <a:avLst/>
            <a:gdLst/>
            <a:ahLst/>
            <a:rect l="l" t="t" r="r" b="b"/>
            <a:pathLst>
              <a:path w="1887" h="1068">
                <a:moveTo>
                  <a:pt x="8458" y="4713"/>
                </a:moveTo>
                <a:cubicBezTo>
                  <a:pt x="8499" y="4802"/>
                  <a:pt x="8535" y="4899"/>
                  <a:pt x="8582" y="4986"/>
                </a:cubicBezTo>
                <a:cubicBezTo>
                  <a:pt x="8652" y="5115"/>
                  <a:pt x="8751" y="5340"/>
                  <a:pt x="8855" y="5457"/>
                </a:cubicBezTo>
                <a:cubicBezTo>
                  <a:pt x="8882" y="5488"/>
                  <a:pt x="8944" y="5615"/>
                  <a:pt x="9004" y="5581"/>
                </a:cubicBezTo>
                <a:cubicBezTo>
                  <a:pt x="9004" y="5573"/>
                  <a:pt x="9004" y="5564"/>
                  <a:pt x="9004" y="5556"/>
                </a:cubicBezTo>
              </a:path>
              <a:path w="1887" h="1068">
                <a:moveTo>
                  <a:pt x="8905" y="4564"/>
                </a:moveTo>
                <a:cubicBezTo>
                  <a:pt x="8873" y="4684"/>
                  <a:pt x="8833" y="4798"/>
                  <a:pt x="8781" y="4911"/>
                </a:cubicBezTo>
                <a:cubicBezTo>
                  <a:pt x="8725" y="5034"/>
                  <a:pt x="8652" y="5159"/>
                  <a:pt x="8607" y="5283"/>
                </a:cubicBezTo>
                <a:cubicBezTo>
                  <a:pt x="8574" y="5374"/>
                  <a:pt x="8507" y="5471"/>
                  <a:pt x="8483" y="5556"/>
                </a:cubicBezTo>
                <a:cubicBezTo>
                  <a:pt x="8472" y="5595"/>
                  <a:pt x="8438" y="5651"/>
                  <a:pt x="8483" y="5606"/>
                </a:cubicBezTo>
              </a:path>
              <a:path w="1887" h="1068">
                <a:moveTo>
                  <a:pt x="9054" y="5035"/>
                </a:moveTo>
                <a:cubicBezTo>
                  <a:pt x="9148" y="5035"/>
                  <a:pt x="9249" y="5021"/>
                  <a:pt x="9327" y="5060"/>
                </a:cubicBezTo>
              </a:path>
              <a:path w="1887" h="1068">
                <a:moveTo>
                  <a:pt x="9004" y="5259"/>
                </a:moveTo>
                <a:cubicBezTo>
                  <a:pt x="9081" y="5324"/>
                  <a:pt x="9166" y="5307"/>
                  <a:pt x="9277" y="5283"/>
                </a:cubicBezTo>
                <a:cubicBezTo>
                  <a:pt x="9302" y="5275"/>
                  <a:pt x="9326" y="5267"/>
                  <a:pt x="9351" y="5259"/>
                </a:cubicBezTo>
              </a:path>
              <a:path w="1887" h="1068">
                <a:moveTo>
                  <a:pt x="9922" y="4837"/>
                </a:moveTo>
                <a:cubicBezTo>
                  <a:pt x="9846" y="4913"/>
                  <a:pt x="9808" y="4958"/>
                  <a:pt x="9773" y="5060"/>
                </a:cubicBezTo>
                <a:cubicBezTo>
                  <a:pt x="9738" y="5161"/>
                  <a:pt x="9703" y="5252"/>
                  <a:pt x="9699" y="5358"/>
                </a:cubicBezTo>
                <a:cubicBezTo>
                  <a:pt x="9696" y="5429"/>
                  <a:pt x="9709" y="5490"/>
                  <a:pt x="9773" y="5531"/>
                </a:cubicBezTo>
                <a:cubicBezTo>
                  <a:pt x="9858" y="5585"/>
                  <a:pt x="9986" y="5548"/>
                  <a:pt x="10071" y="5507"/>
                </a:cubicBezTo>
                <a:cubicBezTo>
                  <a:pt x="10183" y="5453"/>
                  <a:pt x="10236" y="5356"/>
                  <a:pt x="10294" y="5259"/>
                </a:cubicBezTo>
                <a:cubicBezTo>
                  <a:pt x="10341" y="5180"/>
                  <a:pt x="10370" y="5083"/>
                  <a:pt x="10344" y="4986"/>
                </a:cubicBezTo>
                <a:cubicBezTo>
                  <a:pt x="10323" y="4907"/>
                  <a:pt x="10239" y="4864"/>
                  <a:pt x="10170" y="4837"/>
                </a:cubicBezTo>
                <a:cubicBezTo>
                  <a:pt x="10139" y="4825"/>
                  <a:pt x="10004" y="4748"/>
                  <a:pt x="9971" y="4762"/>
                </a:cubicBezTo>
                <a:cubicBezTo>
                  <a:pt x="9963" y="4770"/>
                  <a:pt x="9955" y="4779"/>
                  <a:pt x="9947" y="47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4295880" y="1581120"/>
            <a:ext cx="1625400" cy="768240"/>
          </a:xfrm>
          <a:custGeom>
            <a:avLst/>
            <a:gdLst/>
            <a:ahLst/>
            <a:rect l="l" t="t" r="r" b="b"/>
            <a:pathLst>
              <a:path w="4516" h="2135">
                <a:moveTo>
                  <a:pt x="11981" y="4862"/>
                </a:moveTo>
                <a:cubicBezTo>
                  <a:pt x="12020" y="4971"/>
                  <a:pt x="12069" y="5073"/>
                  <a:pt x="12105" y="5184"/>
                </a:cubicBezTo>
                <a:cubicBezTo>
                  <a:pt x="12140" y="5291"/>
                  <a:pt x="12201" y="5376"/>
                  <a:pt x="12278" y="5457"/>
                </a:cubicBezTo>
                <a:cubicBezTo>
                  <a:pt x="12339" y="5521"/>
                  <a:pt x="12399" y="5611"/>
                  <a:pt x="12502" y="5606"/>
                </a:cubicBezTo>
                <a:cubicBezTo>
                  <a:pt x="12541" y="5604"/>
                  <a:pt x="12576" y="5556"/>
                  <a:pt x="12601" y="5531"/>
                </a:cubicBezTo>
              </a:path>
              <a:path w="4516" h="2135">
                <a:moveTo>
                  <a:pt x="12477" y="4787"/>
                </a:moveTo>
                <a:cubicBezTo>
                  <a:pt x="12370" y="5001"/>
                  <a:pt x="12276" y="5216"/>
                  <a:pt x="12129" y="5407"/>
                </a:cubicBezTo>
                <a:cubicBezTo>
                  <a:pt x="12075" y="5477"/>
                  <a:pt x="12019" y="5524"/>
                  <a:pt x="11956" y="5581"/>
                </a:cubicBezTo>
                <a:cubicBezTo>
                  <a:pt x="11891" y="5640"/>
                  <a:pt x="11972" y="5547"/>
                  <a:pt x="11981" y="5531"/>
                </a:cubicBezTo>
              </a:path>
              <a:path w="4516" h="2135">
                <a:moveTo>
                  <a:pt x="12700" y="4440"/>
                </a:moveTo>
                <a:cubicBezTo>
                  <a:pt x="12817" y="4401"/>
                  <a:pt x="12836" y="4369"/>
                  <a:pt x="12898" y="4415"/>
                </a:cubicBezTo>
                <a:cubicBezTo>
                  <a:pt x="12889" y="4493"/>
                  <a:pt x="12867" y="4562"/>
                  <a:pt x="12799" y="4614"/>
                </a:cubicBezTo>
                <a:cubicBezTo>
                  <a:pt x="12748" y="4653"/>
                  <a:pt x="12697" y="4666"/>
                  <a:pt x="12650" y="4713"/>
                </a:cubicBezTo>
                <a:cubicBezTo>
                  <a:pt x="12717" y="4753"/>
                  <a:pt x="12795" y="4744"/>
                  <a:pt x="12874" y="4762"/>
                </a:cubicBezTo>
                <a:cubicBezTo>
                  <a:pt x="12948" y="4787"/>
                  <a:pt x="12973" y="4795"/>
                  <a:pt x="13022" y="4812"/>
                </a:cubicBezTo>
              </a:path>
              <a:path w="4516" h="2135">
                <a:moveTo>
                  <a:pt x="12923" y="5135"/>
                </a:moveTo>
                <a:cubicBezTo>
                  <a:pt x="13007" y="5124"/>
                  <a:pt x="13086" y="5104"/>
                  <a:pt x="13171" y="5085"/>
                </a:cubicBezTo>
                <a:cubicBezTo>
                  <a:pt x="13212" y="5077"/>
                  <a:pt x="13254" y="5068"/>
                  <a:pt x="13295" y="5060"/>
                </a:cubicBezTo>
              </a:path>
              <a:path w="4516" h="2135">
                <a:moveTo>
                  <a:pt x="13618" y="4738"/>
                </a:moveTo>
                <a:cubicBezTo>
                  <a:pt x="13575" y="4822"/>
                  <a:pt x="13547" y="4902"/>
                  <a:pt x="13519" y="4986"/>
                </a:cubicBezTo>
                <a:cubicBezTo>
                  <a:pt x="13503" y="5035"/>
                  <a:pt x="13460" y="5136"/>
                  <a:pt x="13543" y="5159"/>
                </a:cubicBezTo>
                <a:cubicBezTo>
                  <a:pt x="13601" y="5175"/>
                  <a:pt x="13672" y="5159"/>
                  <a:pt x="13717" y="5135"/>
                </a:cubicBezTo>
                <a:cubicBezTo>
                  <a:pt x="13734" y="5127"/>
                  <a:pt x="13750" y="5118"/>
                  <a:pt x="13767" y="5110"/>
                </a:cubicBezTo>
              </a:path>
              <a:path w="4516" h="2135">
                <a:moveTo>
                  <a:pt x="13816" y="4638"/>
                </a:moveTo>
                <a:cubicBezTo>
                  <a:pt x="13781" y="4787"/>
                  <a:pt x="13755" y="4934"/>
                  <a:pt x="13742" y="5085"/>
                </a:cubicBezTo>
                <a:cubicBezTo>
                  <a:pt x="13733" y="5184"/>
                  <a:pt x="13732" y="5297"/>
                  <a:pt x="13717" y="5383"/>
                </a:cubicBezTo>
                <a:cubicBezTo>
                  <a:pt x="13717" y="5424"/>
                  <a:pt x="13709" y="5440"/>
                  <a:pt x="13742" y="5432"/>
                </a:cubicBezTo>
              </a:path>
              <a:path w="4516" h="2135">
                <a:moveTo>
                  <a:pt x="14387" y="4862"/>
                </a:moveTo>
                <a:cubicBezTo>
                  <a:pt x="14403" y="4829"/>
                  <a:pt x="14420" y="4795"/>
                  <a:pt x="14436" y="4762"/>
                </a:cubicBezTo>
              </a:path>
              <a:path w="4516" h="2135">
                <a:moveTo>
                  <a:pt x="14412" y="4663"/>
                </a:moveTo>
                <a:cubicBezTo>
                  <a:pt x="14257" y="4637"/>
                  <a:pt x="14149" y="4690"/>
                  <a:pt x="14039" y="4837"/>
                </a:cubicBezTo>
                <a:cubicBezTo>
                  <a:pt x="13967" y="4933"/>
                  <a:pt x="13971" y="4992"/>
                  <a:pt x="14039" y="5060"/>
                </a:cubicBezTo>
                <a:cubicBezTo>
                  <a:pt x="14082" y="5103"/>
                  <a:pt x="14145" y="5095"/>
                  <a:pt x="14188" y="5060"/>
                </a:cubicBezTo>
                <a:cubicBezTo>
                  <a:pt x="14251" y="5009"/>
                  <a:pt x="14274" y="4987"/>
                  <a:pt x="14312" y="4911"/>
                </a:cubicBezTo>
                <a:cubicBezTo>
                  <a:pt x="14349" y="4836"/>
                  <a:pt x="14362" y="4796"/>
                  <a:pt x="14362" y="4713"/>
                </a:cubicBezTo>
                <a:cubicBezTo>
                  <a:pt x="14391" y="4698"/>
                  <a:pt x="14376" y="4811"/>
                  <a:pt x="14362" y="4887"/>
                </a:cubicBezTo>
                <a:cubicBezTo>
                  <a:pt x="14342" y="4992"/>
                  <a:pt x="14318" y="5107"/>
                  <a:pt x="14288" y="5209"/>
                </a:cubicBezTo>
                <a:cubicBezTo>
                  <a:pt x="14267" y="5279"/>
                  <a:pt x="14242" y="5382"/>
                  <a:pt x="14263" y="5457"/>
                </a:cubicBezTo>
                <a:cubicBezTo>
                  <a:pt x="14288" y="5548"/>
                  <a:pt x="14303" y="5495"/>
                  <a:pt x="14312" y="5457"/>
                </a:cubicBezTo>
              </a:path>
              <a:path w="4516" h="2135">
                <a:moveTo>
                  <a:pt x="14585" y="4961"/>
                </a:moveTo>
                <a:cubicBezTo>
                  <a:pt x="14679" y="4961"/>
                  <a:pt x="14746" y="4941"/>
                  <a:pt x="14833" y="4936"/>
                </a:cubicBezTo>
                <a:cubicBezTo>
                  <a:pt x="14875" y="4936"/>
                  <a:pt x="14883" y="4936"/>
                  <a:pt x="14908" y="4936"/>
                </a:cubicBezTo>
              </a:path>
              <a:path w="4516" h="2135">
                <a:moveTo>
                  <a:pt x="14610" y="5159"/>
                </a:moveTo>
                <a:cubicBezTo>
                  <a:pt x="14686" y="5235"/>
                  <a:pt x="14739" y="5195"/>
                  <a:pt x="14833" y="5184"/>
                </a:cubicBezTo>
                <a:cubicBezTo>
                  <a:pt x="14858" y="5184"/>
                  <a:pt x="14883" y="5184"/>
                  <a:pt x="14908" y="5184"/>
                </a:cubicBezTo>
              </a:path>
              <a:path w="4516" h="2135">
                <a:moveTo>
                  <a:pt x="15354" y="4738"/>
                </a:moveTo>
                <a:cubicBezTo>
                  <a:pt x="15289" y="4877"/>
                  <a:pt x="15208" y="5029"/>
                  <a:pt x="15180" y="5184"/>
                </a:cubicBezTo>
                <a:cubicBezTo>
                  <a:pt x="15166" y="5262"/>
                  <a:pt x="15222" y="5323"/>
                  <a:pt x="15280" y="5358"/>
                </a:cubicBezTo>
                <a:cubicBezTo>
                  <a:pt x="15376" y="5415"/>
                  <a:pt x="15447" y="5415"/>
                  <a:pt x="15553" y="5383"/>
                </a:cubicBezTo>
                <a:cubicBezTo>
                  <a:pt x="15661" y="5350"/>
                  <a:pt x="15714" y="5274"/>
                  <a:pt x="15776" y="5184"/>
                </a:cubicBezTo>
                <a:cubicBezTo>
                  <a:pt x="15836" y="5097"/>
                  <a:pt x="15875" y="4996"/>
                  <a:pt x="15850" y="4887"/>
                </a:cubicBezTo>
                <a:cubicBezTo>
                  <a:pt x="15829" y="4797"/>
                  <a:pt x="15727" y="4742"/>
                  <a:pt x="15652" y="4713"/>
                </a:cubicBezTo>
                <a:cubicBezTo>
                  <a:pt x="15574" y="4683"/>
                  <a:pt x="15511" y="4688"/>
                  <a:pt x="15429" y="4688"/>
                </a:cubicBezTo>
              </a:path>
              <a:path w="4516" h="2135">
                <a:moveTo>
                  <a:pt x="13022" y="5829"/>
                </a:moveTo>
                <a:cubicBezTo>
                  <a:pt x="13022" y="5949"/>
                  <a:pt x="13003" y="6057"/>
                  <a:pt x="12998" y="6176"/>
                </a:cubicBezTo>
                <a:cubicBezTo>
                  <a:pt x="12995" y="6242"/>
                  <a:pt x="12985" y="6288"/>
                  <a:pt x="12973" y="6350"/>
                </a:cubicBezTo>
              </a:path>
              <a:path w="4516" h="2135">
                <a:moveTo>
                  <a:pt x="12700" y="6102"/>
                </a:moveTo>
                <a:cubicBezTo>
                  <a:pt x="12817" y="6110"/>
                  <a:pt x="12883" y="6115"/>
                  <a:pt x="12998" y="6102"/>
                </a:cubicBezTo>
                <a:cubicBezTo>
                  <a:pt x="13080" y="6102"/>
                  <a:pt x="13113" y="6102"/>
                  <a:pt x="13171" y="6102"/>
                </a:cubicBezTo>
              </a:path>
              <a:path w="4516" h="2135">
                <a:moveTo>
                  <a:pt x="13370" y="5928"/>
                </a:moveTo>
                <a:cubicBezTo>
                  <a:pt x="13258" y="6078"/>
                  <a:pt x="13281" y="6052"/>
                  <a:pt x="13221" y="6152"/>
                </a:cubicBezTo>
                <a:cubicBezTo>
                  <a:pt x="13274" y="6183"/>
                  <a:pt x="13353" y="6189"/>
                  <a:pt x="13419" y="6176"/>
                </a:cubicBezTo>
                <a:cubicBezTo>
                  <a:pt x="13482" y="6163"/>
                  <a:pt x="13535" y="6149"/>
                  <a:pt x="13593" y="6127"/>
                </a:cubicBezTo>
              </a:path>
              <a:path w="4516" h="2135">
                <a:moveTo>
                  <a:pt x="13618" y="5755"/>
                </a:moveTo>
                <a:cubicBezTo>
                  <a:pt x="13578" y="5915"/>
                  <a:pt x="13543" y="6040"/>
                  <a:pt x="13543" y="6201"/>
                </a:cubicBezTo>
                <a:cubicBezTo>
                  <a:pt x="13543" y="6286"/>
                  <a:pt x="13514" y="6488"/>
                  <a:pt x="13568" y="6524"/>
                </a:cubicBezTo>
              </a:path>
              <a:path w="4516" h="2135">
                <a:moveTo>
                  <a:pt x="14139" y="5779"/>
                </a:moveTo>
                <a:cubicBezTo>
                  <a:pt x="14090" y="5695"/>
                  <a:pt x="14052" y="5691"/>
                  <a:pt x="13965" y="5755"/>
                </a:cubicBezTo>
                <a:cubicBezTo>
                  <a:pt x="13869" y="5825"/>
                  <a:pt x="13826" y="5884"/>
                  <a:pt x="13767" y="5978"/>
                </a:cubicBezTo>
                <a:cubicBezTo>
                  <a:pt x="13743" y="6017"/>
                  <a:pt x="13769" y="6106"/>
                  <a:pt x="13841" y="6102"/>
                </a:cubicBezTo>
                <a:cubicBezTo>
                  <a:pt x="13893" y="6099"/>
                  <a:pt x="13972" y="6060"/>
                  <a:pt x="14015" y="6028"/>
                </a:cubicBezTo>
                <a:cubicBezTo>
                  <a:pt x="14072" y="5985"/>
                  <a:pt x="14113" y="5921"/>
                  <a:pt x="14139" y="5854"/>
                </a:cubicBezTo>
                <a:cubicBezTo>
                  <a:pt x="14147" y="5829"/>
                  <a:pt x="14155" y="5804"/>
                  <a:pt x="14163" y="5779"/>
                </a:cubicBezTo>
                <a:cubicBezTo>
                  <a:pt x="14131" y="5903"/>
                  <a:pt x="14116" y="6031"/>
                  <a:pt x="14089" y="6152"/>
                </a:cubicBezTo>
                <a:cubicBezTo>
                  <a:pt x="14072" y="6229"/>
                  <a:pt x="14043" y="6297"/>
                  <a:pt x="14039" y="6375"/>
                </a:cubicBezTo>
                <a:cubicBezTo>
                  <a:pt x="14039" y="6419"/>
                  <a:pt x="14036" y="6433"/>
                  <a:pt x="14064" y="6449"/>
                </a:cubicBezTo>
              </a:path>
              <a:path w="4516" h="2135">
                <a:moveTo>
                  <a:pt x="15180" y="5655"/>
                </a:moveTo>
                <a:cubicBezTo>
                  <a:pt x="15180" y="5776"/>
                  <a:pt x="15168" y="5886"/>
                  <a:pt x="15156" y="6003"/>
                </a:cubicBezTo>
                <a:cubicBezTo>
                  <a:pt x="15148" y="6080"/>
                  <a:pt x="15135" y="6152"/>
                  <a:pt x="15131" y="6226"/>
                </a:cubicBezTo>
                <a:cubicBezTo>
                  <a:pt x="15131" y="6243"/>
                  <a:pt x="15131" y="6259"/>
                  <a:pt x="15131" y="6276"/>
                </a:cubicBezTo>
              </a:path>
              <a:path w="4516" h="2135">
                <a:moveTo>
                  <a:pt x="14833" y="5904"/>
                </a:moveTo>
                <a:cubicBezTo>
                  <a:pt x="14998" y="5904"/>
                  <a:pt x="15164" y="5904"/>
                  <a:pt x="15329" y="5904"/>
                </a:cubicBezTo>
              </a:path>
              <a:path w="4516" h="2135">
                <a:moveTo>
                  <a:pt x="15577" y="5705"/>
                </a:moveTo>
                <a:cubicBezTo>
                  <a:pt x="15556" y="5797"/>
                  <a:pt x="15499" y="5873"/>
                  <a:pt x="15478" y="5953"/>
                </a:cubicBezTo>
                <a:cubicBezTo>
                  <a:pt x="15450" y="6057"/>
                  <a:pt x="15532" y="6052"/>
                  <a:pt x="15602" y="6052"/>
                </a:cubicBezTo>
                <a:cubicBezTo>
                  <a:pt x="15660" y="6052"/>
                  <a:pt x="15718" y="6052"/>
                  <a:pt x="15776" y="6052"/>
                </a:cubicBezTo>
              </a:path>
              <a:path w="4516" h="2135">
                <a:moveTo>
                  <a:pt x="15825" y="5581"/>
                </a:moveTo>
                <a:cubicBezTo>
                  <a:pt x="15792" y="5707"/>
                  <a:pt x="15775" y="5828"/>
                  <a:pt x="15751" y="5953"/>
                </a:cubicBezTo>
                <a:cubicBezTo>
                  <a:pt x="15733" y="6048"/>
                  <a:pt x="15726" y="6128"/>
                  <a:pt x="15726" y="6226"/>
                </a:cubicBezTo>
                <a:cubicBezTo>
                  <a:pt x="15726" y="6291"/>
                  <a:pt x="15739" y="6335"/>
                  <a:pt x="15801" y="6350"/>
                </a:cubicBezTo>
              </a:path>
              <a:path w="4516" h="2135">
                <a:moveTo>
                  <a:pt x="16346" y="5556"/>
                </a:moveTo>
                <a:cubicBezTo>
                  <a:pt x="16295" y="5535"/>
                  <a:pt x="16229" y="5563"/>
                  <a:pt x="16173" y="5606"/>
                </a:cubicBezTo>
                <a:cubicBezTo>
                  <a:pt x="16114" y="5652"/>
                  <a:pt x="16041" y="5728"/>
                  <a:pt x="16024" y="5804"/>
                </a:cubicBezTo>
                <a:cubicBezTo>
                  <a:pt x="16016" y="5841"/>
                  <a:pt x="16059" y="5939"/>
                  <a:pt x="16098" y="5953"/>
                </a:cubicBezTo>
                <a:cubicBezTo>
                  <a:pt x="16145" y="5970"/>
                  <a:pt x="16292" y="5966"/>
                  <a:pt x="16321" y="5928"/>
                </a:cubicBezTo>
                <a:cubicBezTo>
                  <a:pt x="16357" y="5881"/>
                  <a:pt x="16485" y="5722"/>
                  <a:pt x="16421" y="5755"/>
                </a:cubicBezTo>
                <a:cubicBezTo>
                  <a:pt x="16411" y="5846"/>
                  <a:pt x="16380" y="5937"/>
                  <a:pt x="16371" y="6028"/>
                </a:cubicBezTo>
                <a:cubicBezTo>
                  <a:pt x="16357" y="6173"/>
                  <a:pt x="16368" y="6267"/>
                  <a:pt x="16396" y="6400"/>
                </a:cubicBezTo>
                <a:cubicBezTo>
                  <a:pt x="16396" y="6444"/>
                  <a:pt x="16393" y="6458"/>
                  <a:pt x="16421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4518000" y="2419200"/>
            <a:ext cx="1216080" cy="447840"/>
          </a:xfrm>
          <a:custGeom>
            <a:avLst/>
            <a:gdLst/>
            <a:ahLst/>
            <a:rect l="l" t="t" r="r" b="b"/>
            <a:pathLst>
              <a:path w="3375" h="1241">
                <a:moveTo>
                  <a:pt x="13122" y="7094"/>
                </a:moveTo>
                <a:cubicBezTo>
                  <a:pt x="13158" y="7215"/>
                  <a:pt x="13175" y="7349"/>
                  <a:pt x="13221" y="7466"/>
                </a:cubicBezTo>
                <a:cubicBezTo>
                  <a:pt x="13265" y="7578"/>
                  <a:pt x="13338" y="7684"/>
                  <a:pt x="13395" y="7789"/>
                </a:cubicBezTo>
                <a:cubicBezTo>
                  <a:pt x="13432" y="7857"/>
                  <a:pt x="13472" y="7878"/>
                  <a:pt x="13543" y="7888"/>
                </a:cubicBezTo>
              </a:path>
              <a:path w="3375" h="1241">
                <a:moveTo>
                  <a:pt x="13444" y="7045"/>
                </a:moveTo>
                <a:cubicBezTo>
                  <a:pt x="13363" y="7164"/>
                  <a:pt x="13281" y="7285"/>
                  <a:pt x="13221" y="7417"/>
                </a:cubicBezTo>
                <a:cubicBezTo>
                  <a:pt x="13164" y="7544"/>
                  <a:pt x="13114" y="7668"/>
                  <a:pt x="13047" y="7789"/>
                </a:cubicBezTo>
                <a:cubicBezTo>
                  <a:pt x="13022" y="7834"/>
                  <a:pt x="13004" y="7873"/>
                  <a:pt x="12973" y="7913"/>
                </a:cubicBezTo>
              </a:path>
              <a:path w="3375" h="1241">
                <a:moveTo>
                  <a:pt x="13618" y="6821"/>
                </a:moveTo>
                <a:cubicBezTo>
                  <a:pt x="13719" y="6821"/>
                  <a:pt x="13740" y="6811"/>
                  <a:pt x="13791" y="6846"/>
                </a:cubicBezTo>
                <a:cubicBezTo>
                  <a:pt x="13781" y="6950"/>
                  <a:pt x="13767" y="6954"/>
                  <a:pt x="13692" y="7020"/>
                </a:cubicBezTo>
                <a:cubicBezTo>
                  <a:pt x="13632" y="7073"/>
                  <a:pt x="13628" y="7074"/>
                  <a:pt x="13618" y="7144"/>
                </a:cubicBezTo>
                <a:cubicBezTo>
                  <a:pt x="13725" y="7154"/>
                  <a:pt x="13782" y="7171"/>
                  <a:pt x="13891" y="7144"/>
                </a:cubicBezTo>
              </a:path>
              <a:path w="3375" h="1241">
                <a:moveTo>
                  <a:pt x="13767" y="7392"/>
                </a:moveTo>
                <a:cubicBezTo>
                  <a:pt x="13844" y="7421"/>
                  <a:pt x="13913" y="7397"/>
                  <a:pt x="13990" y="7417"/>
                </a:cubicBezTo>
                <a:cubicBezTo>
                  <a:pt x="14038" y="7440"/>
                  <a:pt x="14052" y="7448"/>
                  <a:pt x="14089" y="7441"/>
                </a:cubicBezTo>
              </a:path>
              <a:path w="3375" h="1241">
                <a:moveTo>
                  <a:pt x="13915" y="7615"/>
                </a:moveTo>
                <a:cubicBezTo>
                  <a:pt x="14016" y="7615"/>
                  <a:pt x="14113" y="7597"/>
                  <a:pt x="14213" y="7590"/>
                </a:cubicBezTo>
              </a:path>
              <a:path w="3375" h="1241">
                <a:moveTo>
                  <a:pt x="14709" y="7144"/>
                </a:moveTo>
                <a:cubicBezTo>
                  <a:pt x="14669" y="7202"/>
                  <a:pt x="14632" y="7266"/>
                  <a:pt x="14585" y="7317"/>
                </a:cubicBezTo>
                <a:cubicBezTo>
                  <a:pt x="14543" y="7363"/>
                  <a:pt x="14545" y="7353"/>
                  <a:pt x="14536" y="7417"/>
                </a:cubicBezTo>
                <a:cubicBezTo>
                  <a:pt x="14641" y="7390"/>
                  <a:pt x="14752" y="7381"/>
                  <a:pt x="14858" y="7367"/>
                </a:cubicBezTo>
                <a:cubicBezTo>
                  <a:pt x="14875" y="7367"/>
                  <a:pt x="14891" y="7367"/>
                  <a:pt x="14908" y="7367"/>
                </a:cubicBezTo>
              </a:path>
              <a:path w="3375" h="1241">
                <a:moveTo>
                  <a:pt x="14982" y="6995"/>
                </a:moveTo>
                <a:cubicBezTo>
                  <a:pt x="14963" y="7129"/>
                  <a:pt x="14937" y="7258"/>
                  <a:pt x="14932" y="7392"/>
                </a:cubicBezTo>
                <a:cubicBezTo>
                  <a:pt x="14926" y="7557"/>
                  <a:pt x="14932" y="7723"/>
                  <a:pt x="14932" y="7888"/>
                </a:cubicBezTo>
              </a:path>
              <a:path w="3375" h="1241">
                <a:moveTo>
                  <a:pt x="15850" y="7119"/>
                </a:moveTo>
                <a:cubicBezTo>
                  <a:pt x="15786" y="6999"/>
                  <a:pt x="15801" y="6995"/>
                  <a:pt x="15677" y="6995"/>
                </a:cubicBezTo>
                <a:cubicBezTo>
                  <a:pt x="15545" y="6995"/>
                  <a:pt x="15499" y="7085"/>
                  <a:pt x="15429" y="7169"/>
                </a:cubicBezTo>
                <a:cubicBezTo>
                  <a:pt x="15368" y="7242"/>
                  <a:pt x="15362" y="7267"/>
                  <a:pt x="15429" y="7342"/>
                </a:cubicBezTo>
                <a:cubicBezTo>
                  <a:pt x="15483" y="7403"/>
                  <a:pt x="15563" y="7351"/>
                  <a:pt x="15627" y="7342"/>
                </a:cubicBezTo>
                <a:cubicBezTo>
                  <a:pt x="15692" y="7333"/>
                  <a:pt x="15745" y="7285"/>
                  <a:pt x="15801" y="7243"/>
                </a:cubicBezTo>
                <a:cubicBezTo>
                  <a:pt x="15858" y="7200"/>
                  <a:pt x="15851" y="7179"/>
                  <a:pt x="15925" y="7169"/>
                </a:cubicBezTo>
                <a:cubicBezTo>
                  <a:pt x="15925" y="7265"/>
                  <a:pt x="15903" y="7347"/>
                  <a:pt x="15900" y="7441"/>
                </a:cubicBezTo>
                <a:cubicBezTo>
                  <a:pt x="15897" y="7544"/>
                  <a:pt x="15851" y="7660"/>
                  <a:pt x="15875" y="7764"/>
                </a:cubicBezTo>
                <a:cubicBezTo>
                  <a:pt x="15895" y="7849"/>
                  <a:pt x="15908" y="7876"/>
                  <a:pt x="15875" y="7962"/>
                </a:cubicBezTo>
              </a:path>
              <a:path w="3375" h="1241">
                <a:moveTo>
                  <a:pt x="12551" y="7193"/>
                </a:moveTo>
                <a:cubicBezTo>
                  <a:pt x="12571" y="7315"/>
                  <a:pt x="12591" y="7443"/>
                  <a:pt x="12601" y="7565"/>
                </a:cubicBezTo>
                <a:cubicBezTo>
                  <a:pt x="12610" y="7666"/>
                  <a:pt x="12614" y="7767"/>
                  <a:pt x="12626" y="7863"/>
                </a:cubicBezTo>
                <a:cubicBezTo>
                  <a:pt x="12626" y="7888"/>
                  <a:pt x="12626" y="7913"/>
                  <a:pt x="12626" y="7938"/>
                </a:cubicBezTo>
                <a:cubicBezTo>
                  <a:pt x="12589" y="7839"/>
                  <a:pt x="12580" y="7721"/>
                  <a:pt x="12576" y="7615"/>
                </a:cubicBezTo>
                <a:cubicBezTo>
                  <a:pt x="12570" y="7453"/>
                  <a:pt x="12545" y="7247"/>
                  <a:pt x="12601" y="7094"/>
                </a:cubicBezTo>
                <a:cubicBezTo>
                  <a:pt x="12643" y="6980"/>
                  <a:pt x="12729" y="6935"/>
                  <a:pt x="12824" y="6871"/>
                </a:cubicBezTo>
                <a:cubicBezTo>
                  <a:pt x="12965" y="6776"/>
                  <a:pt x="13157" y="6759"/>
                  <a:pt x="13320" y="6722"/>
                </a:cubicBezTo>
              </a:path>
              <a:path w="3375" h="1241">
                <a:moveTo>
                  <a:pt x="14288" y="7293"/>
                </a:moveTo>
                <a:cubicBezTo>
                  <a:pt x="14274" y="7395"/>
                  <a:pt x="14269" y="7509"/>
                  <a:pt x="14288" y="7615"/>
                </a:cubicBezTo>
                <a:cubicBezTo>
                  <a:pt x="14300" y="7683"/>
                  <a:pt x="14334" y="7750"/>
                  <a:pt x="14362" y="7813"/>
                </a:cubicBezTo>
                <a:cubicBezTo>
                  <a:pt x="14394" y="7724"/>
                  <a:pt x="14412" y="7665"/>
                  <a:pt x="14412" y="7565"/>
                </a:cubicBezTo>
                <a:cubicBezTo>
                  <a:pt x="14412" y="7399"/>
                  <a:pt x="14372" y="7172"/>
                  <a:pt x="14436" y="7020"/>
                </a:cubicBezTo>
                <a:cubicBezTo>
                  <a:pt x="14468" y="6943"/>
                  <a:pt x="14558" y="6876"/>
                  <a:pt x="14635" y="6846"/>
                </a:cubicBezTo>
                <a:cubicBezTo>
                  <a:pt x="14788" y="6786"/>
                  <a:pt x="14945" y="6796"/>
                  <a:pt x="15106" y="6796"/>
                </a:cubicBezTo>
                <a:cubicBezTo>
                  <a:pt x="15296" y="6796"/>
                  <a:pt x="15487" y="6796"/>
                  <a:pt x="15677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4857840" y="2938320"/>
            <a:ext cx="982440" cy="384480"/>
          </a:xfrm>
          <a:custGeom>
            <a:avLst/>
            <a:gdLst/>
            <a:ahLst/>
            <a:rect l="l" t="t" r="r" b="b"/>
            <a:pathLst>
              <a:path w="2729" h="1067">
                <a:moveTo>
                  <a:pt x="13543" y="8483"/>
                </a:moveTo>
                <a:cubicBezTo>
                  <a:pt x="13589" y="8602"/>
                  <a:pt x="13646" y="8700"/>
                  <a:pt x="13717" y="8806"/>
                </a:cubicBezTo>
                <a:cubicBezTo>
                  <a:pt x="13780" y="8900"/>
                  <a:pt x="13832" y="8959"/>
                  <a:pt x="13915" y="9029"/>
                </a:cubicBezTo>
                <a:cubicBezTo>
                  <a:pt x="13954" y="9068"/>
                  <a:pt x="13956" y="9085"/>
                  <a:pt x="13990" y="9079"/>
                </a:cubicBezTo>
              </a:path>
              <a:path w="2729" h="1067">
                <a:moveTo>
                  <a:pt x="13940" y="8285"/>
                </a:moveTo>
                <a:cubicBezTo>
                  <a:pt x="13865" y="8407"/>
                  <a:pt x="13776" y="8526"/>
                  <a:pt x="13717" y="8657"/>
                </a:cubicBezTo>
                <a:cubicBezTo>
                  <a:pt x="13666" y="8769"/>
                  <a:pt x="13625" y="8896"/>
                  <a:pt x="13568" y="9004"/>
                </a:cubicBezTo>
                <a:cubicBezTo>
                  <a:pt x="13544" y="9048"/>
                  <a:pt x="13477" y="9079"/>
                  <a:pt x="13519" y="9079"/>
                </a:cubicBezTo>
              </a:path>
              <a:path w="2729" h="1067">
                <a:moveTo>
                  <a:pt x="14188" y="8582"/>
                </a:moveTo>
                <a:cubicBezTo>
                  <a:pt x="14279" y="8582"/>
                  <a:pt x="14370" y="8582"/>
                  <a:pt x="14461" y="8582"/>
                </a:cubicBezTo>
              </a:path>
              <a:path w="2729" h="1067">
                <a:moveTo>
                  <a:pt x="14213" y="8781"/>
                </a:moveTo>
                <a:cubicBezTo>
                  <a:pt x="14359" y="8781"/>
                  <a:pt x="14457" y="8791"/>
                  <a:pt x="14585" y="8731"/>
                </a:cubicBezTo>
              </a:path>
              <a:path w="2729" h="1067">
                <a:moveTo>
                  <a:pt x="15032" y="8161"/>
                </a:moveTo>
                <a:cubicBezTo>
                  <a:pt x="15010" y="8250"/>
                  <a:pt x="14986" y="8322"/>
                  <a:pt x="14982" y="8409"/>
                </a:cubicBezTo>
                <a:cubicBezTo>
                  <a:pt x="14979" y="8483"/>
                  <a:pt x="14982" y="8558"/>
                  <a:pt x="14982" y="8632"/>
                </a:cubicBezTo>
              </a:path>
              <a:path w="2729" h="1067">
                <a:moveTo>
                  <a:pt x="14660" y="8483"/>
                </a:moveTo>
                <a:cubicBezTo>
                  <a:pt x="14851" y="8483"/>
                  <a:pt x="15045" y="8471"/>
                  <a:pt x="15230" y="8508"/>
                </a:cubicBezTo>
              </a:path>
              <a:path w="2729" h="1067">
                <a:moveTo>
                  <a:pt x="14833" y="8855"/>
                </a:moveTo>
                <a:cubicBezTo>
                  <a:pt x="14930" y="8855"/>
                  <a:pt x="15011" y="8876"/>
                  <a:pt x="15106" y="8880"/>
                </a:cubicBezTo>
                <a:cubicBezTo>
                  <a:pt x="15131" y="8880"/>
                  <a:pt x="15155" y="8880"/>
                  <a:pt x="15180" y="8880"/>
                </a:cubicBezTo>
              </a:path>
              <a:path w="2729" h="1067">
                <a:moveTo>
                  <a:pt x="15553" y="8334"/>
                </a:moveTo>
                <a:cubicBezTo>
                  <a:pt x="15760" y="8334"/>
                  <a:pt x="16029" y="8381"/>
                  <a:pt x="16222" y="8310"/>
                </a:cubicBezTo>
                <a:cubicBezTo>
                  <a:pt x="16112" y="8356"/>
                  <a:pt x="16169" y="8369"/>
                  <a:pt x="16148" y="8483"/>
                </a:cubicBezTo>
                <a:cubicBezTo>
                  <a:pt x="16121" y="8630"/>
                  <a:pt x="16064" y="8779"/>
                  <a:pt x="16049" y="8930"/>
                </a:cubicBezTo>
                <a:cubicBezTo>
                  <a:pt x="16039" y="9033"/>
                  <a:pt x="16052" y="9128"/>
                  <a:pt x="1607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696960" y="3411360"/>
            <a:ext cx="2009880" cy="820800"/>
          </a:xfrm>
          <a:custGeom>
            <a:avLst/>
            <a:gdLst/>
            <a:ahLst/>
            <a:rect l="l" t="t" r="r" b="b"/>
            <a:pathLst>
              <a:path w="5582" h="2283">
                <a:moveTo>
                  <a:pt x="2307" y="9550"/>
                </a:moveTo>
                <a:cubicBezTo>
                  <a:pt x="2242" y="9614"/>
                  <a:pt x="2208" y="9671"/>
                  <a:pt x="2158" y="9748"/>
                </a:cubicBezTo>
                <a:cubicBezTo>
                  <a:pt x="2096" y="9843"/>
                  <a:pt x="2063" y="9948"/>
                  <a:pt x="2009" y="10046"/>
                </a:cubicBezTo>
                <a:cubicBezTo>
                  <a:pt x="1954" y="10145"/>
                  <a:pt x="1918" y="10298"/>
                  <a:pt x="1935" y="10418"/>
                </a:cubicBezTo>
                <a:cubicBezTo>
                  <a:pt x="1951" y="10534"/>
                  <a:pt x="1994" y="10640"/>
                  <a:pt x="2084" y="10716"/>
                </a:cubicBezTo>
                <a:cubicBezTo>
                  <a:pt x="2194" y="10808"/>
                  <a:pt x="2279" y="10797"/>
                  <a:pt x="2406" y="10790"/>
                </a:cubicBezTo>
                <a:cubicBezTo>
                  <a:pt x="2584" y="10780"/>
                  <a:pt x="2637" y="10716"/>
                  <a:pt x="2753" y="10592"/>
                </a:cubicBezTo>
                <a:cubicBezTo>
                  <a:pt x="2844" y="10495"/>
                  <a:pt x="2942" y="10338"/>
                  <a:pt x="2927" y="10195"/>
                </a:cubicBezTo>
                <a:cubicBezTo>
                  <a:pt x="2909" y="10021"/>
                  <a:pt x="2828" y="9836"/>
                  <a:pt x="2729" y="9699"/>
                </a:cubicBezTo>
                <a:cubicBezTo>
                  <a:pt x="2675" y="9625"/>
                  <a:pt x="2495" y="9520"/>
                  <a:pt x="2406" y="9500"/>
                </a:cubicBezTo>
                <a:cubicBezTo>
                  <a:pt x="2362" y="9490"/>
                  <a:pt x="2210" y="9478"/>
                  <a:pt x="2183" y="9525"/>
                </a:cubicBezTo>
                <a:cubicBezTo>
                  <a:pt x="2175" y="9550"/>
                  <a:pt x="2166" y="9574"/>
                  <a:pt x="2158" y="9599"/>
                </a:cubicBezTo>
              </a:path>
              <a:path w="5582" h="2283">
                <a:moveTo>
                  <a:pt x="3448" y="10716"/>
                </a:moveTo>
                <a:cubicBezTo>
                  <a:pt x="3435" y="10828"/>
                  <a:pt x="3412" y="10912"/>
                  <a:pt x="3373" y="11013"/>
                </a:cubicBezTo>
                <a:cubicBezTo>
                  <a:pt x="3331" y="11120"/>
                  <a:pt x="3275" y="11252"/>
                  <a:pt x="3249" y="11361"/>
                </a:cubicBezTo>
                <a:cubicBezTo>
                  <a:pt x="3236" y="11416"/>
                  <a:pt x="3224" y="11487"/>
                  <a:pt x="3200" y="11534"/>
                </a:cubicBezTo>
                <a:cubicBezTo>
                  <a:pt x="3160" y="11612"/>
                  <a:pt x="3169" y="11563"/>
                  <a:pt x="3175" y="11658"/>
                </a:cubicBezTo>
                <a:cubicBezTo>
                  <a:pt x="3175" y="11708"/>
                  <a:pt x="3175" y="11724"/>
                  <a:pt x="3175" y="11757"/>
                </a:cubicBezTo>
              </a:path>
              <a:path w="5582" h="2283">
                <a:moveTo>
                  <a:pt x="3671" y="9525"/>
                </a:moveTo>
                <a:cubicBezTo>
                  <a:pt x="3756" y="9534"/>
                  <a:pt x="3831" y="9550"/>
                  <a:pt x="3919" y="9550"/>
                </a:cubicBezTo>
                <a:cubicBezTo>
                  <a:pt x="4061" y="9550"/>
                  <a:pt x="4160" y="9574"/>
                  <a:pt x="4291" y="9599"/>
                </a:cubicBezTo>
                <a:cubicBezTo>
                  <a:pt x="4436" y="9627"/>
                  <a:pt x="4613" y="9599"/>
                  <a:pt x="4762" y="9599"/>
                </a:cubicBezTo>
                <a:cubicBezTo>
                  <a:pt x="4741" y="9685"/>
                  <a:pt x="4701" y="9764"/>
                  <a:pt x="4688" y="9847"/>
                </a:cubicBezTo>
                <a:cubicBezTo>
                  <a:pt x="4672" y="9944"/>
                  <a:pt x="4649" y="10048"/>
                  <a:pt x="4638" y="10145"/>
                </a:cubicBezTo>
                <a:cubicBezTo>
                  <a:pt x="4628" y="10234"/>
                  <a:pt x="4618" y="10330"/>
                  <a:pt x="4614" y="10418"/>
                </a:cubicBezTo>
                <a:cubicBezTo>
                  <a:pt x="4611" y="10492"/>
                  <a:pt x="4614" y="10567"/>
                  <a:pt x="4614" y="10641"/>
                </a:cubicBezTo>
              </a:path>
              <a:path w="5582" h="2283">
                <a:moveTo>
                  <a:pt x="5135" y="10567"/>
                </a:moveTo>
                <a:cubicBezTo>
                  <a:pt x="5148" y="10709"/>
                  <a:pt x="5151" y="10803"/>
                  <a:pt x="5110" y="10939"/>
                </a:cubicBezTo>
                <a:cubicBezTo>
                  <a:pt x="5086" y="11019"/>
                  <a:pt x="5032" y="11209"/>
                  <a:pt x="5060" y="11286"/>
                </a:cubicBezTo>
                <a:cubicBezTo>
                  <a:pt x="5068" y="11286"/>
                  <a:pt x="5077" y="11286"/>
                  <a:pt x="5085" y="11286"/>
                </a:cubicBezTo>
              </a:path>
              <a:path w="5582" h="2283">
                <a:moveTo>
                  <a:pt x="5432" y="9847"/>
                </a:moveTo>
                <a:cubicBezTo>
                  <a:pt x="5513" y="9814"/>
                  <a:pt x="5611" y="9823"/>
                  <a:pt x="5705" y="9823"/>
                </a:cubicBezTo>
                <a:cubicBezTo>
                  <a:pt x="5821" y="9823"/>
                  <a:pt x="5936" y="9823"/>
                  <a:pt x="6052" y="9823"/>
                </a:cubicBezTo>
              </a:path>
              <a:path w="5582" h="2283">
                <a:moveTo>
                  <a:pt x="6400" y="9500"/>
                </a:moveTo>
                <a:cubicBezTo>
                  <a:pt x="6610" y="9477"/>
                  <a:pt x="6785" y="9494"/>
                  <a:pt x="6995" y="9500"/>
                </a:cubicBezTo>
                <a:cubicBezTo>
                  <a:pt x="7092" y="9503"/>
                  <a:pt x="7177" y="9510"/>
                  <a:pt x="7268" y="9525"/>
                </a:cubicBezTo>
                <a:cubicBezTo>
                  <a:pt x="7314" y="9532"/>
                  <a:pt x="7370" y="9525"/>
                  <a:pt x="7417" y="9525"/>
                </a:cubicBezTo>
                <a:cubicBezTo>
                  <a:pt x="7417" y="9633"/>
                  <a:pt x="7404" y="9720"/>
                  <a:pt x="7392" y="9823"/>
                </a:cubicBezTo>
                <a:cubicBezTo>
                  <a:pt x="7378" y="9945"/>
                  <a:pt x="7369" y="10073"/>
                  <a:pt x="7367" y="10195"/>
                </a:cubicBezTo>
                <a:cubicBezTo>
                  <a:pt x="7364" y="10332"/>
                  <a:pt x="7367" y="10504"/>
                  <a:pt x="7392" y="10641"/>
                </a:cubicBezTo>
                <a:cubicBezTo>
                  <a:pt x="7407" y="10720"/>
                  <a:pt x="7416" y="10815"/>
                  <a:pt x="7441" y="10889"/>
                </a:cubicBezTo>
                <a:cubicBezTo>
                  <a:pt x="7474" y="10955"/>
                  <a:pt x="7491" y="10956"/>
                  <a:pt x="7516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19040" y="3027240"/>
            <a:ext cx="2716200" cy="1268640"/>
          </a:xfrm>
          <a:custGeom>
            <a:avLst/>
            <a:gdLst/>
            <a:ahLst/>
            <a:rect l="l" t="t" r="r" b="b"/>
            <a:pathLst>
              <a:path w="7541" h="3523">
                <a:moveTo>
                  <a:pt x="7913" y="9004"/>
                </a:moveTo>
                <a:cubicBezTo>
                  <a:pt x="7658" y="8887"/>
                  <a:pt x="7413" y="8807"/>
                  <a:pt x="7144" y="8731"/>
                </a:cubicBezTo>
                <a:cubicBezTo>
                  <a:pt x="6806" y="8636"/>
                  <a:pt x="6400" y="8521"/>
                  <a:pt x="6052" y="8483"/>
                </a:cubicBezTo>
                <a:cubicBezTo>
                  <a:pt x="5621" y="8436"/>
                  <a:pt x="5174" y="8412"/>
                  <a:pt x="4738" y="8409"/>
                </a:cubicBezTo>
                <a:cubicBezTo>
                  <a:pt x="4273" y="8405"/>
                  <a:pt x="3834" y="8435"/>
                  <a:pt x="3373" y="8483"/>
                </a:cubicBezTo>
                <a:cubicBezTo>
                  <a:pt x="3006" y="8521"/>
                  <a:pt x="2645" y="8576"/>
                  <a:pt x="2282" y="8632"/>
                </a:cubicBezTo>
                <a:cubicBezTo>
                  <a:pt x="2069" y="8665"/>
                  <a:pt x="1874" y="8687"/>
                  <a:pt x="1662" y="8706"/>
                </a:cubicBezTo>
                <a:cubicBezTo>
                  <a:pt x="1593" y="8712"/>
                  <a:pt x="1531" y="8725"/>
                  <a:pt x="1463" y="8731"/>
                </a:cubicBezTo>
                <a:cubicBezTo>
                  <a:pt x="1455" y="8824"/>
                  <a:pt x="1447" y="8895"/>
                  <a:pt x="1439" y="9004"/>
                </a:cubicBezTo>
                <a:cubicBezTo>
                  <a:pt x="1430" y="9136"/>
                  <a:pt x="1432" y="9270"/>
                  <a:pt x="1414" y="9401"/>
                </a:cubicBezTo>
                <a:cubicBezTo>
                  <a:pt x="1378" y="9668"/>
                  <a:pt x="1340" y="9928"/>
                  <a:pt x="1315" y="10195"/>
                </a:cubicBezTo>
                <a:cubicBezTo>
                  <a:pt x="1287" y="10493"/>
                  <a:pt x="1267" y="10791"/>
                  <a:pt x="1240" y="11088"/>
                </a:cubicBezTo>
                <a:cubicBezTo>
                  <a:pt x="1226" y="11243"/>
                  <a:pt x="1153" y="11458"/>
                  <a:pt x="1166" y="11609"/>
                </a:cubicBezTo>
                <a:cubicBezTo>
                  <a:pt x="1170" y="11663"/>
                  <a:pt x="1212" y="11708"/>
                  <a:pt x="1215" y="11757"/>
                </a:cubicBezTo>
                <a:cubicBezTo>
                  <a:pt x="1351" y="11753"/>
                  <a:pt x="1478" y="11747"/>
                  <a:pt x="1612" y="11733"/>
                </a:cubicBezTo>
                <a:cubicBezTo>
                  <a:pt x="1867" y="11707"/>
                  <a:pt x="2124" y="11686"/>
                  <a:pt x="2381" y="11683"/>
                </a:cubicBezTo>
                <a:cubicBezTo>
                  <a:pt x="3749" y="11665"/>
                  <a:pt x="5164" y="11614"/>
                  <a:pt x="6524" y="11782"/>
                </a:cubicBezTo>
                <a:cubicBezTo>
                  <a:pt x="6953" y="11835"/>
                  <a:pt x="7380" y="11900"/>
                  <a:pt x="7813" y="11906"/>
                </a:cubicBezTo>
                <a:cubicBezTo>
                  <a:pt x="7994" y="11909"/>
                  <a:pt x="8181" y="11946"/>
                  <a:pt x="8359" y="11906"/>
                </a:cubicBezTo>
                <a:cubicBezTo>
                  <a:pt x="8448" y="11886"/>
                  <a:pt x="8554" y="11835"/>
                  <a:pt x="8607" y="11757"/>
                </a:cubicBezTo>
                <a:cubicBezTo>
                  <a:pt x="8645" y="11701"/>
                  <a:pt x="8644" y="11628"/>
                  <a:pt x="8657" y="11559"/>
                </a:cubicBezTo>
                <a:cubicBezTo>
                  <a:pt x="8680" y="11435"/>
                  <a:pt x="8674" y="11314"/>
                  <a:pt x="8682" y="11187"/>
                </a:cubicBezTo>
                <a:cubicBezTo>
                  <a:pt x="8695" y="10981"/>
                  <a:pt x="8719" y="10776"/>
                  <a:pt x="8706" y="10567"/>
                </a:cubicBezTo>
                <a:cubicBezTo>
                  <a:pt x="8682" y="10180"/>
                  <a:pt x="8562" y="9809"/>
                  <a:pt x="8434" y="9451"/>
                </a:cubicBezTo>
                <a:cubicBezTo>
                  <a:pt x="8368" y="9266"/>
                  <a:pt x="8296" y="9092"/>
                  <a:pt x="8186" y="8930"/>
                </a:cubicBezTo>
                <a:cubicBezTo>
                  <a:pt x="8134" y="8854"/>
                  <a:pt x="8126" y="8801"/>
                  <a:pt x="8037" y="8781"/>
                </a:cubicBezTo>
                <a:cubicBezTo>
                  <a:pt x="7951" y="8762"/>
                  <a:pt x="7950" y="8847"/>
                  <a:pt x="788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4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11x + 30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Ink 3"/>
          <p:cNvSpPr/>
          <p:nvPr/>
        </p:nvSpPr>
        <p:spPr>
          <a:xfrm>
            <a:off x="669960" y="1660680"/>
            <a:ext cx="1393920" cy="644400"/>
          </a:xfrm>
          <a:custGeom>
            <a:avLst/>
            <a:gdLst/>
            <a:ahLst/>
            <a:rect l="l" t="t" r="r" b="b"/>
            <a:pathLst>
              <a:path w="3871" h="1787">
                <a:moveTo>
                  <a:pt x="2257" y="4762"/>
                </a:moveTo>
                <a:cubicBezTo>
                  <a:pt x="2266" y="4840"/>
                  <a:pt x="2303" y="4931"/>
                  <a:pt x="2282" y="5011"/>
                </a:cubicBezTo>
                <a:cubicBezTo>
                  <a:pt x="2263" y="5082"/>
                  <a:pt x="2257" y="5132"/>
                  <a:pt x="2257" y="5209"/>
                </a:cubicBezTo>
                <a:cubicBezTo>
                  <a:pt x="2257" y="5217"/>
                  <a:pt x="2257" y="5226"/>
                  <a:pt x="2257" y="5234"/>
                </a:cubicBezTo>
              </a:path>
              <a:path w="3871" h="1787">
                <a:moveTo>
                  <a:pt x="1860" y="5184"/>
                </a:moveTo>
                <a:cubicBezTo>
                  <a:pt x="1936" y="5201"/>
                  <a:pt x="1999" y="5184"/>
                  <a:pt x="2084" y="5184"/>
                </a:cubicBezTo>
                <a:cubicBezTo>
                  <a:pt x="2175" y="5184"/>
                  <a:pt x="2265" y="5184"/>
                  <a:pt x="2356" y="5184"/>
                </a:cubicBezTo>
              </a:path>
              <a:path w="3871" h="1787">
                <a:moveTo>
                  <a:pt x="1910" y="5705"/>
                </a:moveTo>
                <a:cubicBezTo>
                  <a:pt x="2074" y="5705"/>
                  <a:pt x="2219" y="5696"/>
                  <a:pt x="2381" y="5680"/>
                </a:cubicBezTo>
                <a:cubicBezTo>
                  <a:pt x="2398" y="5680"/>
                  <a:pt x="2414" y="5680"/>
                  <a:pt x="2431" y="5680"/>
                </a:cubicBezTo>
              </a:path>
              <a:path w="3871" h="1787">
                <a:moveTo>
                  <a:pt x="2853" y="4862"/>
                </a:moveTo>
                <a:cubicBezTo>
                  <a:pt x="2853" y="4976"/>
                  <a:pt x="2844" y="5074"/>
                  <a:pt x="2828" y="5184"/>
                </a:cubicBezTo>
                <a:cubicBezTo>
                  <a:pt x="2812" y="5297"/>
                  <a:pt x="2817" y="5422"/>
                  <a:pt x="2803" y="5531"/>
                </a:cubicBezTo>
                <a:cubicBezTo>
                  <a:pt x="2791" y="5621"/>
                  <a:pt x="2789" y="5718"/>
                  <a:pt x="2778" y="5804"/>
                </a:cubicBezTo>
                <a:cubicBezTo>
                  <a:pt x="2778" y="5870"/>
                  <a:pt x="2778" y="5887"/>
                  <a:pt x="2778" y="5928"/>
                </a:cubicBezTo>
              </a:path>
              <a:path w="3871" h="1787">
                <a:moveTo>
                  <a:pt x="3051" y="6003"/>
                </a:moveTo>
                <a:cubicBezTo>
                  <a:pt x="3044" y="6092"/>
                  <a:pt x="3015" y="6168"/>
                  <a:pt x="3001" y="6251"/>
                </a:cubicBezTo>
                <a:cubicBezTo>
                  <a:pt x="2992" y="6303"/>
                  <a:pt x="2983" y="6347"/>
                  <a:pt x="2977" y="6400"/>
                </a:cubicBezTo>
              </a:path>
              <a:path w="3871" h="1787">
                <a:moveTo>
                  <a:pt x="3497" y="4738"/>
                </a:moveTo>
                <a:cubicBezTo>
                  <a:pt x="3519" y="4825"/>
                  <a:pt x="3522" y="4896"/>
                  <a:pt x="3522" y="4986"/>
                </a:cubicBezTo>
                <a:cubicBezTo>
                  <a:pt x="3522" y="5077"/>
                  <a:pt x="3522" y="5168"/>
                  <a:pt x="3522" y="5259"/>
                </a:cubicBezTo>
              </a:path>
              <a:path w="3871" h="1787">
                <a:moveTo>
                  <a:pt x="3175" y="5135"/>
                </a:moveTo>
                <a:cubicBezTo>
                  <a:pt x="3273" y="5135"/>
                  <a:pt x="3353" y="5124"/>
                  <a:pt x="3448" y="5110"/>
                </a:cubicBezTo>
                <a:cubicBezTo>
                  <a:pt x="3534" y="5098"/>
                  <a:pt x="3634" y="5110"/>
                  <a:pt x="3721" y="5110"/>
                </a:cubicBezTo>
              </a:path>
              <a:path w="3871" h="1787">
                <a:moveTo>
                  <a:pt x="3274" y="5606"/>
                </a:moveTo>
                <a:cubicBezTo>
                  <a:pt x="3363" y="5630"/>
                  <a:pt x="3433" y="5632"/>
                  <a:pt x="3522" y="5606"/>
                </a:cubicBezTo>
                <a:cubicBezTo>
                  <a:pt x="3539" y="5598"/>
                  <a:pt x="3555" y="5589"/>
                  <a:pt x="3572" y="5581"/>
                </a:cubicBezTo>
              </a:path>
              <a:path w="3871" h="1787">
                <a:moveTo>
                  <a:pt x="3919" y="5011"/>
                </a:moveTo>
                <a:cubicBezTo>
                  <a:pt x="3971" y="4929"/>
                  <a:pt x="4001" y="4897"/>
                  <a:pt x="4068" y="4837"/>
                </a:cubicBezTo>
                <a:cubicBezTo>
                  <a:pt x="4111" y="4798"/>
                  <a:pt x="4179" y="4748"/>
                  <a:pt x="4242" y="4762"/>
                </a:cubicBezTo>
                <a:cubicBezTo>
                  <a:pt x="4315" y="4778"/>
                  <a:pt x="4334" y="4845"/>
                  <a:pt x="4316" y="4911"/>
                </a:cubicBezTo>
                <a:cubicBezTo>
                  <a:pt x="4293" y="4993"/>
                  <a:pt x="4278" y="5079"/>
                  <a:pt x="4242" y="5159"/>
                </a:cubicBezTo>
                <a:cubicBezTo>
                  <a:pt x="4215" y="5220"/>
                  <a:pt x="4160" y="5305"/>
                  <a:pt x="4118" y="5358"/>
                </a:cubicBezTo>
                <a:cubicBezTo>
                  <a:pt x="4066" y="5424"/>
                  <a:pt x="4010" y="5482"/>
                  <a:pt x="3969" y="5556"/>
                </a:cubicBezTo>
                <a:cubicBezTo>
                  <a:pt x="3928" y="5629"/>
                  <a:pt x="3863" y="5684"/>
                  <a:pt x="3820" y="5755"/>
                </a:cubicBezTo>
                <a:cubicBezTo>
                  <a:pt x="3796" y="5803"/>
                  <a:pt x="3787" y="5817"/>
                  <a:pt x="3795" y="5854"/>
                </a:cubicBezTo>
                <a:cubicBezTo>
                  <a:pt x="3885" y="5854"/>
                  <a:pt x="3959" y="5843"/>
                  <a:pt x="4043" y="5829"/>
                </a:cubicBezTo>
                <a:cubicBezTo>
                  <a:pt x="4150" y="5811"/>
                  <a:pt x="4274" y="5859"/>
                  <a:pt x="4366" y="5804"/>
                </a:cubicBezTo>
              </a:path>
              <a:path w="3871" h="1787">
                <a:moveTo>
                  <a:pt x="4762" y="4663"/>
                </a:moveTo>
                <a:cubicBezTo>
                  <a:pt x="4779" y="4779"/>
                  <a:pt x="4787" y="4871"/>
                  <a:pt x="4787" y="4986"/>
                </a:cubicBezTo>
                <a:cubicBezTo>
                  <a:pt x="4787" y="5055"/>
                  <a:pt x="4812" y="5111"/>
                  <a:pt x="4812" y="5184"/>
                </a:cubicBezTo>
              </a:path>
              <a:path w="3871" h="1787">
                <a:moveTo>
                  <a:pt x="4514" y="5110"/>
                </a:moveTo>
                <a:cubicBezTo>
                  <a:pt x="4590" y="5094"/>
                  <a:pt x="4689" y="5105"/>
                  <a:pt x="4762" y="5085"/>
                </a:cubicBezTo>
                <a:cubicBezTo>
                  <a:pt x="4839" y="5063"/>
                  <a:pt x="4903" y="5060"/>
                  <a:pt x="4986" y="5060"/>
                </a:cubicBezTo>
              </a:path>
              <a:path w="3871" h="1787">
                <a:moveTo>
                  <a:pt x="4490" y="5531"/>
                </a:moveTo>
                <a:cubicBezTo>
                  <a:pt x="4608" y="5545"/>
                  <a:pt x="4671" y="5531"/>
                  <a:pt x="4787" y="5531"/>
                </a:cubicBezTo>
                <a:cubicBezTo>
                  <a:pt x="4872" y="5531"/>
                  <a:pt x="4892" y="5538"/>
                  <a:pt x="4936" y="5507"/>
                </a:cubicBezTo>
              </a:path>
              <a:path w="3871" h="1787">
                <a:moveTo>
                  <a:pt x="5308" y="4713"/>
                </a:moveTo>
                <a:cubicBezTo>
                  <a:pt x="5385" y="4650"/>
                  <a:pt x="5413" y="4619"/>
                  <a:pt x="5507" y="4614"/>
                </a:cubicBezTo>
                <a:cubicBezTo>
                  <a:pt x="5591" y="4609"/>
                  <a:pt x="5650" y="4646"/>
                  <a:pt x="5631" y="4738"/>
                </a:cubicBezTo>
                <a:cubicBezTo>
                  <a:pt x="5613" y="4826"/>
                  <a:pt x="5518" y="4900"/>
                  <a:pt x="5457" y="4961"/>
                </a:cubicBezTo>
                <a:cubicBezTo>
                  <a:pt x="5409" y="5009"/>
                  <a:pt x="5356" y="5037"/>
                  <a:pt x="5308" y="5085"/>
                </a:cubicBezTo>
                <a:cubicBezTo>
                  <a:pt x="5239" y="5154"/>
                  <a:pt x="5227" y="5103"/>
                  <a:pt x="5333" y="5085"/>
                </a:cubicBezTo>
                <a:cubicBezTo>
                  <a:pt x="5375" y="5078"/>
                  <a:pt x="5484" y="5067"/>
                  <a:pt x="5507" y="5110"/>
                </a:cubicBezTo>
                <a:cubicBezTo>
                  <a:pt x="5547" y="5182"/>
                  <a:pt x="5556" y="5253"/>
                  <a:pt x="5556" y="5333"/>
                </a:cubicBezTo>
                <a:cubicBezTo>
                  <a:pt x="5556" y="5423"/>
                  <a:pt x="5557" y="5502"/>
                  <a:pt x="5507" y="5581"/>
                </a:cubicBezTo>
                <a:cubicBezTo>
                  <a:pt x="5463" y="5650"/>
                  <a:pt x="5394" y="5637"/>
                  <a:pt x="5333" y="5655"/>
                </a:cubicBezTo>
                <a:cubicBezTo>
                  <a:pt x="5243" y="5682"/>
                  <a:pt x="5154" y="5696"/>
                  <a:pt x="5060" y="5705"/>
                </a:cubicBezTo>
              </a:path>
              <a:path w="3871" h="1787">
                <a:moveTo>
                  <a:pt x="4465" y="6003"/>
                </a:moveTo>
                <a:cubicBezTo>
                  <a:pt x="4457" y="6065"/>
                  <a:pt x="4425" y="6124"/>
                  <a:pt x="4415" y="6176"/>
                </a:cubicBezTo>
                <a:cubicBezTo>
                  <a:pt x="4415" y="6193"/>
                  <a:pt x="4415" y="6209"/>
                  <a:pt x="4415" y="6226"/>
                </a:cubicBezTo>
              </a:path>
              <a:path w="3871" h="1787">
                <a:moveTo>
                  <a:pt x="5705" y="5804"/>
                </a:moveTo>
                <a:cubicBezTo>
                  <a:pt x="5718" y="5900"/>
                  <a:pt x="5726" y="6003"/>
                  <a:pt x="5705" y="6102"/>
                </a:cubicBezTo>
                <a:cubicBezTo>
                  <a:pt x="5692" y="6164"/>
                  <a:pt x="5658" y="6220"/>
                  <a:pt x="5631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4"/>
          <p:cNvSpPr/>
          <p:nvPr/>
        </p:nvSpPr>
        <p:spPr>
          <a:xfrm>
            <a:off x="2205000" y="1687680"/>
            <a:ext cx="2144880" cy="509400"/>
          </a:xfrm>
          <a:custGeom>
            <a:avLst/>
            <a:gdLst/>
            <a:ahLst/>
            <a:rect l="l" t="t" r="r" b="b"/>
            <a:pathLst>
              <a:path w="5954" h="1415">
                <a:moveTo>
                  <a:pt x="6350" y="4688"/>
                </a:moveTo>
                <a:cubicBezTo>
                  <a:pt x="6322" y="4772"/>
                  <a:pt x="6325" y="4845"/>
                  <a:pt x="6325" y="4936"/>
                </a:cubicBezTo>
                <a:cubicBezTo>
                  <a:pt x="6325" y="4988"/>
                  <a:pt x="6324" y="5006"/>
                  <a:pt x="6300" y="5035"/>
                </a:cubicBezTo>
              </a:path>
              <a:path w="5954" h="1415">
                <a:moveTo>
                  <a:pt x="6127" y="5035"/>
                </a:moveTo>
                <a:cubicBezTo>
                  <a:pt x="6243" y="5018"/>
                  <a:pt x="6335" y="5011"/>
                  <a:pt x="6449" y="5011"/>
                </a:cubicBezTo>
              </a:path>
              <a:path w="5954" h="1415">
                <a:moveTo>
                  <a:pt x="6152" y="5457"/>
                </a:moveTo>
                <a:cubicBezTo>
                  <a:pt x="6207" y="5491"/>
                  <a:pt x="6280" y="5503"/>
                  <a:pt x="6350" y="5507"/>
                </a:cubicBezTo>
                <a:cubicBezTo>
                  <a:pt x="6367" y="5507"/>
                  <a:pt x="6383" y="5507"/>
                  <a:pt x="6400" y="5507"/>
                </a:cubicBezTo>
              </a:path>
              <a:path w="5954" h="1415">
                <a:moveTo>
                  <a:pt x="6722" y="4762"/>
                </a:moveTo>
                <a:cubicBezTo>
                  <a:pt x="6830" y="4747"/>
                  <a:pt x="6940" y="4719"/>
                  <a:pt x="7045" y="4713"/>
                </a:cubicBezTo>
                <a:cubicBezTo>
                  <a:pt x="7099" y="4710"/>
                  <a:pt x="7139" y="4695"/>
                  <a:pt x="7193" y="4688"/>
                </a:cubicBezTo>
              </a:path>
              <a:path w="5954" h="1415">
                <a:moveTo>
                  <a:pt x="6697" y="4837"/>
                </a:moveTo>
                <a:cubicBezTo>
                  <a:pt x="6671" y="4938"/>
                  <a:pt x="6574" y="5097"/>
                  <a:pt x="6672" y="5135"/>
                </a:cubicBezTo>
                <a:cubicBezTo>
                  <a:pt x="6736" y="5160"/>
                  <a:pt x="6764" y="5073"/>
                  <a:pt x="6821" y="5060"/>
                </a:cubicBezTo>
                <a:cubicBezTo>
                  <a:pt x="6918" y="5037"/>
                  <a:pt x="6979" y="5111"/>
                  <a:pt x="7020" y="5184"/>
                </a:cubicBezTo>
                <a:cubicBezTo>
                  <a:pt x="7060" y="5255"/>
                  <a:pt x="7088" y="5349"/>
                  <a:pt x="7069" y="5432"/>
                </a:cubicBezTo>
                <a:cubicBezTo>
                  <a:pt x="7052" y="5505"/>
                  <a:pt x="6995" y="5556"/>
                  <a:pt x="6945" y="5606"/>
                </a:cubicBezTo>
                <a:cubicBezTo>
                  <a:pt x="6884" y="5668"/>
                  <a:pt x="6844" y="5635"/>
                  <a:pt x="6772" y="5655"/>
                </a:cubicBezTo>
                <a:cubicBezTo>
                  <a:pt x="6698" y="5676"/>
                  <a:pt x="6734" y="5671"/>
                  <a:pt x="6672" y="5655"/>
                </a:cubicBezTo>
              </a:path>
              <a:path w="5954" h="1415">
                <a:moveTo>
                  <a:pt x="7218" y="5680"/>
                </a:moveTo>
                <a:cubicBezTo>
                  <a:pt x="7218" y="5811"/>
                  <a:pt x="7202" y="5908"/>
                  <a:pt x="7193" y="6028"/>
                </a:cubicBezTo>
                <a:cubicBezTo>
                  <a:pt x="7193" y="6036"/>
                  <a:pt x="7193" y="6044"/>
                  <a:pt x="7193" y="6052"/>
                </a:cubicBezTo>
              </a:path>
              <a:path w="5954" h="1415">
                <a:moveTo>
                  <a:pt x="7640" y="4762"/>
                </a:moveTo>
                <a:cubicBezTo>
                  <a:pt x="7657" y="4862"/>
                  <a:pt x="7654" y="4974"/>
                  <a:pt x="7714" y="5060"/>
                </a:cubicBezTo>
                <a:cubicBezTo>
                  <a:pt x="7742" y="5088"/>
                  <a:pt x="7751" y="5102"/>
                  <a:pt x="7739" y="5135"/>
                </a:cubicBezTo>
              </a:path>
              <a:path w="5954" h="1415">
                <a:moveTo>
                  <a:pt x="7565" y="5011"/>
                </a:moveTo>
                <a:cubicBezTo>
                  <a:pt x="7695" y="5025"/>
                  <a:pt x="7810" y="5035"/>
                  <a:pt x="7938" y="5035"/>
                </a:cubicBezTo>
              </a:path>
              <a:path w="5954" h="1415">
                <a:moveTo>
                  <a:pt x="7491" y="5531"/>
                </a:moveTo>
                <a:cubicBezTo>
                  <a:pt x="7627" y="5547"/>
                  <a:pt x="7681" y="5524"/>
                  <a:pt x="7813" y="5507"/>
                </a:cubicBezTo>
                <a:cubicBezTo>
                  <a:pt x="7830" y="5507"/>
                  <a:pt x="7846" y="5507"/>
                  <a:pt x="7863" y="5507"/>
                </a:cubicBezTo>
              </a:path>
              <a:path w="5954" h="1415">
                <a:moveTo>
                  <a:pt x="8260" y="4911"/>
                </a:moveTo>
                <a:cubicBezTo>
                  <a:pt x="8219" y="5052"/>
                  <a:pt x="8155" y="5211"/>
                  <a:pt x="8136" y="5358"/>
                </a:cubicBezTo>
                <a:cubicBezTo>
                  <a:pt x="8125" y="5440"/>
                  <a:pt x="8139" y="5512"/>
                  <a:pt x="8186" y="5581"/>
                </a:cubicBezTo>
                <a:cubicBezTo>
                  <a:pt x="8252" y="5679"/>
                  <a:pt x="8418" y="5631"/>
                  <a:pt x="8483" y="5556"/>
                </a:cubicBezTo>
                <a:cubicBezTo>
                  <a:pt x="8534" y="5497"/>
                  <a:pt x="8585" y="5423"/>
                  <a:pt x="8533" y="5358"/>
                </a:cubicBezTo>
                <a:cubicBezTo>
                  <a:pt x="8525" y="5350"/>
                  <a:pt x="8516" y="5341"/>
                  <a:pt x="8508" y="5333"/>
                </a:cubicBezTo>
                <a:cubicBezTo>
                  <a:pt x="8467" y="5374"/>
                  <a:pt x="8437" y="5405"/>
                  <a:pt x="8409" y="5457"/>
                </a:cubicBezTo>
                <a:cubicBezTo>
                  <a:pt x="8376" y="5519"/>
                  <a:pt x="8340" y="5566"/>
                  <a:pt x="8334" y="5631"/>
                </a:cubicBezTo>
                <a:cubicBezTo>
                  <a:pt x="8334" y="5639"/>
                  <a:pt x="8334" y="5647"/>
                  <a:pt x="8334" y="5655"/>
                </a:cubicBezTo>
              </a:path>
              <a:path w="5954" h="1415">
                <a:moveTo>
                  <a:pt x="8706" y="5755"/>
                </a:moveTo>
                <a:cubicBezTo>
                  <a:pt x="8696" y="5835"/>
                  <a:pt x="8696" y="6003"/>
                  <a:pt x="8657" y="6077"/>
                </a:cubicBezTo>
                <a:cubicBezTo>
                  <a:pt x="8657" y="6069"/>
                  <a:pt x="8657" y="6060"/>
                  <a:pt x="8657" y="6052"/>
                </a:cubicBezTo>
              </a:path>
              <a:path w="5954" h="1415">
                <a:moveTo>
                  <a:pt x="9128" y="4738"/>
                </a:moveTo>
                <a:cubicBezTo>
                  <a:pt x="9128" y="4889"/>
                  <a:pt x="9077" y="5159"/>
                  <a:pt x="9153" y="5283"/>
                </a:cubicBezTo>
              </a:path>
              <a:path w="5954" h="1415">
                <a:moveTo>
                  <a:pt x="8830" y="5060"/>
                </a:moveTo>
                <a:cubicBezTo>
                  <a:pt x="8937" y="5060"/>
                  <a:pt x="9026" y="5074"/>
                  <a:pt x="9128" y="5085"/>
                </a:cubicBezTo>
                <a:cubicBezTo>
                  <a:pt x="9194" y="5085"/>
                  <a:pt x="9211" y="5085"/>
                  <a:pt x="9252" y="5085"/>
                </a:cubicBezTo>
              </a:path>
              <a:path w="5954" h="1415">
                <a:moveTo>
                  <a:pt x="8954" y="5531"/>
                </a:moveTo>
                <a:cubicBezTo>
                  <a:pt x="9090" y="5526"/>
                  <a:pt x="9202" y="5524"/>
                  <a:pt x="9327" y="5482"/>
                </a:cubicBezTo>
              </a:path>
              <a:path w="5954" h="1415">
                <a:moveTo>
                  <a:pt x="9699" y="4986"/>
                </a:moveTo>
                <a:cubicBezTo>
                  <a:pt x="9689" y="5135"/>
                  <a:pt x="9710" y="5418"/>
                  <a:pt x="9674" y="5581"/>
                </a:cubicBezTo>
                <a:cubicBezTo>
                  <a:pt x="9663" y="5633"/>
                  <a:pt x="9613" y="5723"/>
                  <a:pt x="9699" y="5680"/>
                </a:cubicBezTo>
              </a:path>
              <a:path w="5954" h="1415">
                <a:moveTo>
                  <a:pt x="9897" y="5060"/>
                </a:moveTo>
                <a:cubicBezTo>
                  <a:pt x="9875" y="5195"/>
                  <a:pt x="9812" y="5397"/>
                  <a:pt x="9823" y="5531"/>
                </a:cubicBezTo>
                <a:cubicBezTo>
                  <a:pt x="9825" y="5558"/>
                  <a:pt x="9892" y="5649"/>
                  <a:pt x="9922" y="5655"/>
                </a:cubicBezTo>
                <a:cubicBezTo>
                  <a:pt x="10068" y="5685"/>
                  <a:pt x="10131" y="5568"/>
                  <a:pt x="10170" y="5457"/>
                </a:cubicBezTo>
                <a:cubicBezTo>
                  <a:pt x="10200" y="5371"/>
                  <a:pt x="10212" y="5251"/>
                  <a:pt x="10195" y="5159"/>
                </a:cubicBezTo>
                <a:cubicBezTo>
                  <a:pt x="10177" y="5061"/>
                  <a:pt x="10164" y="5030"/>
                  <a:pt x="10096" y="4961"/>
                </a:cubicBezTo>
                <a:cubicBezTo>
                  <a:pt x="10024" y="4889"/>
                  <a:pt x="9964" y="4907"/>
                  <a:pt x="9897" y="4961"/>
                </a:cubicBezTo>
              </a:path>
              <a:path w="5954" h="1415">
                <a:moveTo>
                  <a:pt x="10344" y="5755"/>
                </a:moveTo>
                <a:cubicBezTo>
                  <a:pt x="10331" y="5871"/>
                  <a:pt x="10323" y="5980"/>
                  <a:pt x="10294" y="6077"/>
                </a:cubicBezTo>
                <a:cubicBezTo>
                  <a:pt x="10294" y="6085"/>
                  <a:pt x="10294" y="6094"/>
                  <a:pt x="10294" y="6102"/>
                </a:cubicBezTo>
              </a:path>
              <a:path w="5954" h="1415">
                <a:moveTo>
                  <a:pt x="10840" y="4911"/>
                </a:moveTo>
                <a:cubicBezTo>
                  <a:pt x="10853" y="5062"/>
                  <a:pt x="10846" y="5189"/>
                  <a:pt x="10815" y="5333"/>
                </a:cubicBezTo>
                <a:cubicBezTo>
                  <a:pt x="10815" y="5341"/>
                  <a:pt x="10815" y="5350"/>
                  <a:pt x="10815" y="5358"/>
                </a:cubicBezTo>
              </a:path>
              <a:path w="5954" h="1415">
                <a:moveTo>
                  <a:pt x="10616" y="5184"/>
                </a:moveTo>
                <a:cubicBezTo>
                  <a:pt x="10715" y="5204"/>
                  <a:pt x="10818" y="5189"/>
                  <a:pt x="10914" y="5209"/>
                </a:cubicBezTo>
                <a:cubicBezTo>
                  <a:pt x="10939" y="5217"/>
                  <a:pt x="10963" y="5226"/>
                  <a:pt x="10988" y="5234"/>
                </a:cubicBezTo>
              </a:path>
              <a:path w="5954" h="1415">
                <a:moveTo>
                  <a:pt x="10567" y="5606"/>
                </a:moveTo>
                <a:cubicBezTo>
                  <a:pt x="10652" y="5606"/>
                  <a:pt x="10713" y="5610"/>
                  <a:pt x="10790" y="5581"/>
                </a:cubicBezTo>
              </a:path>
              <a:path w="5954" h="1415">
                <a:moveTo>
                  <a:pt x="11261" y="4986"/>
                </a:moveTo>
                <a:cubicBezTo>
                  <a:pt x="11243" y="5161"/>
                  <a:pt x="11219" y="5333"/>
                  <a:pt x="11212" y="5507"/>
                </a:cubicBezTo>
                <a:cubicBezTo>
                  <a:pt x="11209" y="5581"/>
                  <a:pt x="11228" y="5635"/>
                  <a:pt x="11237" y="5705"/>
                </a:cubicBezTo>
              </a:path>
              <a:path w="5954" h="1415">
                <a:moveTo>
                  <a:pt x="11633" y="4862"/>
                </a:moveTo>
                <a:cubicBezTo>
                  <a:pt x="11757" y="4837"/>
                  <a:pt x="11868" y="4818"/>
                  <a:pt x="11981" y="4762"/>
                </a:cubicBezTo>
              </a:path>
              <a:path w="5954" h="1415">
                <a:moveTo>
                  <a:pt x="11609" y="4862"/>
                </a:moveTo>
                <a:cubicBezTo>
                  <a:pt x="11557" y="4928"/>
                  <a:pt x="11416" y="5045"/>
                  <a:pt x="11460" y="5159"/>
                </a:cubicBezTo>
                <a:cubicBezTo>
                  <a:pt x="11492" y="5242"/>
                  <a:pt x="11586" y="5191"/>
                  <a:pt x="11633" y="5159"/>
                </a:cubicBezTo>
                <a:cubicBezTo>
                  <a:pt x="11666" y="5137"/>
                  <a:pt x="11739" y="5100"/>
                  <a:pt x="11782" y="5110"/>
                </a:cubicBezTo>
                <a:cubicBezTo>
                  <a:pt x="11895" y="5137"/>
                  <a:pt x="11924" y="5262"/>
                  <a:pt x="11931" y="5358"/>
                </a:cubicBezTo>
                <a:cubicBezTo>
                  <a:pt x="11938" y="5453"/>
                  <a:pt x="11898" y="5524"/>
                  <a:pt x="11857" y="5606"/>
                </a:cubicBezTo>
                <a:cubicBezTo>
                  <a:pt x="11826" y="5667"/>
                  <a:pt x="11762" y="5735"/>
                  <a:pt x="11683" y="5730"/>
                </a:cubicBezTo>
                <a:cubicBezTo>
                  <a:pt x="11644" y="5728"/>
                  <a:pt x="11603" y="5657"/>
                  <a:pt x="11584" y="5631"/>
                </a:cubicBezTo>
              </a:path>
              <a:path w="5954" h="1415">
                <a:moveTo>
                  <a:pt x="12080" y="5680"/>
                </a:moveTo>
                <a:cubicBezTo>
                  <a:pt x="12074" y="5812"/>
                  <a:pt x="12078" y="5895"/>
                  <a:pt x="12005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4500720" y="1687680"/>
            <a:ext cx="733320" cy="295200"/>
          </a:xfrm>
          <a:custGeom>
            <a:avLst/>
            <a:gdLst/>
            <a:ahLst/>
            <a:rect l="l" t="t" r="r" b="b"/>
            <a:pathLst>
              <a:path w="2035" h="820">
                <a:moveTo>
                  <a:pt x="12675" y="4688"/>
                </a:moveTo>
                <a:cubicBezTo>
                  <a:pt x="12686" y="4852"/>
                  <a:pt x="12675" y="4956"/>
                  <a:pt x="12675" y="5110"/>
                </a:cubicBezTo>
              </a:path>
              <a:path w="2035" h="820">
                <a:moveTo>
                  <a:pt x="12502" y="4911"/>
                </a:moveTo>
                <a:cubicBezTo>
                  <a:pt x="12619" y="4911"/>
                  <a:pt x="12736" y="4911"/>
                  <a:pt x="12849" y="4936"/>
                </a:cubicBezTo>
                <a:cubicBezTo>
                  <a:pt x="12874" y="4944"/>
                  <a:pt x="12898" y="4953"/>
                  <a:pt x="12923" y="4961"/>
                </a:cubicBezTo>
              </a:path>
              <a:path w="2035" h="820">
                <a:moveTo>
                  <a:pt x="12551" y="5457"/>
                </a:moveTo>
                <a:cubicBezTo>
                  <a:pt x="12674" y="5450"/>
                  <a:pt x="12779" y="5423"/>
                  <a:pt x="12898" y="5407"/>
                </a:cubicBezTo>
                <a:cubicBezTo>
                  <a:pt x="12915" y="5407"/>
                  <a:pt x="12931" y="5407"/>
                  <a:pt x="12948" y="5407"/>
                </a:cubicBezTo>
              </a:path>
              <a:path w="2035" h="820">
                <a:moveTo>
                  <a:pt x="13320" y="4688"/>
                </a:moveTo>
                <a:cubicBezTo>
                  <a:pt x="13420" y="4724"/>
                  <a:pt x="13517" y="4740"/>
                  <a:pt x="13469" y="4862"/>
                </a:cubicBezTo>
                <a:cubicBezTo>
                  <a:pt x="13427" y="4970"/>
                  <a:pt x="13357" y="5040"/>
                  <a:pt x="13246" y="5085"/>
                </a:cubicBezTo>
                <a:cubicBezTo>
                  <a:pt x="13229" y="5085"/>
                  <a:pt x="13213" y="5085"/>
                  <a:pt x="13196" y="5085"/>
                </a:cubicBezTo>
                <a:cubicBezTo>
                  <a:pt x="13251" y="5118"/>
                  <a:pt x="13302" y="5110"/>
                  <a:pt x="13370" y="5110"/>
                </a:cubicBezTo>
                <a:cubicBezTo>
                  <a:pt x="13456" y="5110"/>
                  <a:pt x="13542" y="5167"/>
                  <a:pt x="13568" y="5259"/>
                </a:cubicBezTo>
                <a:cubicBezTo>
                  <a:pt x="13589" y="5333"/>
                  <a:pt x="13522" y="5401"/>
                  <a:pt x="13469" y="5432"/>
                </a:cubicBezTo>
                <a:cubicBezTo>
                  <a:pt x="13424" y="5458"/>
                  <a:pt x="13325" y="5528"/>
                  <a:pt x="13271" y="5507"/>
                </a:cubicBezTo>
                <a:cubicBezTo>
                  <a:pt x="13200" y="5460"/>
                  <a:pt x="13175" y="5449"/>
                  <a:pt x="13196" y="5383"/>
                </a:cubicBezTo>
              </a:path>
              <a:path w="2035" h="820">
                <a:moveTo>
                  <a:pt x="13866" y="4887"/>
                </a:moveTo>
                <a:cubicBezTo>
                  <a:pt x="13860" y="5039"/>
                  <a:pt x="13793" y="5234"/>
                  <a:pt x="13816" y="5383"/>
                </a:cubicBezTo>
                <a:cubicBezTo>
                  <a:pt x="13827" y="5457"/>
                  <a:pt x="13903" y="5503"/>
                  <a:pt x="13965" y="5507"/>
                </a:cubicBezTo>
                <a:cubicBezTo>
                  <a:pt x="14070" y="5513"/>
                  <a:pt x="14129" y="5499"/>
                  <a:pt x="14213" y="5432"/>
                </a:cubicBezTo>
                <a:cubicBezTo>
                  <a:pt x="14301" y="5361"/>
                  <a:pt x="14387" y="5261"/>
                  <a:pt x="14436" y="5159"/>
                </a:cubicBezTo>
                <a:cubicBezTo>
                  <a:pt x="14462" y="5106"/>
                  <a:pt x="14566" y="4921"/>
                  <a:pt x="14511" y="4862"/>
                </a:cubicBezTo>
                <a:cubicBezTo>
                  <a:pt x="14427" y="4772"/>
                  <a:pt x="14262" y="4802"/>
                  <a:pt x="14163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392040" y="2143080"/>
            <a:ext cx="4724640" cy="1635120"/>
          </a:xfrm>
          <a:custGeom>
            <a:avLst/>
            <a:gdLst/>
            <a:ahLst/>
            <a:rect l="l" t="t" r="r" b="b"/>
            <a:pathLst>
              <a:path w="13123" h="4540">
                <a:moveTo>
                  <a:pt x="2183" y="6201"/>
                </a:moveTo>
                <a:cubicBezTo>
                  <a:pt x="2247" y="6213"/>
                  <a:pt x="2314" y="6215"/>
                  <a:pt x="2381" y="6226"/>
                </a:cubicBezTo>
                <a:cubicBezTo>
                  <a:pt x="2439" y="6236"/>
                  <a:pt x="2509" y="6249"/>
                  <a:pt x="2580" y="6251"/>
                </a:cubicBezTo>
                <a:cubicBezTo>
                  <a:pt x="2976" y="6262"/>
                  <a:pt x="3380" y="6251"/>
                  <a:pt x="3770" y="6226"/>
                </a:cubicBezTo>
                <a:cubicBezTo>
                  <a:pt x="3911" y="6217"/>
                  <a:pt x="4055" y="6210"/>
                  <a:pt x="4192" y="6201"/>
                </a:cubicBezTo>
                <a:cubicBezTo>
                  <a:pt x="4834" y="6157"/>
                  <a:pt x="5489" y="6219"/>
                  <a:pt x="6127" y="6176"/>
                </a:cubicBezTo>
                <a:cubicBezTo>
                  <a:pt x="6315" y="6163"/>
                  <a:pt x="6513" y="6161"/>
                  <a:pt x="6697" y="6152"/>
                </a:cubicBezTo>
                <a:cubicBezTo>
                  <a:pt x="6836" y="6145"/>
                  <a:pt x="6961" y="6158"/>
                  <a:pt x="7094" y="6176"/>
                </a:cubicBezTo>
                <a:cubicBezTo>
                  <a:pt x="7202" y="6191"/>
                  <a:pt x="7309" y="6210"/>
                  <a:pt x="7417" y="6226"/>
                </a:cubicBezTo>
              </a:path>
              <a:path w="13123" h="4540">
                <a:moveTo>
                  <a:pt x="7317" y="5953"/>
                </a:moveTo>
                <a:cubicBezTo>
                  <a:pt x="7304" y="5988"/>
                  <a:pt x="7306" y="6060"/>
                  <a:pt x="7367" y="6077"/>
                </a:cubicBezTo>
                <a:cubicBezTo>
                  <a:pt x="7431" y="6095"/>
                  <a:pt x="7496" y="6102"/>
                  <a:pt x="7565" y="6102"/>
                </a:cubicBezTo>
                <a:cubicBezTo>
                  <a:pt x="7750" y="6102"/>
                  <a:pt x="7930" y="6114"/>
                  <a:pt x="8111" y="6127"/>
                </a:cubicBezTo>
                <a:cubicBezTo>
                  <a:pt x="8276" y="6139"/>
                  <a:pt x="8443" y="6128"/>
                  <a:pt x="8607" y="6152"/>
                </a:cubicBezTo>
                <a:cubicBezTo>
                  <a:pt x="8698" y="6165"/>
                  <a:pt x="8792" y="6202"/>
                  <a:pt x="8880" y="6226"/>
                </a:cubicBezTo>
              </a:path>
              <a:path w="13123" h="4540">
                <a:moveTo>
                  <a:pt x="7069" y="6077"/>
                </a:moveTo>
                <a:cubicBezTo>
                  <a:pt x="7142" y="6122"/>
                  <a:pt x="7153" y="6180"/>
                  <a:pt x="7268" y="6201"/>
                </a:cubicBezTo>
                <a:cubicBezTo>
                  <a:pt x="7459" y="6235"/>
                  <a:pt x="7673" y="6180"/>
                  <a:pt x="7863" y="6176"/>
                </a:cubicBezTo>
                <a:cubicBezTo>
                  <a:pt x="8079" y="6171"/>
                  <a:pt x="8292" y="6155"/>
                  <a:pt x="8508" y="6152"/>
                </a:cubicBezTo>
                <a:cubicBezTo>
                  <a:pt x="8963" y="6146"/>
                  <a:pt x="9417" y="6131"/>
                  <a:pt x="9872" y="6127"/>
                </a:cubicBezTo>
                <a:cubicBezTo>
                  <a:pt x="10237" y="6123"/>
                  <a:pt x="10598" y="6102"/>
                  <a:pt x="10964" y="6102"/>
                </a:cubicBezTo>
                <a:cubicBezTo>
                  <a:pt x="11370" y="6102"/>
                  <a:pt x="11774" y="6088"/>
                  <a:pt x="12179" y="6077"/>
                </a:cubicBezTo>
                <a:cubicBezTo>
                  <a:pt x="12561" y="6066"/>
                  <a:pt x="12944" y="6097"/>
                  <a:pt x="13320" y="6152"/>
                </a:cubicBezTo>
                <a:cubicBezTo>
                  <a:pt x="13602" y="6193"/>
                  <a:pt x="13915" y="6226"/>
                  <a:pt x="14188" y="6325"/>
                </a:cubicBezTo>
                <a:cubicBezTo>
                  <a:pt x="14196" y="6333"/>
                  <a:pt x="14205" y="6342"/>
                  <a:pt x="14213" y="6350"/>
                </a:cubicBezTo>
              </a:path>
              <a:path w="13123" h="4540">
                <a:moveTo>
                  <a:pt x="1761" y="8632"/>
                </a:moveTo>
                <a:cubicBezTo>
                  <a:pt x="1938" y="8632"/>
                  <a:pt x="2089" y="8604"/>
                  <a:pt x="2257" y="8582"/>
                </a:cubicBezTo>
                <a:cubicBezTo>
                  <a:pt x="2451" y="8557"/>
                  <a:pt x="2661" y="8589"/>
                  <a:pt x="2853" y="8558"/>
                </a:cubicBezTo>
                <a:cubicBezTo>
                  <a:pt x="3107" y="8517"/>
                  <a:pt x="3360" y="8494"/>
                  <a:pt x="3621" y="8483"/>
                </a:cubicBezTo>
                <a:cubicBezTo>
                  <a:pt x="4031" y="8466"/>
                  <a:pt x="4433" y="8470"/>
                  <a:pt x="4837" y="8434"/>
                </a:cubicBezTo>
                <a:cubicBezTo>
                  <a:pt x="5059" y="8414"/>
                  <a:pt x="5283" y="8409"/>
                  <a:pt x="5507" y="8409"/>
                </a:cubicBezTo>
                <a:cubicBezTo>
                  <a:pt x="5710" y="8409"/>
                  <a:pt x="6090" y="8334"/>
                  <a:pt x="6251" y="8483"/>
                </a:cubicBezTo>
                <a:cubicBezTo>
                  <a:pt x="6306" y="8534"/>
                  <a:pt x="6346" y="8592"/>
                  <a:pt x="6375" y="8657"/>
                </a:cubicBezTo>
                <a:cubicBezTo>
                  <a:pt x="6407" y="8729"/>
                  <a:pt x="6403" y="8801"/>
                  <a:pt x="6400" y="8880"/>
                </a:cubicBezTo>
                <a:cubicBezTo>
                  <a:pt x="6397" y="8959"/>
                  <a:pt x="6364" y="9071"/>
                  <a:pt x="6350" y="9153"/>
                </a:cubicBezTo>
                <a:cubicBezTo>
                  <a:pt x="6326" y="9294"/>
                  <a:pt x="6289" y="9454"/>
                  <a:pt x="6300" y="9599"/>
                </a:cubicBezTo>
                <a:cubicBezTo>
                  <a:pt x="6308" y="9700"/>
                  <a:pt x="6332" y="9821"/>
                  <a:pt x="6350" y="9922"/>
                </a:cubicBezTo>
                <a:cubicBezTo>
                  <a:pt x="6364" y="10001"/>
                  <a:pt x="6421" y="10116"/>
                  <a:pt x="6424" y="10195"/>
                </a:cubicBezTo>
                <a:cubicBezTo>
                  <a:pt x="6427" y="10278"/>
                  <a:pt x="6407" y="10337"/>
                  <a:pt x="6400" y="10418"/>
                </a:cubicBezTo>
                <a:cubicBezTo>
                  <a:pt x="6247" y="10401"/>
                  <a:pt x="6130" y="10366"/>
                  <a:pt x="5978" y="10344"/>
                </a:cubicBezTo>
                <a:cubicBezTo>
                  <a:pt x="5838" y="10323"/>
                  <a:pt x="5696" y="10314"/>
                  <a:pt x="5556" y="10294"/>
                </a:cubicBezTo>
                <a:cubicBezTo>
                  <a:pt x="5415" y="10274"/>
                  <a:pt x="5280" y="10269"/>
                  <a:pt x="5135" y="10269"/>
                </a:cubicBezTo>
                <a:cubicBezTo>
                  <a:pt x="4932" y="10269"/>
                  <a:pt x="4747" y="10220"/>
                  <a:pt x="4539" y="10220"/>
                </a:cubicBezTo>
                <a:cubicBezTo>
                  <a:pt x="4315" y="10220"/>
                  <a:pt x="4095" y="10195"/>
                  <a:pt x="3870" y="10195"/>
                </a:cubicBezTo>
                <a:cubicBezTo>
                  <a:pt x="3569" y="10195"/>
                  <a:pt x="3282" y="10110"/>
                  <a:pt x="2977" y="10145"/>
                </a:cubicBezTo>
                <a:cubicBezTo>
                  <a:pt x="2505" y="10200"/>
                  <a:pt x="2076" y="10224"/>
                  <a:pt x="1612" y="10344"/>
                </a:cubicBezTo>
                <a:cubicBezTo>
                  <a:pt x="1338" y="10412"/>
                  <a:pt x="1261" y="10430"/>
                  <a:pt x="1091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1919160" y="2357280"/>
            <a:ext cx="250920" cy="322560"/>
          </a:xfrm>
          <a:custGeom>
            <a:avLst/>
            <a:gdLst/>
            <a:ahLst/>
            <a:rect l="l" t="t" r="r" b="b"/>
            <a:pathLst>
              <a:path w="696" h="894">
                <a:moveTo>
                  <a:pt x="5755" y="6548"/>
                </a:moveTo>
                <a:cubicBezTo>
                  <a:pt x="5755" y="6661"/>
                  <a:pt x="5742" y="6762"/>
                  <a:pt x="5730" y="6871"/>
                </a:cubicBezTo>
                <a:cubicBezTo>
                  <a:pt x="5723" y="6935"/>
                  <a:pt x="5730" y="7005"/>
                  <a:pt x="5730" y="7069"/>
                </a:cubicBezTo>
              </a:path>
              <a:path w="696" h="894">
                <a:moveTo>
                  <a:pt x="5333" y="6970"/>
                </a:moveTo>
                <a:cubicBezTo>
                  <a:pt x="5474" y="6970"/>
                  <a:pt x="5614" y="6991"/>
                  <a:pt x="5755" y="6995"/>
                </a:cubicBezTo>
                <a:cubicBezTo>
                  <a:pt x="5780" y="6995"/>
                  <a:pt x="5804" y="6995"/>
                  <a:pt x="5829" y="6995"/>
                </a:cubicBezTo>
              </a:path>
              <a:path w="696" h="894">
                <a:moveTo>
                  <a:pt x="5482" y="7392"/>
                </a:moveTo>
                <a:cubicBezTo>
                  <a:pt x="5606" y="7459"/>
                  <a:pt x="5639" y="7431"/>
                  <a:pt x="5779" y="7417"/>
                </a:cubicBezTo>
                <a:cubicBezTo>
                  <a:pt x="5889" y="7417"/>
                  <a:pt x="5948" y="7407"/>
                  <a:pt x="6028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2367000" y="2374920"/>
            <a:ext cx="17280" cy="366840"/>
          </a:xfrm>
          <a:custGeom>
            <a:avLst/>
            <a:gdLst/>
            <a:ahLst/>
            <a:rect l="l" t="t" r="r" b="b"/>
            <a:pathLst>
              <a:path w="51" h="1018">
                <a:moveTo>
                  <a:pt x="6623" y="6598"/>
                </a:moveTo>
                <a:cubicBezTo>
                  <a:pt x="6623" y="6750"/>
                  <a:pt x="6609" y="6896"/>
                  <a:pt x="6598" y="7045"/>
                </a:cubicBezTo>
                <a:cubicBezTo>
                  <a:pt x="6588" y="7185"/>
                  <a:pt x="6579" y="7327"/>
                  <a:pt x="6573" y="7466"/>
                </a:cubicBezTo>
                <a:cubicBezTo>
                  <a:pt x="6571" y="7520"/>
                  <a:pt x="6591" y="7562"/>
                  <a:pt x="6598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608040" y="3106800"/>
            <a:ext cx="1384200" cy="563400"/>
          </a:xfrm>
          <a:custGeom>
            <a:avLst/>
            <a:gdLst/>
            <a:ahLst/>
            <a:rect l="l" t="t" r="r" b="b"/>
            <a:pathLst>
              <a:path w="3845" h="1564">
                <a:moveTo>
                  <a:pt x="2133" y="9178"/>
                </a:moveTo>
                <a:cubicBezTo>
                  <a:pt x="2167" y="9110"/>
                  <a:pt x="2178" y="9078"/>
                  <a:pt x="2208" y="9004"/>
                </a:cubicBezTo>
                <a:cubicBezTo>
                  <a:pt x="2232" y="8945"/>
                  <a:pt x="2302" y="8898"/>
                  <a:pt x="2356" y="8880"/>
                </a:cubicBezTo>
                <a:cubicBezTo>
                  <a:pt x="2401" y="8865"/>
                  <a:pt x="2553" y="8918"/>
                  <a:pt x="2580" y="8954"/>
                </a:cubicBezTo>
                <a:cubicBezTo>
                  <a:pt x="2622" y="9009"/>
                  <a:pt x="2646" y="9085"/>
                  <a:pt x="2654" y="9153"/>
                </a:cubicBezTo>
                <a:cubicBezTo>
                  <a:pt x="2666" y="9259"/>
                  <a:pt x="2643" y="9354"/>
                  <a:pt x="2604" y="9451"/>
                </a:cubicBezTo>
                <a:cubicBezTo>
                  <a:pt x="2569" y="9537"/>
                  <a:pt x="2514" y="9628"/>
                  <a:pt x="2456" y="9699"/>
                </a:cubicBezTo>
                <a:cubicBezTo>
                  <a:pt x="2416" y="9748"/>
                  <a:pt x="2346" y="9871"/>
                  <a:pt x="2282" y="9897"/>
                </a:cubicBezTo>
                <a:cubicBezTo>
                  <a:pt x="2226" y="9920"/>
                  <a:pt x="2072" y="9913"/>
                  <a:pt x="2059" y="9847"/>
                </a:cubicBezTo>
                <a:cubicBezTo>
                  <a:pt x="2049" y="9796"/>
                  <a:pt x="2069" y="9709"/>
                  <a:pt x="2108" y="9674"/>
                </a:cubicBezTo>
                <a:cubicBezTo>
                  <a:pt x="2181" y="9607"/>
                  <a:pt x="2216" y="9647"/>
                  <a:pt x="2282" y="9674"/>
                </a:cubicBezTo>
                <a:cubicBezTo>
                  <a:pt x="2360" y="9706"/>
                  <a:pt x="2394" y="9817"/>
                  <a:pt x="2406" y="9897"/>
                </a:cubicBezTo>
                <a:cubicBezTo>
                  <a:pt x="2425" y="10023"/>
                  <a:pt x="2410" y="9936"/>
                  <a:pt x="2480" y="9996"/>
                </a:cubicBezTo>
              </a:path>
              <a:path w="3845" h="1564">
                <a:moveTo>
                  <a:pt x="2778" y="9748"/>
                </a:moveTo>
                <a:cubicBezTo>
                  <a:pt x="2796" y="9820"/>
                  <a:pt x="2827" y="9920"/>
                  <a:pt x="2803" y="9996"/>
                </a:cubicBezTo>
                <a:cubicBezTo>
                  <a:pt x="2783" y="10060"/>
                  <a:pt x="2762" y="10080"/>
                  <a:pt x="2803" y="10120"/>
                </a:cubicBezTo>
              </a:path>
              <a:path w="3845" h="1564">
                <a:moveTo>
                  <a:pt x="3349" y="9004"/>
                </a:moveTo>
                <a:cubicBezTo>
                  <a:pt x="3454" y="9004"/>
                  <a:pt x="3482" y="8964"/>
                  <a:pt x="3572" y="8954"/>
                </a:cubicBezTo>
                <a:cubicBezTo>
                  <a:pt x="3658" y="8944"/>
                  <a:pt x="3732" y="8930"/>
                  <a:pt x="3820" y="8930"/>
                </a:cubicBezTo>
                <a:cubicBezTo>
                  <a:pt x="3828" y="8930"/>
                  <a:pt x="3837" y="8930"/>
                  <a:pt x="3845" y="8930"/>
                </a:cubicBezTo>
              </a:path>
              <a:path w="3845" h="1564">
                <a:moveTo>
                  <a:pt x="3423" y="8880"/>
                </a:moveTo>
                <a:cubicBezTo>
                  <a:pt x="3339" y="8956"/>
                  <a:pt x="3355" y="8996"/>
                  <a:pt x="3299" y="9079"/>
                </a:cubicBezTo>
                <a:cubicBezTo>
                  <a:pt x="3251" y="9150"/>
                  <a:pt x="3277" y="9222"/>
                  <a:pt x="3299" y="9302"/>
                </a:cubicBezTo>
                <a:cubicBezTo>
                  <a:pt x="3363" y="9286"/>
                  <a:pt x="3412" y="9239"/>
                  <a:pt x="3473" y="9227"/>
                </a:cubicBezTo>
                <a:cubicBezTo>
                  <a:pt x="3508" y="9220"/>
                  <a:pt x="3637" y="9172"/>
                  <a:pt x="3646" y="9178"/>
                </a:cubicBezTo>
                <a:cubicBezTo>
                  <a:pt x="3668" y="9192"/>
                  <a:pt x="3740" y="9269"/>
                  <a:pt x="3746" y="9302"/>
                </a:cubicBezTo>
                <a:cubicBezTo>
                  <a:pt x="3760" y="9377"/>
                  <a:pt x="3786" y="9446"/>
                  <a:pt x="3795" y="9525"/>
                </a:cubicBezTo>
                <a:cubicBezTo>
                  <a:pt x="3805" y="9609"/>
                  <a:pt x="3762" y="9639"/>
                  <a:pt x="3721" y="9699"/>
                </a:cubicBezTo>
                <a:cubicBezTo>
                  <a:pt x="3669" y="9774"/>
                  <a:pt x="3605" y="9724"/>
                  <a:pt x="3547" y="9773"/>
                </a:cubicBezTo>
                <a:cubicBezTo>
                  <a:pt x="3539" y="9790"/>
                  <a:pt x="3530" y="9806"/>
                  <a:pt x="3522" y="9823"/>
                </a:cubicBezTo>
                <a:cubicBezTo>
                  <a:pt x="3450" y="9805"/>
                  <a:pt x="3401" y="9766"/>
                  <a:pt x="3324" y="9748"/>
                </a:cubicBezTo>
                <a:cubicBezTo>
                  <a:pt x="3316" y="9748"/>
                  <a:pt x="3307" y="9748"/>
                  <a:pt x="3299" y="9748"/>
                </a:cubicBezTo>
              </a:path>
              <a:path w="3845" h="1564">
                <a:moveTo>
                  <a:pt x="3994" y="9823"/>
                </a:moveTo>
                <a:cubicBezTo>
                  <a:pt x="3986" y="9966"/>
                  <a:pt x="3965" y="9968"/>
                  <a:pt x="3944" y="10071"/>
                </a:cubicBezTo>
                <a:cubicBezTo>
                  <a:pt x="3939" y="10095"/>
                  <a:pt x="3944" y="10284"/>
                  <a:pt x="3944" y="10145"/>
                </a:cubicBezTo>
              </a:path>
              <a:path w="3845" h="1564">
                <a:moveTo>
                  <a:pt x="4291" y="9227"/>
                </a:moveTo>
                <a:cubicBezTo>
                  <a:pt x="4419" y="9227"/>
                  <a:pt x="4605" y="9260"/>
                  <a:pt x="4688" y="9178"/>
                </a:cubicBezTo>
              </a:path>
              <a:path w="3845" h="1564">
                <a:moveTo>
                  <a:pt x="4986" y="8855"/>
                </a:moveTo>
                <a:cubicBezTo>
                  <a:pt x="5144" y="8861"/>
                  <a:pt x="5251" y="8865"/>
                  <a:pt x="5383" y="8930"/>
                </a:cubicBezTo>
                <a:cubicBezTo>
                  <a:pt x="5461" y="8969"/>
                  <a:pt x="5425" y="9055"/>
                  <a:pt x="5383" y="9103"/>
                </a:cubicBezTo>
                <a:cubicBezTo>
                  <a:pt x="5312" y="9184"/>
                  <a:pt x="5248" y="9197"/>
                  <a:pt x="5159" y="9227"/>
                </a:cubicBezTo>
                <a:cubicBezTo>
                  <a:pt x="5081" y="9253"/>
                  <a:pt x="5091" y="9282"/>
                  <a:pt x="5011" y="9302"/>
                </a:cubicBezTo>
                <a:cubicBezTo>
                  <a:pt x="5068" y="9331"/>
                  <a:pt x="5143" y="9369"/>
                  <a:pt x="5209" y="9376"/>
                </a:cubicBezTo>
                <a:cubicBezTo>
                  <a:pt x="5285" y="9384"/>
                  <a:pt x="5364" y="9354"/>
                  <a:pt x="5432" y="9401"/>
                </a:cubicBezTo>
                <a:cubicBezTo>
                  <a:pt x="5487" y="9439"/>
                  <a:pt x="5542" y="9531"/>
                  <a:pt x="5531" y="9599"/>
                </a:cubicBezTo>
                <a:cubicBezTo>
                  <a:pt x="5509" y="9731"/>
                  <a:pt x="5421" y="9780"/>
                  <a:pt x="5333" y="9847"/>
                </a:cubicBezTo>
                <a:cubicBezTo>
                  <a:pt x="5256" y="9905"/>
                  <a:pt x="5115" y="9923"/>
                  <a:pt x="5011" y="9897"/>
                </a:cubicBezTo>
                <a:cubicBezTo>
                  <a:pt x="4936" y="9872"/>
                  <a:pt x="4862" y="9848"/>
                  <a:pt x="4787" y="9823"/>
                </a:cubicBezTo>
              </a:path>
              <a:path w="3845" h="1564">
                <a:moveTo>
                  <a:pt x="1761" y="8632"/>
                </a:moveTo>
                <a:cubicBezTo>
                  <a:pt x="1739" y="8786"/>
                  <a:pt x="1736" y="8924"/>
                  <a:pt x="1736" y="9079"/>
                </a:cubicBezTo>
                <a:cubicBezTo>
                  <a:pt x="1736" y="9379"/>
                  <a:pt x="1737" y="9675"/>
                  <a:pt x="1712" y="9971"/>
                </a:cubicBezTo>
                <a:cubicBezTo>
                  <a:pt x="1706" y="10045"/>
                  <a:pt x="1697" y="10054"/>
                  <a:pt x="1687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(x) = -2 x</a:t>
            </a:r>
            <a:r>
              <a:rPr b="1" lang="en-US" sz="4400" spc="-1" strike="noStrike" baseline="30000">
                <a:solidFill>
                  <a:srgbClr val="ffff99"/>
                </a:solidFill>
                <a:latin typeface="Arial"/>
              </a:rPr>
              <a:t> 2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- 5 x +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Ink 3"/>
          <p:cNvSpPr/>
          <p:nvPr/>
        </p:nvSpPr>
        <p:spPr>
          <a:xfrm>
            <a:off x="1795320" y="1830240"/>
            <a:ext cx="3214800" cy="544680"/>
          </a:xfrm>
          <a:custGeom>
            <a:avLst/>
            <a:gdLst/>
            <a:ahLst/>
            <a:rect l="l" t="t" r="r" b="b"/>
            <a:pathLst>
              <a:path w="8930" h="1514">
                <a:moveTo>
                  <a:pt x="5060" y="5655"/>
                </a:moveTo>
                <a:cubicBezTo>
                  <a:pt x="5082" y="5797"/>
                  <a:pt x="5126" y="5887"/>
                  <a:pt x="5184" y="6003"/>
                </a:cubicBezTo>
                <a:cubicBezTo>
                  <a:pt x="5233" y="6100"/>
                  <a:pt x="5271" y="6189"/>
                  <a:pt x="5333" y="6276"/>
                </a:cubicBezTo>
                <a:cubicBezTo>
                  <a:pt x="5381" y="6343"/>
                  <a:pt x="5447" y="6447"/>
                  <a:pt x="5507" y="6499"/>
                </a:cubicBezTo>
                <a:cubicBezTo>
                  <a:pt x="5522" y="6512"/>
                  <a:pt x="5669" y="6599"/>
                  <a:pt x="5680" y="6598"/>
                </a:cubicBezTo>
                <a:cubicBezTo>
                  <a:pt x="5688" y="6590"/>
                  <a:pt x="5697" y="6581"/>
                  <a:pt x="5705" y="6573"/>
                </a:cubicBezTo>
              </a:path>
              <a:path w="8930" h="1514">
                <a:moveTo>
                  <a:pt x="5507" y="5730"/>
                </a:moveTo>
                <a:cubicBezTo>
                  <a:pt x="5412" y="5869"/>
                  <a:pt x="5315" y="6004"/>
                  <a:pt x="5234" y="6152"/>
                </a:cubicBezTo>
                <a:cubicBezTo>
                  <a:pt x="5178" y="6254"/>
                  <a:pt x="5124" y="6380"/>
                  <a:pt x="5060" y="6474"/>
                </a:cubicBezTo>
                <a:cubicBezTo>
                  <a:pt x="5029" y="6520"/>
                  <a:pt x="4973" y="6579"/>
                  <a:pt x="5011" y="6598"/>
                </a:cubicBezTo>
              </a:path>
              <a:path w="8930" h="1514">
                <a:moveTo>
                  <a:pt x="5680" y="5978"/>
                </a:moveTo>
                <a:cubicBezTo>
                  <a:pt x="5783" y="5978"/>
                  <a:pt x="5876" y="5999"/>
                  <a:pt x="5978" y="6003"/>
                </a:cubicBezTo>
                <a:cubicBezTo>
                  <a:pt x="6028" y="6003"/>
                  <a:pt x="6044" y="6003"/>
                  <a:pt x="6077" y="6003"/>
                </a:cubicBezTo>
              </a:path>
              <a:path w="8930" h="1514">
                <a:moveTo>
                  <a:pt x="5705" y="6201"/>
                </a:moveTo>
                <a:cubicBezTo>
                  <a:pt x="5861" y="6196"/>
                  <a:pt x="5999" y="6176"/>
                  <a:pt x="6152" y="6176"/>
                </a:cubicBezTo>
              </a:path>
              <a:path w="8930" h="1514">
                <a:moveTo>
                  <a:pt x="6672" y="5556"/>
                </a:moveTo>
                <a:cubicBezTo>
                  <a:pt x="6754" y="5556"/>
                  <a:pt x="6815" y="5535"/>
                  <a:pt x="6896" y="5531"/>
                </a:cubicBezTo>
                <a:cubicBezTo>
                  <a:pt x="6995" y="5526"/>
                  <a:pt x="7076" y="5528"/>
                  <a:pt x="7169" y="5507"/>
                </a:cubicBezTo>
                <a:cubicBezTo>
                  <a:pt x="7177" y="5507"/>
                  <a:pt x="7185" y="5507"/>
                  <a:pt x="7193" y="5507"/>
                </a:cubicBezTo>
              </a:path>
              <a:path w="8930" h="1514">
                <a:moveTo>
                  <a:pt x="6871" y="5482"/>
                </a:moveTo>
                <a:cubicBezTo>
                  <a:pt x="6813" y="5526"/>
                  <a:pt x="6701" y="5606"/>
                  <a:pt x="6672" y="5680"/>
                </a:cubicBezTo>
                <a:cubicBezTo>
                  <a:pt x="6648" y="5741"/>
                  <a:pt x="6603" y="5858"/>
                  <a:pt x="6623" y="5928"/>
                </a:cubicBezTo>
                <a:cubicBezTo>
                  <a:pt x="6647" y="5976"/>
                  <a:pt x="6655" y="5991"/>
                  <a:pt x="6648" y="6028"/>
                </a:cubicBezTo>
                <a:cubicBezTo>
                  <a:pt x="6710" y="6019"/>
                  <a:pt x="6747" y="5998"/>
                  <a:pt x="6796" y="5953"/>
                </a:cubicBezTo>
                <a:cubicBezTo>
                  <a:pt x="6829" y="5923"/>
                  <a:pt x="6879" y="5865"/>
                  <a:pt x="6921" y="5854"/>
                </a:cubicBezTo>
                <a:cubicBezTo>
                  <a:pt x="7003" y="5832"/>
                  <a:pt x="7080" y="5860"/>
                  <a:pt x="7144" y="5904"/>
                </a:cubicBezTo>
                <a:cubicBezTo>
                  <a:pt x="7227" y="5960"/>
                  <a:pt x="7218" y="6012"/>
                  <a:pt x="7218" y="6102"/>
                </a:cubicBezTo>
                <a:cubicBezTo>
                  <a:pt x="7218" y="6189"/>
                  <a:pt x="7193" y="6269"/>
                  <a:pt x="7119" y="6325"/>
                </a:cubicBezTo>
                <a:cubicBezTo>
                  <a:pt x="7055" y="6374"/>
                  <a:pt x="6948" y="6397"/>
                  <a:pt x="6871" y="6400"/>
                </a:cubicBezTo>
                <a:cubicBezTo>
                  <a:pt x="6792" y="6403"/>
                  <a:pt x="6659" y="6424"/>
                  <a:pt x="6598" y="6375"/>
                </a:cubicBezTo>
                <a:cubicBezTo>
                  <a:pt x="6575" y="6352"/>
                  <a:pt x="6567" y="6348"/>
                  <a:pt x="6573" y="6325"/>
                </a:cubicBezTo>
              </a:path>
              <a:path w="8930" h="1514">
                <a:moveTo>
                  <a:pt x="7665" y="5457"/>
                </a:moveTo>
                <a:cubicBezTo>
                  <a:pt x="7674" y="5535"/>
                  <a:pt x="7653" y="5725"/>
                  <a:pt x="7665" y="5804"/>
                </a:cubicBezTo>
                <a:cubicBezTo>
                  <a:pt x="7670" y="5840"/>
                  <a:pt x="7674" y="5855"/>
                  <a:pt x="7665" y="5904"/>
                </a:cubicBezTo>
              </a:path>
              <a:path w="8930" h="1514">
                <a:moveTo>
                  <a:pt x="7342" y="5755"/>
                </a:moveTo>
                <a:cubicBezTo>
                  <a:pt x="7437" y="5746"/>
                  <a:pt x="7516" y="5730"/>
                  <a:pt x="7615" y="5730"/>
                </a:cubicBezTo>
                <a:cubicBezTo>
                  <a:pt x="7706" y="5730"/>
                  <a:pt x="7747" y="5730"/>
                  <a:pt x="7813" y="5730"/>
                </a:cubicBezTo>
              </a:path>
              <a:path w="8930" h="1514">
                <a:moveTo>
                  <a:pt x="7392" y="6102"/>
                </a:moveTo>
                <a:cubicBezTo>
                  <a:pt x="7460" y="6102"/>
                  <a:pt x="7556" y="6072"/>
                  <a:pt x="7615" y="6077"/>
                </a:cubicBezTo>
                <a:cubicBezTo>
                  <a:pt x="7715" y="6085"/>
                  <a:pt x="7806" y="6077"/>
                  <a:pt x="7913" y="6077"/>
                </a:cubicBezTo>
              </a:path>
              <a:path w="8930" h="1514">
                <a:moveTo>
                  <a:pt x="8235" y="5730"/>
                </a:moveTo>
                <a:cubicBezTo>
                  <a:pt x="8221" y="5973"/>
                  <a:pt x="8210" y="6207"/>
                  <a:pt x="8210" y="6449"/>
                </a:cubicBezTo>
                <a:cubicBezTo>
                  <a:pt x="8198" y="6375"/>
                  <a:pt x="8179" y="6289"/>
                  <a:pt x="8186" y="6201"/>
                </a:cubicBezTo>
                <a:cubicBezTo>
                  <a:pt x="8194" y="6099"/>
                  <a:pt x="8209" y="6003"/>
                  <a:pt x="8235" y="5904"/>
                </a:cubicBezTo>
                <a:cubicBezTo>
                  <a:pt x="8267" y="5779"/>
                  <a:pt x="8260" y="5654"/>
                  <a:pt x="8285" y="5531"/>
                </a:cubicBezTo>
                <a:cubicBezTo>
                  <a:pt x="8304" y="5435"/>
                  <a:pt x="8327" y="5333"/>
                  <a:pt x="8334" y="5234"/>
                </a:cubicBezTo>
                <a:cubicBezTo>
                  <a:pt x="8334" y="5168"/>
                  <a:pt x="8334" y="5151"/>
                  <a:pt x="8334" y="5110"/>
                </a:cubicBezTo>
                <a:cubicBezTo>
                  <a:pt x="8387" y="5127"/>
                  <a:pt x="8423" y="5152"/>
                  <a:pt x="8483" y="5159"/>
                </a:cubicBezTo>
                <a:cubicBezTo>
                  <a:pt x="8585" y="5171"/>
                  <a:pt x="8736" y="5189"/>
                  <a:pt x="8830" y="5184"/>
                </a:cubicBezTo>
                <a:cubicBezTo>
                  <a:pt x="8977" y="5176"/>
                  <a:pt x="9128" y="5202"/>
                  <a:pt x="9277" y="5184"/>
                </a:cubicBezTo>
                <a:cubicBezTo>
                  <a:pt x="9461" y="5162"/>
                  <a:pt x="9637" y="5159"/>
                  <a:pt x="9823" y="5159"/>
                </a:cubicBezTo>
                <a:cubicBezTo>
                  <a:pt x="10065" y="5159"/>
                  <a:pt x="10302" y="5170"/>
                  <a:pt x="10542" y="5184"/>
                </a:cubicBezTo>
                <a:cubicBezTo>
                  <a:pt x="10728" y="5195"/>
                  <a:pt x="10906" y="5173"/>
                  <a:pt x="11088" y="5159"/>
                </a:cubicBezTo>
                <a:cubicBezTo>
                  <a:pt x="11252" y="5147"/>
                  <a:pt x="11428" y="5191"/>
                  <a:pt x="11584" y="5184"/>
                </a:cubicBezTo>
                <a:cubicBezTo>
                  <a:pt x="11613" y="5183"/>
                  <a:pt x="11897" y="5175"/>
                  <a:pt x="11931" y="5135"/>
                </a:cubicBezTo>
                <a:cubicBezTo>
                  <a:pt x="11923" y="5118"/>
                  <a:pt x="11914" y="5102"/>
                  <a:pt x="11906" y="5085"/>
                </a:cubicBezTo>
              </a:path>
              <a:path w="8930" h="1514">
                <a:moveTo>
                  <a:pt x="8855" y="5383"/>
                </a:moveTo>
                <a:cubicBezTo>
                  <a:pt x="8822" y="5474"/>
                  <a:pt x="8787" y="5563"/>
                  <a:pt x="8756" y="5655"/>
                </a:cubicBezTo>
                <a:cubicBezTo>
                  <a:pt x="8722" y="5757"/>
                  <a:pt x="8684" y="5911"/>
                  <a:pt x="8632" y="6003"/>
                </a:cubicBezTo>
                <a:cubicBezTo>
                  <a:pt x="8594" y="6070"/>
                  <a:pt x="8557" y="6136"/>
                  <a:pt x="8582" y="6226"/>
                </a:cubicBezTo>
                <a:cubicBezTo>
                  <a:pt x="8618" y="6356"/>
                  <a:pt x="8722" y="6284"/>
                  <a:pt x="8806" y="6251"/>
                </a:cubicBezTo>
              </a:path>
              <a:path w="8930" h="1514">
                <a:moveTo>
                  <a:pt x="9004" y="5779"/>
                </a:moveTo>
                <a:cubicBezTo>
                  <a:pt x="9091" y="5779"/>
                  <a:pt x="9153" y="5791"/>
                  <a:pt x="9227" y="5779"/>
                </a:cubicBezTo>
                <a:cubicBezTo>
                  <a:pt x="9235" y="5779"/>
                  <a:pt x="9244" y="5779"/>
                  <a:pt x="9252" y="5779"/>
                </a:cubicBezTo>
              </a:path>
              <a:path w="8930" h="1514">
                <a:moveTo>
                  <a:pt x="9475" y="5507"/>
                </a:moveTo>
                <a:cubicBezTo>
                  <a:pt x="9580" y="5484"/>
                  <a:pt x="9665" y="5482"/>
                  <a:pt x="9773" y="5482"/>
                </a:cubicBezTo>
                <a:cubicBezTo>
                  <a:pt x="9781" y="5482"/>
                  <a:pt x="9790" y="5482"/>
                  <a:pt x="9798" y="5482"/>
                </a:cubicBezTo>
              </a:path>
              <a:path w="8930" h="1514">
                <a:moveTo>
                  <a:pt x="9426" y="5606"/>
                </a:moveTo>
                <a:cubicBezTo>
                  <a:pt x="9389" y="5679"/>
                  <a:pt x="9326" y="5765"/>
                  <a:pt x="9351" y="5854"/>
                </a:cubicBezTo>
                <a:cubicBezTo>
                  <a:pt x="9359" y="5871"/>
                  <a:pt x="9368" y="5887"/>
                  <a:pt x="9376" y="5904"/>
                </a:cubicBezTo>
                <a:cubicBezTo>
                  <a:pt x="9456" y="5864"/>
                  <a:pt x="9474" y="5846"/>
                  <a:pt x="9525" y="5779"/>
                </a:cubicBezTo>
                <a:cubicBezTo>
                  <a:pt x="9570" y="5720"/>
                  <a:pt x="9671" y="5699"/>
                  <a:pt x="9723" y="5755"/>
                </a:cubicBezTo>
                <a:cubicBezTo>
                  <a:pt x="9787" y="5823"/>
                  <a:pt x="9789" y="5940"/>
                  <a:pt x="9773" y="6028"/>
                </a:cubicBezTo>
                <a:cubicBezTo>
                  <a:pt x="9764" y="6078"/>
                  <a:pt x="9697" y="6180"/>
                  <a:pt x="9649" y="6201"/>
                </a:cubicBezTo>
                <a:cubicBezTo>
                  <a:pt x="9622" y="6213"/>
                  <a:pt x="9461" y="6288"/>
                  <a:pt x="9426" y="6276"/>
                </a:cubicBezTo>
                <a:cubicBezTo>
                  <a:pt x="9403" y="6253"/>
                  <a:pt x="9399" y="6245"/>
                  <a:pt x="9376" y="6251"/>
                </a:cubicBezTo>
              </a:path>
              <a:path w="8930" h="1514">
                <a:moveTo>
                  <a:pt x="9971" y="5432"/>
                </a:moveTo>
                <a:cubicBezTo>
                  <a:pt x="10052" y="5525"/>
                  <a:pt x="10150" y="5639"/>
                  <a:pt x="10145" y="5779"/>
                </a:cubicBezTo>
                <a:cubicBezTo>
                  <a:pt x="10141" y="5880"/>
                  <a:pt x="10111" y="6005"/>
                  <a:pt x="10071" y="6102"/>
                </a:cubicBezTo>
                <a:cubicBezTo>
                  <a:pt x="10046" y="6163"/>
                  <a:pt x="9991" y="6228"/>
                  <a:pt x="9947" y="6276"/>
                </a:cubicBezTo>
                <a:cubicBezTo>
                  <a:pt x="9907" y="6320"/>
                  <a:pt x="9905" y="6317"/>
                  <a:pt x="9847" y="6325"/>
                </a:cubicBezTo>
              </a:path>
              <a:path w="8930" h="1514">
                <a:moveTo>
                  <a:pt x="10145" y="5308"/>
                </a:moveTo>
                <a:cubicBezTo>
                  <a:pt x="10186" y="5286"/>
                  <a:pt x="10344" y="5199"/>
                  <a:pt x="10344" y="5333"/>
                </a:cubicBezTo>
                <a:cubicBezTo>
                  <a:pt x="10344" y="5411"/>
                  <a:pt x="10269" y="5467"/>
                  <a:pt x="10220" y="5507"/>
                </a:cubicBezTo>
                <a:cubicBezTo>
                  <a:pt x="10195" y="5531"/>
                  <a:pt x="10186" y="5539"/>
                  <a:pt x="10170" y="5556"/>
                </a:cubicBezTo>
                <a:cubicBezTo>
                  <a:pt x="10253" y="5581"/>
                  <a:pt x="10329" y="5581"/>
                  <a:pt x="10418" y="5581"/>
                </a:cubicBezTo>
              </a:path>
              <a:path w="8930" h="1514">
                <a:moveTo>
                  <a:pt x="10418" y="5829"/>
                </a:moveTo>
                <a:cubicBezTo>
                  <a:pt x="10503" y="5807"/>
                  <a:pt x="10585" y="5787"/>
                  <a:pt x="10666" y="5755"/>
                </a:cubicBezTo>
              </a:path>
              <a:path w="8930" h="1514">
                <a:moveTo>
                  <a:pt x="11013" y="5556"/>
                </a:moveTo>
                <a:cubicBezTo>
                  <a:pt x="10979" y="5616"/>
                  <a:pt x="10965" y="5674"/>
                  <a:pt x="10939" y="5730"/>
                </a:cubicBezTo>
                <a:cubicBezTo>
                  <a:pt x="10905" y="5764"/>
                  <a:pt x="10897" y="5785"/>
                  <a:pt x="10914" y="5829"/>
                </a:cubicBezTo>
                <a:cubicBezTo>
                  <a:pt x="10983" y="5839"/>
                  <a:pt x="11034" y="5854"/>
                  <a:pt x="11112" y="5854"/>
                </a:cubicBezTo>
                <a:cubicBezTo>
                  <a:pt x="11170" y="5854"/>
                  <a:pt x="11179" y="5854"/>
                  <a:pt x="11212" y="5854"/>
                </a:cubicBezTo>
              </a:path>
              <a:path w="8930" h="1514">
                <a:moveTo>
                  <a:pt x="11286" y="5457"/>
                </a:moveTo>
                <a:cubicBezTo>
                  <a:pt x="11252" y="5593"/>
                  <a:pt x="11205" y="5739"/>
                  <a:pt x="11187" y="5879"/>
                </a:cubicBezTo>
                <a:cubicBezTo>
                  <a:pt x="11174" y="5979"/>
                  <a:pt x="11162" y="6074"/>
                  <a:pt x="11162" y="6176"/>
                </a:cubicBezTo>
                <a:cubicBezTo>
                  <a:pt x="11162" y="6234"/>
                  <a:pt x="11162" y="6243"/>
                  <a:pt x="11162" y="6276"/>
                </a:cubicBezTo>
              </a:path>
              <a:path w="8930" h="1514">
                <a:moveTo>
                  <a:pt x="11609" y="5407"/>
                </a:moveTo>
                <a:cubicBezTo>
                  <a:pt x="11553" y="5502"/>
                  <a:pt x="11494" y="5600"/>
                  <a:pt x="11460" y="5705"/>
                </a:cubicBezTo>
                <a:cubicBezTo>
                  <a:pt x="11432" y="5792"/>
                  <a:pt x="11381" y="5949"/>
                  <a:pt x="11410" y="6052"/>
                </a:cubicBezTo>
                <a:cubicBezTo>
                  <a:pt x="11422" y="6094"/>
                  <a:pt x="11471" y="6152"/>
                  <a:pt x="11509" y="6176"/>
                </a:cubicBezTo>
                <a:cubicBezTo>
                  <a:pt x="11550" y="6196"/>
                  <a:pt x="11556" y="6205"/>
                  <a:pt x="11584" y="6201"/>
                </a:cubicBezTo>
              </a:path>
              <a:path w="8930" h="1514">
                <a:moveTo>
                  <a:pt x="11584" y="5755"/>
                </a:moveTo>
                <a:cubicBezTo>
                  <a:pt x="11683" y="5737"/>
                  <a:pt x="11759" y="5730"/>
                  <a:pt x="11857" y="5730"/>
                </a:cubicBezTo>
              </a:path>
              <a:path w="8930" h="1514">
                <a:moveTo>
                  <a:pt x="11931" y="5457"/>
                </a:moveTo>
                <a:cubicBezTo>
                  <a:pt x="12017" y="5422"/>
                  <a:pt x="12126" y="5358"/>
                  <a:pt x="12204" y="5457"/>
                </a:cubicBezTo>
                <a:cubicBezTo>
                  <a:pt x="12241" y="5504"/>
                  <a:pt x="12214" y="5591"/>
                  <a:pt x="12179" y="5631"/>
                </a:cubicBezTo>
                <a:cubicBezTo>
                  <a:pt x="12122" y="5696"/>
                  <a:pt x="12089" y="5766"/>
                  <a:pt x="12030" y="5829"/>
                </a:cubicBezTo>
                <a:cubicBezTo>
                  <a:pt x="11994" y="5868"/>
                  <a:pt x="11938" y="5945"/>
                  <a:pt x="11956" y="6003"/>
                </a:cubicBezTo>
                <a:cubicBezTo>
                  <a:pt x="11970" y="6047"/>
                  <a:pt x="12094" y="6071"/>
                  <a:pt x="12129" y="6077"/>
                </a:cubicBezTo>
                <a:cubicBezTo>
                  <a:pt x="12205" y="6090"/>
                  <a:pt x="12275" y="6042"/>
                  <a:pt x="12328" y="6003"/>
                </a:cubicBezTo>
              </a:path>
              <a:path w="8930" h="1514">
                <a:moveTo>
                  <a:pt x="12402" y="5234"/>
                </a:moveTo>
                <a:cubicBezTo>
                  <a:pt x="12503" y="5344"/>
                  <a:pt x="12539" y="5412"/>
                  <a:pt x="12576" y="5556"/>
                </a:cubicBezTo>
                <a:cubicBezTo>
                  <a:pt x="12608" y="5677"/>
                  <a:pt x="12581" y="5778"/>
                  <a:pt x="12502" y="5879"/>
                </a:cubicBezTo>
                <a:cubicBezTo>
                  <a:pt x="12443" y="5956"/>
                  <a:pt x="12412" y="6021"/>
                  <a:pt x="12328" y="6077"/>
                </a:cubicBezTo>
                <a:cubicBezTo>
                  <a:pt x="12272" y="6114"/>
                  <a:pt x="12207" y="6137"/>
                  <a:pt x="12154" y="6176"/>
                </a:cubicBezTo>
                <a:cubicBezTo>
                  <a:pt x="12145" y="6182"/>
                  <a:pt x="12064" y="6268"/>
                  <a:pt x="12129" y="6201"/>
                </a:cubicBezTo>
              </a:path>
              <a:path w="8930" h="1514">
                <a:moveTo>
                  <a:pt x="12948" y="5234"/>
                </a:moveTo>
                <a:cubicBezTo>
                  <a:pt x="12919" y="5335"/>
                  <a:pt x="12882" y="5431"/>
                  <a:pt x="12849" y="5531"/>
                </a:cubicBezTo>
                <a:cubicBezTo>
                  <a:pt x="12812" y="5642"/>
                  <a:pt x="12753" y="5707"/>
                  <a:pt x="12750" y="5829"/>
                </a:cubicBezTo>
                <a:cubicBezTo>
                  <a:pt x="12747" y="5949"/>
                  <a:pt x="12756" y="6029"/>
                  <a:pt x="12824" y="6127"/>
                </a:cubicBezTo>
                <a:cubicBezTo>
                  <a:pt x="12863" y="6183"/>
                  <a:pt x="12914" y="6171"/>
                  <a:pt x="12973" y="6176"/>
                </a:cubicBezTo>
              </a:path>
              <a:path w="8930" h="1514">
                <a:moveTo>
                  <a:pt x="13097" y="5457"/>
                </a:moveTo>
                <a:cubicBezTo>
                  <a:pt x="13179" y="5457"/>
                  <a:pt x="13241" y="5471"/>
                  <a:pt x="13320" y="5482"/>
                </a:cubicBezTo>
                <a:cubicBezTo>
                  <a:pt x="13388" y="5492"/>
                  <a:pt x="13441" y="5468"/>
                  <a:pt x="13494" y="5457"/>
                </a:cubicBezTo>
                <a:cubicBezTo>
                  <a:pt x="13510" y="5457"/>
                  <a:pt x="13527" y="5457"/>
                  <a:pt x="13543" y="5457"/>
                </a:cubicBezTo>
                <a:cubicBezTo>
                  <a:pt x="13535" y="5551"/>
                  <a:pt x="13503" y="5593"/>
                  <a:pt x="13469" y="5680"/>
                </a:cubicBezTo>
                <a:cubicBezTo>
                  <a:pt x="13437" y="5761"/>
                  <a:pt x="13408" y="5846"/>
                  <a:pt x="13395" y="5928"/>
                </a:cubicBezTo>
                <a:cubicBezTo>
                  <a:pt x="13388" y="5975"/>
                  <a:pt x="13395" y="6030"/>
                  <a:pt x="13395" y="6077"/>
                </a:cubicBezTo>
              </a:path>
              <a:path w="8930" h="1514">
                <a:moveTo>
                  <a:pt x="13717" y="5184"/>
                </a:moveTo>
                <a:cubicBezTo>
                  <a:pt x="13832" y="5431"/>
                  <a:pt x="13938" y="5586"/>
                  <a:pt x="13891" y="5854"/>
                </a:cubicBezTo>
                <a:cubicBezTo>
                  <a:pt x="13872" y="5966"/>
                  <a:pt x="13792" y="6091"/>
                  <a:pt x="13692" y="6152"/>
                </a:cubicBezTo>
                <a:cubicBezTo>
                  <a:pt x="13608" y="6203"/>
                  <a:pt x="13486" y="6237"/>
                  <a:pt x="13395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4"/>
          <p:cNvSpPr/>
          <p:nvPr/>
        </p:nvSpPr>
        <p:spPr>
          <a:xfrm>
            <a:off x="2347920" y="2463840"/>
            <a:ext cx="2295360" cy="1260360"/>
          </a:xfrm>
          <a:custGeom>
            <a:avLst/>
            <a:gdLst/>
            <a:ahLst/>
            <a:rect l="l" t="t" r="r" b="b"/>
            <a:pathLst>
              <a:path w="6375" h="3499">
                <a:moveTo>
                  <a:pt x="6524" y="6871"/>
                </a:moveTo>
                <a:cubicBezTo>
                  <a:pt x="6612" y="6858"/>
                  <a:pt x="6680" y="6848"/>
                  <a:pt x="6772" y="6846"/>
                </a:cubicBezTo>
                <a:cubicBezTo>
                  <a:pt x="7138" y="6839"/>
                  <a:pt x="7499" y="6871"/>
                  <a:pt x="7863" y="6871"/>
                </a:cubicBezTo>
                <a:cubicBezTo>
                  <a:pt x="8478" y="6871"/>
                  <a:pt x="9086" y="6895"/>
                  <a:pt x="9699" y="6921"/>
                </a:cubicBezTo>
                <a:cubicBezTo>
                  <a:pt x="9972" y="6932"/>
                  <a:pt x="10245" y="6940"/>
                  <a:pt x="10517" y="6970"/>
                </a:cubicBezTo>
                <a:cubicBezTo>
                  <a:pt x="10853" y="7007"/>
                  <a:pt x="11196" y="7049"/>
                  <a:pt x="11534" y="7069"/>
                </a:cubicBezTo>
                <a:cubicBezTo>
                  <a:pt x="11764" y="7082"/>
                  <a:pt x="11999" y="7074"/>
                  <a:pt x="12229" y="7094"/>
                </a:cubicBezTo>
                <a:cubicBezTo>
                  <a:pt x="12419" y="7110"/>
                  <a:pt x="12638" y="7152"/>
                  <a:pt x="12824" y="7144"/>
                </a:cubicBezTo>
                <a:cubicBezTo>
                  <a:pt x="12869" y="7144"/>
                  <a:pt x="12882" y="7148"/>
                  <a:pt x="12898" y="7119"/>
                </a:cubicBezTo>
              </a:path>
              <a:path w="6375" h="3499">
                <a:moveTo>
                  <a:pt x="6747" y="9699"/>
                </a:moveTo>
                <a:cubicBezTo>
                  <a:pt x="6904" y="9748"/>
                  <a:pt x="7062" y="9730"/>
                  <a:pt x="7218" y="9773"/>
                </a:cubicBezTo>
                <a:cubicBezTo>
                  <a:pt x="7369" y="9814"/>
                  <a:pt x="7477" y="9823"/>
                  <a:pt x="7640" y="9823"/>
                </a:cubicBezTo>
                <a:cubicBezTo>
                  <a:pt x="7826" y="9823"/>
                  <a:pt x="7978" y="9890"/>
                  <a:pt x="8161" y="9897"/>
                </a:cubicBezTo>
                <a:cubicBezTo>
                  <a:pt x="8376" y="9905"/>
                  <a:pt x="8570" y="9964"/>
                  <a:pt x="8781" y="9971"/>
                </a:cubicBezTo>
                <a:cubicBezTo>
                  <a:pt x="9018" y="9979"/>
                  <a:pt x="9243" y="10020"/>
                  <a:pt x="9475" y="10046"/>
                </a:cubicBezTo>
                <a:cubicBezTo>
                  <a:pt x="9704" y="10072"/>
                  <a:pt x="9915" y="10101"/>
                  <a:pt x="10145" y="10120"/>
                </a:cubicBezTo>
                <a:cubicBezTo>
                  <a:pt x="10345" y="10136"/>
                  <a:pt x="10595" y="10172"/>
                  <a:pt x="10790" y="10220"/>
                </a:cubicBezTo>
                <a:cubicBezTo>
                  <a:pt x="10939" y="10257"/>
                  <a:pt x="11116" y="10251"/>
                  <a:pt x="11261" y="10294"/>
                </a:cubicBezTo>
                <a:cubicBezTo>
                  <a:pt x="11345" y="10319"/>
                  <a:pt x="11462" y="10384"/>
                  <a:pt x="11559" y="10344"/>
                </a:cubicBezTo>
                <a:cubicBezTo>
                  <a:pt x="11708" y="10283"/>
                  <a:pt x="11535" y="10435"/>
                  <a:pt x="11609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5"/>
          <p:cNvSpPr/>
          <p:nvPr/>
        </p:nvSpPr>
        <p:spPr>
          <a:xfrm>
            <a:off x="3071880" y="2536920"/>
            <a:ext cx="822240" cy="293760"/>
          </a:xfrm>
          <a:custGeom>
            <a:avLst/>
            <a:gdLst/>
            <a:ahLst/>
            <a:rect l="l" t="t" r="r" b="b"/>
            <a:pathLst>
              <a:path w="2283" h="819">
                <a:moveTo>
                  <a:pt x="8682" y="7193"/>
                </a:moveTo>
                <a:cubicBezTo>
                  <a:pt x="8687" y="7154"/>
                  <a:pt x="8704" y="7084"/>
                  <a:pt x="8756" y="7069"/>
                </a:cubicBezTo>
                <a:cubicBezTo>
                  <a:pt x="8841" y="7045"/>
                  <a:pt x="8909" y="7045"/>
                  <a:pt x="8979" y="7119"/>
                </a:cubicBezTo>
                <a:cubicBezTo>
                  <a:pt x="9020" y="7163"/>
                  <a:pt x="9037" y="7312"/>
                  <a:pt x="9029" y="7367"/>
                </a:cubicBezTo>
                <a:cubicBezTo>
                  <a:pt x="9014" y="7465"/>
                  <a:pt x="8987" y="7582"/>
                  <a:pt x="8930" y="7665"/>
                </a:cubicBezTo>
                <a:cubicBezTo>
                  <a:pt x="8897" y="7714"/>
                  <a:pt x="8788" y="7798"/>
                  <a:pt x="8731" y="7813"/>
                </a:cubicBezTo>
                <a:cubicBezTo>
                  <a:pt x="8681" y="7826"/>
                  <a:pt x="8570" y="7854"/>
                  <a:pt x="8533" y="7789"/>
                </a:cubicBezTo>
                <a:cubicBezTo>
                  <a:pt x="8509" y="7746"/>
                  <a:pt x="8549" y="7664"/>
                  <a:pt x="8582" y="7640"/>
                </a:cubicBezTo>
                <a:cubicBezTo>
                  <a:pt x="8640" y="7599"/>
                  <a:pt x="8718" y="7551"/>
                  <a:pt x="8781" y="7590"/>
                </a:cubicBezTo>
                <a:cubicBezTo>
                  <a:pt x="8865" y="7641"/>
                  <a:pt x="8934" y="7704"/>
                  <a:pt x="8979" y="7789"/>
                </a:cubicBezTo>
                <a:cubicBezTo>
                  <a:pt x="9012" y="7851"/>
                  <a:pt x="9002" y="7864"/>
                  <a:pt x="9054" y="7838"/>
                </a:cubicBezTo>
              </a:path>
              <a:path w="2283" h="819">
                <a:moveTo>
                  <a:pt x="9475" y="7169"/>
                </a:moveTo>
                <a:cubicBezTo>
                  <a:pt x="9435" y="7261"/>
                  <a:pt x="9349" y="7410"/>
                  <a:pt x="9327" y="7516"/>
                </a:cubicBezTo>
                <a:cubicBezTo>
                  <a:pt x="9311" y="7592"/>
                  <a:pt x="9325" y="7638"/>
                  <a:pt x="9376" y="7689"/>
                </a:cubicBezTo>
                <a:cubicBezTo>
                  <a:pt x="9428" y="7741"/>
                  <a:pt x="9447" y="7758"/>
                  <a:pt x="9500" y="7764"/>
                </a:cubicBezTo>
              </a:path>
              <a:path w="2283" h="819">
                <a:moveTo>
                  <a:pt x="9699" y="7417"/>
                </a:moveTo>
                <a:cubicBezTo>
                  <a:pt x="9753" y="7384"/>
                  <a:pt x="9804" y="7392"/>
                  <a:pt x="9872" y="7392"/>
                </a:cubicBezTo>
                <a:cubicBezTo>
                  <a:pt x="9889" y="7392"/>
                  <a:pt x="9905" y="7392"/>
                  <a:pt x="9922" y="7392"/>
                </a:cubicBezTo>
              </a:path>
              <a:path w="2283" h="819">
                <a:moveTo>
                  <a:pt x="10071" y="7169"/>
                </a:moveTo>
                <a:cubicBezTo>
                  <a:pt x="10158" y="7140"/>
                  <a:pt x="10213" y="7138"/>
                  <a:pt x="10294" y="7193"/>
                </a:cubicBezTo>
                <a:cubicBezTo>
                  <a:pt x="10369" y="7244"/>
                  <a:pt x="10330" y="7279"/>
                  <a:pt x="10294" y="7342"/>
                </a:cubicBezTo>
                <a:cubicBezTo>
                  <a:pt x="10239" y="7439"/>
                  <a:pt x="10162" y="7436"/>
                  <a:pt x="10096" y="7516"/>
                </a:cubicBezTo>
                <a:cubicBezTo>
                  <a:pt x="10050" y="7572"/>
                  <a:pt x="10040" y="7596"/>
                  <a:pt x="10046" y="7640"/>
                </a:cubicBezTo>
                <a:cubicBezTo>
                  <a:pt x="10057" y="7716"/>
                  <a:pt x="10089" y="7726"/>
                  <a:pt x="10170" y="7739"/>
                </a:cubicBezTo>
                <a:cubicBezTo>
                  <a:pt x="10235" y="7750"/>
                  <a:pt x="10285" y="7734"/>
                  <a:pt x="10344" y="7714"/>
                </a:cubicBezTo>
              </a:path>
              <a:path w="2283" h="819">
                <a:moveTo>
                  <a:pt x="10517" y="7119"/>
                </a:moveTo>
                <a:cubicBezTo>
                  <a:pt x="10611" y="7178"/>
                  <a:pt x="10676" y="7250"/>
                  <a:pt x="10740" y="7342"/>
                </a:cubicBezTo>
                <a:cubicBezTo>
                  <a:pt x="10790" y="7413"/>
                  <a:pt x="10857" y="7548"/>
                  <a:pt x="10815" y="7640"/>
                </a:cubicBezTo>
                <a:cubicBezTo>
                  <a:pt x="10781" y="7715"/>
                  <a:pt x="10655" y="7792"/>
                  <a:pt x="1059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1928880" y="3106800"/>
            <a:ext cx="1019160" cy="349200"/>
          </a:xfrm>
          <a:custGeom>
            <a:avLst/>
            <a:gdLst/>
            <a:ahLst/>
            <a:rect l="l" t="t" r="r" b="b"/>
            <a:pathLst>
              <a:path w="2829" h="968">
                <a:moveTo>
                  <a:pt x="5457" y="8657"/>
                </a:moveTo>
                <a:cubicBezTo>
                  <a:pt x="5485" y="8721"/>
                  <a:pt x="5506" y="8788"/>
                  <a:pt x="5531" y="8855"/>
                </a:cubicBezTo>
                <a:cubicBezTo>
                  <a:pt x="5572" y="8965"/>
                  <a:pt x="5619" y="9078"/>
                  <a:pt x="5680" y="9178"/>
                </a:cubicBezTo>
                <a:cubicBezTo>
                  <a:pt x="5727" y="9255"/>
                  <a:pt x="5787" y="9389"/>
                  <a:pt x="5854" y="9451"/>
                </a:cubicBezTo>
                <a:cubicBezTo>
                  <a:pt x="5902" y="9496"/>
                  <a:pt x="5966" y="9517"/>
                  <a:pt x="6028" y="9525"/>
                </a:cubicBezTo>
              </a:path>
              <a:path w="2829" h="968">
                <a:moveTo>
                  <a:pt x="5953" y="8706"/>
                </a:moveTo>
                <a:cubicBezTo>
                  <a:pt x="5862" y="8832"/>
                  <a:pt x="5772" y="8957"/>
                  <a:pt x="5680" y="9079"/>
                </a:cubicBezTo>
                <a:cubicBezTo>
                  <a:pt x="5604" y="9179"/>
                  <a:pt x="5527" y="9271"/>
                  <a:pt x="5457" y="9376"/>
                </a:cubicBezTo>
                <a:cubicBezTo>
                  <a:pt x="5404" y="9456"/>
                  <a:pt x="5370" y="9440"/>
                  <a:pt x="5358" y="9525"/>
                </a:cubicBezTo>
              </a:path>
              <a:path w="2829" h="968">
                <a:moveTo>
                  <a:pt x="6052" y="9079"/>
                </a:moveTo>
                <a:cubicBezTo>
                  <a:pt x="6166" y="9079"/>
                  <a:pt x="6267" y="9081"/>
                  <a:pt x="6375" y="9103"/>
                </a:cubicBezTo>
                <a:cubicBezTo>
                  <a:pt x="6383" y="9103"/>
                  <a:pt x="6392" y="9103"/>
                  <a:pt x="6400" y="9103"/>
                </a:cubicBezTo>
              </a:path>
              <a:path w="2829" h="968">
                <a:moveTo>
                  <a:pt x="6152" y="9376"/>
                </a:moveTo>
                <a:cubicBezTo>
                  <a:pt x="6292" y="9376"/>
                  <a:pt x="6433" y="9376"/>
                  <a:pt x="6573" y="9376"/>
                </a:cubicBezTo>
              </a:path>
              <a:path w="2829" h="968">
                <a:moveTo>
                  <a:pt x="6970" y="8731"/>
                </a:moveTo>
                <a:cubicBezTo>
                  <a:pt x="7134" y="8731"/>
                  <a:pt x="7181" y="8770"/>
                  <a:pt x="7317" y="8781"/>
                </a:cubicBezTo>
                <a:cubicBezTo>
                  <a:pt x="7384" y="8781"/>
                  <a:pt x="7409" y="8789"/>
                  <a:pt x="7392" y="8731"/>
                </a:cubicBezTo>
              </a:path>
              <a:path w="2829" h="968">
                <a:moveTo>
                  <a:pt x="6945" y="8781"/>
                </a:moveTo>
                <a:cubicBezTo>
                  <a:pt x="6914" y="8893"/>
                  <a:pt x="6903" y="8931"/>
                  <a:pt x="6921" y="9029"/>
                </a:cubicBezTo>
                <a:cubicBezTo>
                  <a:pt x="6921" y="9046"/>
                  <a:pt x="6921" y="9062"/>
                  <a:pt x="6921" y="9079"/>
                </a:cubicBezTo>
                <a:cubicBezTo>
                  <a:pt x="6996" y="9060"/>
                  <a:pt x="7034" y="9009"/>
                  <a:pt x="7119" y="9004"/>
                </a:cubicBezTo>
                <a:cubicBezTo>
                  <a:pt x="7213" y="8999"/>
                  <a:pt x="7262" y="9004"/>
                  <a:pt x="7317" y="9079"/>
                </a:cubicBezTo>
                <a:cubicBezTo>
                  <a:pt x="7375" y="9159"/>
                  <a:pt x="7413" y="9234"/>
                  <a:pt x="7417" y="9327"/>
                </a:cubicBezTo>
                <a:cubicBezTo>
                  <a:pt x="7424" y="9498"/>
                  <a:pt x="7346" y="9469"/>
                  <a:pt x="7218" y="9550"/>
                </a:cubicBezTo>
                <a:cubicBezTo>
                  <a:pt x="7202" y="9566"/>
                  <a:pt x="7185" y="9583"/>
                  <a:pt x="7169" y="9599"/>
                </a:cubicBezTo>
                <a:cubicBezTo>
                  <a:pt x="7101" y="9549"/>
                  <a:pt x="7060" y="9564"/>
                  <a:pt x="6995" y="9525"/>
                </a:cubicBezTo>
              </a:path>
              <a:path w="2829" h="968">
                <a:moveTo>
                  <a:pt x="7888" y="8632"/>
                </a:moveTo>
                <a:cubicBezTo>
                  <a:pt x="7897" y="8738"/>
                  <a:pt x="7913" y="8821"/>
                  <a:pt x="7913" y="8930"/>
                </a:cubicBezTo>
                <a:cubicBezTo>
                  <a:pt x="7913" y="9031"/>
                  <a:pt x="7937" y="8995"/>
                  <a:pt x="7913" y="9079"/>
                </a:cubicBezTo>
              </a:path>
              <a:path w="2829" h="968">
                <a:moveTo>
                  <a:pt x="7665" y="8954"/>
                </a:moveTo>
                <a:cubicBezTo>
                  <a:pt x="7783" y="8967"/>
                  <a:pt x="7896" y="8977"/>
                  <a:pt x="8012" y="9004"/>
                </a:cubicBezTo>
                <a:cubicBezTo>
                  <a:pt x="8029" y="9012"/>
                  <a:pt x="8045" y="9021"/>
                  <a:pt x="8062" y="9029"/>
                </a:cubicBezTo>
              </a:path>
              <a:path w="2829" h="968">
                <a:moveTo>
                  <a:pt x="7789" y="9252"/>
                </a:moveTo>
                <a:cubicBezTo>
                  <a:pt x="7899" y="9252"/>
                  <a:pt x="7963" y="9294"/>
                  <a:pt x="8062" y="9302"/>
                </a:cubicBezTo>
                <a:cubicBezTo>
                  <a:pt x="8128" y="9302"/>
                  <a:pt x="8145" y="9302"/>
                  <a:pt x="8186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2795760" y="3705120"/>
            <a:ext cx="482400" cy="43020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7764" y="10567"/>
                </a:moveTo>
                <a:cubicBezTo>
                  <a:pt x="7832" y="10567"/>
                  <a:pt x="7955" y="10564"/>
                  <a:pt x="8012" y="10592"/>
                </a:cubicBezTo>
                <a:cubicBezTo>
                  <a:pt x="8063" y="10642"/>
                  <a:pt x="8081" y="10658"/>
                  <a:pt x="8136" y="10641"/>
                </a:cubicBezTo>
              </a:path>
              <a:path w="1340" h="1192">
                <a:moveTo>
                  <a:pt x="8682" y="10492"/>
                </a:moveTo>
                <a:cubicBezTo>
                  <a:pt x="8633" y="10553"/>
                  <a:pt x="8603" y="10628"/>
                  <a:pt x="8558" y="10691"/>
                </a:cubicBezTo>
                <a:cubicBezTo>
                  <a:pt x="8539" y="10718"/>
                  <a:pt x="8506" y="10742"/>
                  <a:pt x="8483" y="10765"/>
                </a:cubicBezTo>
                <a:cubicBezTo>
                  <a:pt x="8541" y="10823"/>
                  <a:pt x="8584" y="10817"/>
                  <a:pt x="8657" y="10840"/>
                </a:cubicBezTo>
                <a:cubicBezTo>
                  <a:pt x="8740" y="10866"/>
                  <a:pt x="8817" y="10885"/>
                  <a:pt x="8905" y="10889"/>
                </a:cubicBezTo>
                <a:cubicBezTo>
                  <a:pt x="8921" y="10889"/>
                  <a:pt x="8938" y="10889"/>
                  <a:pt x="8954" y="10889"/>
                </a:cubicBezTo>
              </a:path>
              <a:path w="1340" h="1192">
                <a:moveTo>
                  <a:pt x="9079" y="10294"/>
                </a:moveTo>
                <a:cubicBezTo>
                  <a:pt x="9091" y="10582"/>
                  <a:pt x="9088" y="10828"/>
                  <a:pt x="9054" y="11112"/>
                </a:cubicBezTo>
                <a:cubicBezTo>
                  <a:pt x="9030" y="11305"/>
                  <a:pt x="9023" y="11365"/>
                  <a:pt x="89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6429240" y="1419120"/>
            <a:ext cx="428760" cy="573120"/>
          </a:xfrm>
          <a:custGeom>
            <a:avLst/>
            <a:gdLst/>
            <a:ahLst/>
            <a:rect l="l" t="t" r="r" b="b"/>
            <a:pathLst>
              <a:path w="1192" h="1588">
                <a:moveTo>
                  <a:pt x="18107" y="3944"/>
                </a:moveTo>
                <a:cubicBezTo>
                  <a:pt x="18107" y="4040"/>
                  <a:pt x="18086" y="4123"/>
                  <a:pt x="18083" y="4217"/>
                </a:cubicBezTo>
                <a:cubicBezTo>
                  <a:pt x="18080" y="4301"/>
                  <a:pt x="18101" y="4361"/>
                  <a:pt x="18107" y="4440"/>
                </a:cubicBezTo>
                <a:cubicBezTo>
                  <a:pt x="18107" y="4448"/>
                  <a:pt x="18107" y="4457"/>
                  <a:pt x="18107" y="4465"/>
                </a:cubicBezTo>
              </a:path>
              <a:path w="1192" h="1588">
                <a:moveTo>
                  <a:pt x="17859" y="4415"/>
                </a:moveTo>
                <a:cubicBezTo>
                  <a:pt x="17945" y="4431"/>
                  <a:pt x="17993" y="4415"/>
                  <a:pt x="18083" y="4415"/>
                </a:cubicBezTo>
                <a:cubicBezTo>
                  <a:pt x="18165" y="4415"/>
                  <a:pt x="18198" y="4415"/>
                  <a:pt x="18256" y="4415"/>
                </a:cubicBezTo>
              </a:path>
              <a:path w="1192" h="1588">
                <a:moveTo>
                  <a:pt x="17884" y="4961"/>
                </a:moveTo>
                <a:cubicBezTo>
                  <a:pt x="18014" y="4980"/>
                  <a:pt x="18034" y="4953"/>
                  <a:pt x="18157" y="4911"/>
                </a:cubicBezTo>
                <a:cubicBezTo>
                  <a:pt x="18182" y="4903"/>
                  <a:pt x="18206" y="4895"/>
                  <a:pt x="18231" y="4887"/>
                </a:cubicBezTo>
              </a:path>
              <a:path w="1192" h="1588">
                <a:moveTo>
                  <a:pt x="18752" y="3994"/>
                </a:moveTo>
                <a:cubicBezTo>
                  <a:pt x="18745" y="4129"/>
                  <a:pt x="18733" y="4257"/>
                  <a:pt x="18703" y="4390"/>
                </a:cubicBezTo>
                <a:cubicBezTo>
                  <a:pt x="18674" y="4521"/>
                  <a:pt x="18681" y="4657"/>
                  <a:pt x="18653" y="4787"/>
                </a:cubicBezTo>
                <a:cubicBezTo>
                  <a:pt x="18635" y="4871"/>
                  <a:pt x="18609" y="4951"/>
                  <a:pt x="18604" y="5035"/>
                </a:cubicBezTo>
                <a:cubicBezTo>
                  <a:pt x="18604" y="5085"/>
                  <a:pt x="18604" y="5102"/>
                  <a:pt x="18604" y="5135"/>
                </a:cubicBezTo>
              </a:path>
              <a:path w="1192" h="1588">
                <a:moveTo>
                  <a:pt x="19050" y="5085"/>
                </a:moveTo>
                <a:cubicBezTo>
                  <a:pt x="19050" y="5256"/>
                  <a:pt x="19039" y="5376"/>
                  <a:pt x="19025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7269120" y="1438200"/>
            <a:ext cx="133560" cy="339840"/>
          </a:xfrm>
          <a:custGeom>
            <a:avLst/>
            <a:gdLst/>
            <a:ahLst/>
            <a:rect l="l" t="t" r="r" b="b"/>
            <a:pathLst>
              <a:path w="373" h="943">
                <a:moveTo>
                  <a:pt x="20489" y="3994"/>
                </a:moveTo>
                <a:cubicBezTo>
                  <a:pt x="20489" y="4112"/>
                  <a:pt x="20524" y="4316"/>
                  <a:pt x="20464" y="4415"/>
                </a:cubicBezTo>
              </a:path>
              <a:path w="373" h="943">
                <a:moveTo>
                  <a:pt x="20191" y="4390"/>
                </a:moveTo>
                <a:cubicBezTo>
                  <a:pt x="20315" y="4390"/>
                  <a:pt x="20439" y="4390"/>
                  <a:pt x="20563" y="4390"/>
                </a:cubicBezTo>
              </a:path>
              <a:path w="373" h="943">
                <a:moveTo>
                  <a:pt x="20216" y="4887"/>
                </a:moveTo>
                <a:cubicBezTo>
                  <a:pt x="20338" y="4930"/>
                  <a:pt x="20364" y="4925"/>
                  <a:pt x="20489" y="4887"/>
                </a:cubicBezTo>
                <a:cubicBezTo>
                  <a:pt x="20514" y="4879"/>
                  <a:pt x="20538" y="4870"/>
                  <a:pt x="20563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7535880" y="1428840"/>
            <a:ext cx="21600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20935" y="4068"/>
                </a:moveTo>
                <a:cubicBezTo>
                  <a:pt x="21017" y="4037"/>
                  <a:pt x="21095" y="4042"/>
                  <a:pt x="21183" y="4018"/>
                </a:cubicBezTo>
                <a:cubicBezTo>
                  <a:pt x="21245" y="4001"/>
                  <a:pt x="21373" y="3964"/>
                  <a:pt x="21431" y="3969"/>
                </a:cubicBezTo>
                <a:cubicBezTo>
                  <a:pt x="21551" y="3979"/>
                  <a:pt x="21546" y="4070"/>
                  <a:pt x="21530" y="4167"/>
                </a:cubicBezTo>
                <a:cubicBezTo>
                  <a:pt x="21512" y="4277"/>
                  <a:pt x="21472" y="4382"/>
                  <a:pt x="21456" y="4490"/>
                </a:cubicBezTo>
                <a:cubicBezTo>
                  <a:pt x="21442" y="4580"/>
                  <a:pt x="21478" y="4651"/>
                  <a:pt x="21481" y="4738"/>
                </a:cubicBezTo>
                <a:cubicBezTo>
                  <a:pt x="21483" y="4787"/>
                  <a:pt x="21481" y="4837"/>
                  <a:pt x="21481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6419880" y="2152800"/>
            <a:ext cx="152280" cy="27612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18132" y="5978"/>
                </a:moveTo>
                <a:cubicBezTo>
                  <a:pt x="18108" y="6066"/>
                  <a:pt x="18107" y="6134"/>
                  <a:pt x="18107" y="6226"/>
                </a:cubicBezTo>
                <a:cubicBezTo>
                  <a:pt x="18107" y="6309"/>
                  <a:pt x="18119" y="6349"/>
                  <a:pt x="18157" y="6424"/>
                </a:cubicBezTo>
              </a:path>
              <a:path w="422" h="770">
                <a:moveTo>
                  <a:pt x="17835" y="6375"/>
                </a:moveTo>
                <a:cubicBezTo>
                  <a:pt x="17973" y="6403"/>
                  <a:pt x="18116" y="6413"/>
                  <a:pt x="18256" y="6424"/>
                </a:cubicBezTo>
              </a:path>
              <a:path w="422" h="770">
                <a:moveTo>
                  <a:pt x="17859" y="6722"/>
                </a:moveTo>
                <a:cubicBezTo>
                  <a:pt x="17986" y="6747"/>
                  <a:pt x="18101" y="6747"/>
                  <a:pt x="1823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2"/>
          <p:cNvSpPr/>
          <p:nvPr/>
        </p:nvSpPr>
        <p:spPr>
          <a:xfrm>
            <a:off x="6786720" y="2214720"/>
            <a:ext cx="27000" cy="2142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18926" y="6152"/>
                </a:moveTo>
                <a:cubicBezTo>
                  <a:pt x="18904" y="6289"/>
                  <a:pt x="18859" y="6435"/>
                  <a:pt x="18852" y="6573"/>
                </a:cubicBezTo>
                <a:cubicBezTo>
                  <a:pt x="18849" y="6631"/>
                  <a:pt x="18852" y="6689"/>
                  <a:pt x="18852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3"/>
          <p:cNvSpPr/>
          <p:nvPr/>
        </p:nvSpPr>
        <p:spPr>
          <a:xfrm>
            <a:off x="7027920" y="2152800"/>
            <a:ext cx="723960" cy="446040"/>
          </a:xfrm>
          <a:custGeom>
            <a:avLst/>
            <a:gdLst/>
            <a:ahLst/>
            <a:rect l="l" t="t" r="r" b="b"/>
            <a:pathLst>
              <a:path w="2010" h="1241">
                <a:moveTo>
                  <a:pt x="19621" y="6846"/>
                </a:moveTo>
                <a:cubicBezTo>
                  <a:pt x="19605" y="6944"/>
                  <a:pt x="19589" y="7100"/>
                  <a:pt x="19546" y="7193"/>
                </a:cubicBezTo>
                <a:cubicBezTo>
                  <a:pt x="19538" y="7201"/>
                  <a:pt x="19529" y="7210"/>
                  <a:pt x="19521" y="7218"/>
                </a:cubicBezTo>
              </a:path>
              <a:path w="2010" h="1241">
                <a:moveTo>
                  <a:pt x="20315" y="6028"/>
                </a:moveTo>
                <a:cubicBezTo>
                  <a:pt x="20309" y="6131"/>
                  <a:pt x="20290" y="6222"/>
                  <a:pt x="20290" y="6325"/>
                </a:cubicBezTo>
                <a:cubicBezTo>
                  <a:pt x="20290" y="6367"/>
                  <a:pt x="20290" y="6375"/>
                  <a:pt x="20290" y="6400"/>
                </a:cubicBezTo>
              </a:path>
              <a:path w="2010" h="1241">
                <a:moveTo>
                  <a:pt x="20017" y="6350"/>
                </a:moveTo>
                <a:cubicBezTo>
                  <a:pt x="20133" y="6350"/>
                  <a:pt x="20249" y="6350"/>
                  <a:pt x="20365" y="6350"/>
                </a:cubicBezTo>
              </a:path>
              <a:path w="2010" h="1241">
                <a:moveTo>
                  <a:pt x="20141" y="6623"/>
                </a:moveTo>
                <a:cubicBezTo>
                  <a:pt x="20204" y="6655"/>
                  <a:pt x="20311" y="6663"/>
                  <a:pt x="20389" y="6648"/>
                </a:cubicBezTo>
                <a:cubicBezTo>
                  <a:pt x="20414" y="6640"/>
                  <a:pt x="20439" y="6631"/>
                  <a:pt x="20464" y="6623"/>
                </a:cubicBezTo>
              </a:path>
              <a:path w="2010" h="1241">
                <a:moveTo>
                  <a:pt x="20861" y="6052"/>
                </a:moveTo>
                <a:cubicBezTo>
                  <a:pt x="20991" y="5994"/>
                  <a:pt x="21034" y="5948"/>
                  <a:pt x="21158" y="6003"/>
                </a:cubicBezTo>
                <a:cubicBezTo>
                  <a:pt x="21269" y="6052"/>
                  <a:pt x="21220" y="6139"/>
                  <a:pt x="21183" y="6226"/>
                </a:cubicBezTo>
                <a:cubicBezTo>
                  <a:pt x="21145" y="6314"/>
                  <a:pt x="21086" y="6373"/>
                  <a:pt x="21034" y="6449"/>
                </a:cubicBezTo>
                <a:cubicBezTo>
                  <a:pt x="21004" y="6493"/>
                  <a:pt x="20914" y="6534"/>
                  <a:pt x="20935" y="6598"/>
                </a:cubicBezTo>
                <a:cubicBezTo>
                  <a:pt x="20960" y="6672"/>
                  <a:pt x="21057" y="6660"/>
                  <a:pt x="21109" y="6672"/>
                </a:cubicBezTo>
                <a:cubicBezTo>
                  <a:pt x="21239" y="6702"/>
                  <a:pt x="21325" y="6686"/>
                  <a:pt x="21456" y="6648"/>
                </a:cubicBezTo>
                <a:cubicBezTo>
                  <a:pt x="21481" y="6640"/>
                  <a:pt x="21505" y="6631"/>
                  <a:pt x="21530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4"/>
          <p:cNvSpPr/>
          <p:nvPr/>
        </p:nvSpPr>
        <p:spPr>
          <a:xfrm>
            <a:off x="6357960" y="2847960"/>
            <a:ext cx="179280" cy="31428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7934" y="7913"/>
                </a:moveTo>
                <a:cubicBezTo>
                  <a:pt x="17912" y="8021"/>
                  <a:pt x="17888" y="8126"/>
                  <a:pt x="17884" y="8235"/>
                </a:cubicBezTo>
                <a:cubicBezTo>
                  <a:pt x="17882" y="8301"/>
                  <a:pt x="17884" y="8368"/>
                  <a:pt x="17884" y="8434"/>
                </a:cubicBezTo>
              </a:path>
              <a:path w="497" h="869">
                <a:moveTo>
                  <a:pt x="17661" y="8334"/>
                </a:moveTo>
                <a:cubicBezTo>
                  <a:pt x="17862" y="8359"/>
                  <a:pt x="17942" y="8375"/>
                  <a:pt x="18107" y="8409"/>
                </a:cubicBezTo>
              </a:path>
              <a:path w="497" h="869">
                <a:moveTo>
                  <a:pt x="17711" y="8781"/>
                </a:moveTo>
                <a:cubicBezTo>
                  <a:pt x="17813" y="8781"/>
                  <a:pt x="17888" y="8744"/>
                  <a:pt x="17983" y="8706"/>
                </a:cubicBezTo>
                <a:cubicBezTo>
                  <a:pt x="18041" y="8681"/>
                  <a:pt x="18099" y="8657"/>
                  <a:pt x="18157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5"/>
          <p:cNvSpPr/>
          <p:nvPr/>
        </p:nvSpPr>
        <p:spPr>
          <a:xfrm>
            <a:off x="6697800" y="2857680"/>
            <a:ext cx="152280" cy="553680"/>
          </a:xfrm>
          <a:custGeom>
            <a:avLst/>
            <a:gdLst/>
            <a:ahLst/>
            <a:rect l="l" t="t" r="r" b="b"/>
            <a:pathLst>
              <a:path w="422" h="1538">
                <a:moveTo>
                  <a:pt x="18728" y="7938"/>
                </a:moveTo>
                <a:cubicBezTo>
                  <a:pt x="18707" y="8071"/>
                  <a:pt x="18672" y="8203"/>
                  <a:pt x="18653" y="8334"/>
                </a:cubicBezTo>
                <a:cubicBezTo>
                  <a:pt x="18639" y="8430"/>
                  <a:pt x="18647" y="8537"/>
                  <a:pt x="18628" y="8632"/>
                </a:cubicBezTo>
                <a:cubicBezTo>
                  <a:pt x="18610" y="8724"/>
                  <a:pt x="18592" y="8769"/>
                  <a:pt x="18628" y="8855"/>
                </a:cubicBezTo>
              </a:path>
              <a:path w="422" h="1538">
                <a:moveTo>
                  <a:pt x="19025" y="8806"/>
                </a:moveTo>
                <a:cubicBezTo>
                  <a:pt x="18998" y="8948"/>
                  <a:pt x="18969" y="9088"/>
                  <a:pt x="18926" y="9227"/>
                </a:cubicBezTo>
                <a:cubicBezTo>
                  <a:pt x="18902" y="9303"/>
                  <a:pt x="18848" y="9364"/>
                  <a:pt x="18876" y="9451"/>
                </a:cubicBezTo>
                <a:cubicBezTo>
                  <a:pt x="18884" y="9459"/>
                  <a:pt x="18893" y="9467"/>
                  <a:pt x="18901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6"/>
          <p:cNvSpPr/>
          <p:nvPr/>
        </p:nvSpPr>
        <p:spPr>
          <a:xfrm>
            <a:off x="7072200" y="2759040"/>
            <a:ext cx="1625760" cy="662040"/>
          </a:xfrm>
          <a:custGeom>
            <a:avLst/>
            <a:gdLst/>
            <a:ahLst/>
            <a:rect l="l" t="t" r="r" b="b"/>
            <a:pathLst>
              <a:path w="4516" h="1836">
                <a:moveTo>
                  <a:pt x="19819" y="7789"/>
                </a:moveTo>
                <a:cubicBezTo>
                  <a:pt x="19819" y="7954"/>
                  <a:pt x="19819" y="8120"/>
                  <a:pt x="19819" y="8285"/>
                </a:cubicBezTo>
              </a:path>
              <a:path w="4516" h="1836">
                <a:moveTo>
                  <a:pt x="19645" y="8037"/>
                </a:moveTo>
                <a:cubicBezTo>
                  <a:pt x="19797" y="8075"/>
                  <a:pt x="19944" y="8112"/>
                  <a:pt x="20092" y="8161"/>
                </a:cubicBezTo>
              </a:path>
              <a:path w="4516" h="1836">
                <a:moveTo>
                  <a:pt x="19695" y="8582"/>
                </a:moveTo>
                <a:cubicBezTo>
                  <a:pt x="19812" y="8582"/>
                  <a:pt x="19885" y="8584"/>
                  <a:pt x="19993" y="8558"/>
                </a:cubicBezTo>
              </a:path>
              <a:path w="4516" h="1836">
                <a:moveTo>
                  <a:pt x="20290" y="7888"/>
                </a:moveTo>
                <a:cubicBezTo>
                  <a:pt x="20432" y="7905"/>
                  <a:pt x="20572" y="7932"/>
                  <a:pt x="20712" y="7938"/>
                </a:cubicBezTo>
                <a:cubicBezTo>
                  <a:pt x="20762" y="7938"/>
                  <a:pt x="20778" y="7938"/>
                  <a:pt x="20811" y="7938"/>
                </a:cubicBezTo>
                <a:cubicBezTo>
                  <a:pt x="20839" y="8061"/>
                  <a:pt x="20767" y="8189"/>
                  <a:pt x="20712" y="8310"/>
                </a:cubicBezTo>
                <a:cubicBezTo>
                  <a:pt x="20658" y="8429"/>
                  <a:pt x="20535" y="8641"/>
                  <a:pt x="20588" y="8781"/>
                </a:cubicBezTo>
                <a:cubicBezTo>
                  <a:pt x="20602" y="8818"/>
                  <a:pt x="20682" y="8847"/>
                  <a:pt x="20712" y="8855"/>
                </a:cubicBezTo>
              </a:path>
              <a:path w="4516" h="1836">
                <a:moveTo>
                  <a:pt x="21208" y="9029"/>
                </a:moveTo>
                <a:cubicBezTo>
                  <a:pt x="21167" y="9186"/>
                  <a:pt x="21120" y="9308"/>
                  <a:pt x="21109" y="9475"/>
                </a:cubicBezTo>
                <a:cubicBezTo>
                  <a:pt x="21109" y="9483"/>
                  <a:pt x="21109" y="9492"/>
                  <a:pt x="21109" y="9500"/>
                </a:cubicBezTo>
              </a:path>
              <a:path w="4516" h="1836">
                <a:moveTo>
                  <a:pt x="21779" y="7789"/>
                </a:moveTo>
                <a:cubicBezTo>
                  <a:pt x="21770" y="7899"/>
                  <a:pt x="21733" y="7999"/>
                  <a:pt x="21729" y="8111"/>
                </a:cubicBezTo>
                <a:cubicBezTo>
                  <a:pt x="21729" y="8179"/>
                  <a:pt x="21726" y="8198"/>
                  <a:pt x="21754" y="8235"/>
                </a:cubicBezTo>
              </a:path>
              <a:path w="4516" h="1836">
                <a:moveTo>
                  <a:pt x="21456" y="8062"/>
                </a:moveTo>
                <a:cubicBezTo>
                  <a:pt x="21605" y="8032"/>
                  <a:pt x="21658" y="8070"/>
                  <a:pt x="21803" y="8086"/>
                </a:cubicBezTo>
                <a:cubicBezTo>
                  <a:pt x="21836" y="8086"/>
                  <a:pt x="21870" y="8086"/>
                  <a:pt x="21903" y="8086"/>
                </a:cubicBezTo>
              </a:path>
              <a:path w="4516" h="1836">
                <a:moveTo>
                  <a:pt x="21605" y="8483"/>
                </a:moveTo>
                <a:cubicBezTo>
                  <a:pt x="21756" y="8483"/>
                  <a:pt x="21830" y="8474"/>
                  <a:pt x="21977" y="8434"/>
                </a:cubicBezTo>
              </a:path>
              <a:path w="4516" h="1836">
                <a:moveTo>
                  <a:pt x="22399" y="7665"/>
                </a:moveTo>
                <a:cubicBezTo>
                  <a:pt x="22389" y="7745"/>
                  <a:pt x="22389" y="7832"/>
                  <a:pt x="22374" y="7913"/>
                </a:cubicBezTo>
                <a:cubicBezTo>
                  <a:pt x="22346" y="7997"/>
                  <a:pt x="22332" y="8032"/>
                  <a:pt x="22299" y="8086"/>
                </a:cubicBezTo>
              </a:path>
              <a:path w="4516" h="1836">
                <a:moveTo>
                  <a:pt x="22151" y="8260"/>
                </a:moveTo>
                <a:cubicBezTo>
                  <a:pt x="22258" y="8260"/>
                  <a:pt x="22366" y="8260"/>
                  <a:pt x="22473" y="8260"/>
                </a:cubicBezTo>
              </a:path>
              <a:path w="4516" h="1836">
                <a:moveTo>
                  <a:pt x="22250" y="8409"/>
                </a:moveTo>
                <a:cubicBezTo>
                  <a:pt x="22351" y="8409"/>
                  <a:pt x="22489" y="8384"/>
                  <a:pt x="22572" y="8434"/>
                </a:cubicBezTo>
                <a:cubicBezTo>
                  <a:pt x="22532" y="8494"/>
                  <a:pt x="22488" y="8537"/>
                  <a:pt x="22423" y="8582"/>
                </a:cubicBezTo>
                <a:cubicBezTo>
                  <a:pt x="22343" y="8638"/>
                  <a:pt x="22296" y="8731"/>
                  <a:pt x="22225" y="8781"/>
                </a:cubicBezTo>
                <a:cubicBezTo>
                  <a:pt x="22217" y="8781"/>
                  <a:pt x="22208" y="8781"/>
                  <a:pt x="22200" y="8781"/>
                </a:cubicBezTo>
                <a:cubicBezTo>
                  <a:pt x="22250" y="8843"/>
                  <a:pt x="22270" y="8892"/>
                  <a:pt x="22349" y="8930"/>
                </a:cubicBezTo>
                <a:cubicBezTo>
                  <a:pt x="22470" y="8988"/>
                  <a:pt x="22611" y="9018"/>
                  <a:pt x="22721" y="8930"/>
                </a:cubicBezTo>
                <a:cubicBezTo>
                  <a:pt x="22762" y="8880"/>
                  <a:pt x="22804" y="8831"/>
                  <a:pt x="22845" y="8781"/>
                </a:cubicBezTo>
              </a:path>
              <a:path w="4516" h="1836">
                <a:moveTo>
                  <a:pt x="22870" y="9103"/>
                </a:moveTo>
                <a:cubicBezTo>
                  <a:pt x="22853" y="9215"/>
                  <a:pt x="22800" y="9346"/>
                  <a:pt x="22845" y="9451"/>
                </a:cubicBezTo>
              </a:path>
              <a:path w="4516" h="1836">
                <a:moveTo>
                  <a:pt x="23267" y="7987"/>
                </a:moveTo>
                <a:cubicBezTo>
                  <a:pt x="23247" y="8073"/>
                  <a:pt x="23242" y="8146"/>
                  <a:pt x="23242" y="8235"/>
                </a:cubicBezTo>
              </a:path>
              <a:path w="4516" h="1836">
                <a:moveTo>
                  <a:pt x="23093" y="7962"/>
                </a:moveTo>
                <a:cubicBezTo>
                  <a:pt x="23177" y="7962"/>
                  <a:pt x="23237" y="7977"/>
                  <a:pt x="23316" y="7987"/>
                </a:cubicBezTo>
              </a:path>
              <a:path w="4516" h="1836">
                <a:moveTo>
                  <a:pt x="23118" y="8310"/>
                </a:moveTo>
                <a:cubicBezTo>
                  <a:pt x="23232" y="8324"/>
                  <a:pt x="23308" y="8334"/>
                  <a:pt x="23416" y="8334"/>
                </a:cubicBezTo>
              </a:path>
              <a:path w="4516" h="1836">
                <a:moveTo>
                  <a:pt x="23639" y="7764"/>
                </a:moveTo>
                <a:cubicBezTo>
                  <a:pt x="23770" y="7764"/>
                  <a:pt x="23915" y="7743"/>
                  <a:pt x="24036" y="7789"/>
                </a:cubicBezTo>
                <a:cubicBezTo>
                  <a:pt x="24009" y="7860"/>
                  <a:pt x="23952" y="7938"/>
                  <a:pt x="23937" y="8012"/>
                </a:cubicBezTo>
                <a:cubicBezTo>
                  <a:pt x="23918" y="8104"/>
                  <a:pt x="23932" y="8180"/>
                  <a:pt x="23912" y="8260"/>
                </a:cubicBezTo>
              </a:path>
              <a:path w="4516" h="1836">
                <a:moveTo>
                  <a:pt x="23738" y="8310"/>
                </a:moveTo>
                <a:cubicBezTo>
                  <a:pt x="23843" y="8332"/>
                  <a:pt x="23929" y="8334"/>
                  <a:pt x="24036" y="8334"/>
                </a:cubicBezTo>
              </a:path>
              <a:path w="4516" h="1836">
                <a:moveTo>
                  <a:pt x="23862" y="8483"/>
                </a:moveTo>
                <a:cubicBezTo>
                  <a:pt x="23921" y="8483"/>
                  <a:pt x="24092" y="8449"/>
                  <a:pt x="24135" y="8508"/>
                </a:cubicBezTo>
                <a:cubicBezTo>
                  <a:pt x="24203" y="8602"/>
                  <a:pt x="24134" y="8703"/>
                  <a:pt x="24085" y="8781"/>
                </a:cubicBezTo>
                <a:cubicBezTo>
                  <a:pt x="24017" y="8889"/>
                  <a:pt x="23970" y="8902"/>
                  <a:pt x="23937" y="9029"/>
                </a:cubicBezTo>
                <a:cubicBezTo>
                  <a:pt x="23912" y="9127"/>
                  <a:pt x="23912" y="9154"/>
                  <a:pt x="23937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7"/>
          <p:cNvSpPr/>
          <p:nvPr/>
        </p:nvSpPr>
        <p:spPr>
          <a:xfrm>
            <a:off x="6143760" y="2017800"/>
            <a:ext cx="2017440" cy="54000"/>
          </a:xfrm>
          <a:custGeom>
            <a:avLst/>
            <a:gdLst/>
            <a:ahLst/>
            <a:rect l="l" t="t" r="r" b="b"/>
            <a:pathLst>
              <a:path w="5606" h="150">
                <a:moveTo>
                  <a:pt x="17066" y="5606"/>
                </a:moveTo>
                <a:cubicBezTo>
                  <a:pt x="17720" y="5606"/>
                  <a:pt x="18372" y="5631"/>
                  <a:pt x="19025" y="5631"/>
                </a:cubicBezTo>
                <a:cubicBezTo>
                  <a:pt x="19473" y="5631"/>
                  <a:pt x="19918" y="5643"/>
                  <a:pt x="20365" y="5655"/>
                </a:cubicBezTo>
                <a:cubicBezTo>
                  <a:pt x="20827" y="5668"/>
                  <a:pt x="21294" y="5687"/>
                  <a:pt x="21754" y="5730"/>
                </a:cubicBezTo>
                <a:cubicBezTo>
                  <a:pt x="22030" y="5756"/>
                  <a:pt x="22347" y="5797"/>
                  <a:pt x="22622" y="5730"/>
                </a:cubicBezTo>
                <a:cubicBezTo>
                  <a:pt x="22638" y="5722"/>
                  <a:pt x="22655" y="5713"/>
                  <a:pt x="22671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(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) = 2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3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8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8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17,19,29,31,37</a:t>
            </a:r>
            <a:br>
              <a:rPr sz="7500"/>
            </a:br>
            <a:r>
              <a:rPr b="0" i="1" lang="en-US" sz="7500" spc="-1" strike="noStrike">
                <a:solidFill>
                  <a:srgbClr val="ffff99"/>
                </a:solidFill>
                <a:latin typeface="Arial"/>
              </a:rPr>
              <a:t>(find all zeros)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damental Theorem of Algeb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nomial of N degree has exactly N complex zeros or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, though, that a polynomial may contain “double roo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nd </a:t>
            </a: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ro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x +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a function is difficult to solve, use the “root test”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ot 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8" name="Object 13"/>
          <p:cNvGraphicFramePr/>
          <p:nvPr/>
        </p:nvGraphicFramePr>
        <p:xfrm>
          <a:off x="1219320" y="2514600"/>
          <a:ext cx="6629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29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1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39x + 2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0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 + 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3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25x + 7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Ink 3"/>
          <p:cNvSpPr/>
          <p:nvPr/>
        </p:nvSpPr>
        <p:spPr>
          <a:xfrm>
            <a:off x="919080" y="1276200"/>
            <a:ext cx="3537000" cy="635040"/>
          </a:xfrm>
          <a:custGeom>
            <a:avLst/>
            <a:gdLst/>
            <a:ahLst/>
            <a:rect l="l" t="t" r="r" b="b"/>
            <a:pathLst>
              <a:path w="9824" h="1762">
                <a:moveTo>
                  <a:pt x="2803" y="3547"/>
                </a:moveTo>
                <a:cubicBezTo>
                  <a:pt x="2803" y="3626"/>
                  <a:pt x="2824" y="3693"/>
                  <a:pt x="2828" y="3770"/>
                </a:cubicBezTo>
                <a:cubicBezTo>
                  <a:pt x="2831" y="3826"/>
                  <a:pt x="2833" y="3942"/>
                  <a:pt x="2828" y="3994"/>
                </a:cubicBezTo>
                <a:cubicBezTo>
                  <a:pt x="2824" y="4033"/>
                  <a:pt x="2797" y="4087"/>
                  <a:pt x="2778" y="4118"/>
                </a:cubicBezTo>
              </a:path>
              <a:path w="9824" h="1762">
                <a:moveTo>
                  <a:pt x="2555" y="3969"/>
                </a:moveTo>
                <a:cubicBezTo>
                  <a:pt x="2645" y="3969"/>
                  <a:pt x="2718" y="3949"/>
                  <a:pt x="2803" y="3944"/>
                </a:cubicBezTo>
                <a:cubicBezTo>
                  <a:pt x="2843" y="3942"/>
                  <a:pt x="3124" y="3924"/>
                  <a:pt x="3125" y="3969"/>
                </a:cubicBezTo>
                <a:cubicBezTo>
                  <a:pt x="3117" y="3969"/>
                  <a:pt x="3109" y="3969"/>
                  <a:pt x="3101" y="3969"/>
                </a:cubicBezTo>
              </a:path>
              <a:path w="9824" h="1762">
                <a:moveTo>
                  <a:pt x="2555" y="4564"/>
                </a:moveTo>
                <a:cubicBezTo>
                  <a:pt x="2696" y="4564"/>
                  <a:pt x="2836" y="4564"/>
                  <a:pt x="2977" y="4564"/>
                </a:cubicBezTo>
              </a:path>
              <a:path w="9824" h="1762">
                <a:moveTo>
                  <a:pt x="3572" y="3746"/>
                </a:moveTo>
                <a:cubicBezTo>
                  <a:pt x="3548" y="3817"/>
                  <a:pt x="3524" y="3893"/>
                  <a:pt x="3522" y="3969"/>
                </a:cubicBezTo>
                <a:cubicBezTo>
                  <a:pt x="3516" y="4154"/>
                  <a:pt x="3527" y="4337"/>
                  <a:pt x="3497" y="4514"/>
                </a:cubicBezTo>
                <a:cubicBezTo>
                  <a:pt x="3486" y="4582"/>
                  <a:pt x="3478" y="4649"/>
                  <a:pt x="3473" y="4713"/>
                </a:cubicBezTo>
                <a:cubicBezTo>
                  <a:pt x="3473" y="4721"/>
                  <a:pt x="3473" y="4730"/>
                  <a:pt x="3473" y="4738"/>
                </a:cubicBezTo>
              </a:path>
              <a:path w="9824" h="1762">
                <a:moveTo>
                  <a:pt x="3820" y="4663"/>
                </a:moveTo>
                <a:cubicBezTo>
                  <a:pt x="3797" y="4724"/>
                  <a:pt x="3796" y="4807"/>
                  <a:pt x="3770" y="4862"/>
                </a:cubicBezTo>
                <a:cubicBezTo>
                  <a:pt x="3735" y="4935"/>
                  <a:pt x="3714" y="4990"/>
                  <a:pt x="3696" y="5060"/>
                </a:cubicBezTo>
              </a:path>
              <a:path w="9824" h="1762">
                <a:moveTo>
                  <a:pt x="4341" y="3671"/>
                </a:moveTo>
                <a:cubicBezTo>
                  <a:pt x="4341" y="3787"/>
                  <a:pt x="4321" y="3865"/>
                  <a:pt x="4316" y="3969"/>
                </a:cubicBezTo>
                <a:cubicBezTo>
                  <a:pt x="4313" y="4048"/>
                  <a:pt x="4311" y="4101"/>
                  <a:pt x="4291" y="4167"/>
                </a:cubicBezTo>
                <a:cubicBezTo>
                  <a:pt x="4291" y="4175"/>
                  <a:pt x="4291" y="4184"/>
                  <a:pt x="4291" y="4192"/>
                </a:cubicBezTo>
              </a:path>
              <a:path w="9824" h="1762">
                <a:moveTo>
                  <a:pt x="4118" y="4068"/>
                </a:moveTo>
                <a:cubicBezTo>
                  <a:pt x="4267" y="4068"/>
                  <a:pt x="4415" y="4068"/>
                  <a:pt x="4564" y="4068"/>
                </a:cubicBezTo>
              </a:path>
              <a:path w="9824" h="1762">
                <a:moveTo>
                  <a:pt x="4093" y="4539"/>
                </a:moveTo>
                <a:cubicBezTo>
                  <a:pt x="4206" y="4539"/>
                  <a:pt x="4306" y="4529"/>
                  <a:pt x="4415" y="4514"/>
                </a:cubicBezTo>
                <a:cubicBezTo>
                  <a:pt x="4432" y="4514"/>
                  <a:pt x="4448" y="4514"/>
                  <a:pt x="4465" y="4514"/>
                </a:cubicBezTo>
              </a:path>
              <a:path w="9824" h="1762">
                <a:moveTo>
                  <a:pt x="4862" y="3770"/>
                </a:moveTo>
                <a:cubicBezTo>
                  <a:pt x="4896" y="3711"/>
                  <a:pt x="4920" y="3673"/>
                  <a:pt x="4986" y="3646"/>
                </a:cubicBezTo>
                <a:cubicBezTo>
                  <a:pt x="5074" y="3609"/>
                  <a:pt x="5138" y="3607"/>
                  <a:pt x="5209" y="3671"/>
                </a:cubicBezTo>
                <a:cubicBezTo>
                  <a:pt x="5243" y="3702"/>
                  <a:pt x="5205" y="3773"/>
                  <a:pt x="5184" y="3820"/>
                </a:cubicBezTo>
                <a:cubicBezTo>
                  <a:pt x="5154" y="3888"/>
                  <a:pt x="5088" y="3924"/>
                  <a:pt x="5035" y="3969"/>
                </a:cubicBezTo>
                <a:cubicBezTo>
                  <a:pt x="4973" y="4021"/>
                  <a:pt x="4932" y="4077"/>
                  <a:pt x="4862" y="4118"/>
                </a:cubicBezTo>
                <a:cubicBezTo>
                  <a:pt x="4909" y="4089"/>
                  <a:pt x="4954" y="4071"/>
                  <a:pt x="5011" y="4068"/>
                </a:cubicBezTo>
                <a:cubicBezTo>
                  <a:pt x="5069" y="4065"/>
                  <a:pt x="5121" y="4106"/>
                  <a:pt x="5135" y="4167"/>
                </a:cubicBezTo>
                <a:cubicBezTo>
                  <a:pt x="5152" y="4237"/>
                  <a:pt x="5180" y="4341"/>
                  <a:pt x="5159" y="4415"/>
                </a:cubicBezTo>
                <a:cubicBezTo>
                  <a:pt x="5148" y="4455"/>
                  <a:pt x="5030" y="4554"/>
                  <a:pt x="4986" y="4564"/>
                </a:cubicBezTo>
                <a:cubicBezTo>
                  <a:pt x="4912" y="4582"/>
                  <a:pt x="4750" y="4577"/>
                  <a:pt x="4762" y="4539"/>
                </a:cubicBezTo>
              </a:path>
              <a:path w="9824" h="1762">
                <a:moveTo>
                  <a:pt x="5507" y="4589"/>
                </a:moveTo>
                <a:cubicBezTo>
                  <a:pt x="5469" y="4664"/>
                  <a:pt x="5432" y="4746"/>
                  <a:pt x="5383" y="4812"/>
                </a:cubicBezTo>
                <a:cubicBezTo>
                  <a:pt x="5355" y="4850"/>
                  <a:pt x="5333" y="4868"/>
                  <a:pt x="5308" y="4911"/>
                </a:cubicBezTo>
              </a:path>
              <a:path w="9824" h="1762">
                <a:moveTo>
                  <a:pt x="5854" y="3721"/>
                </a:moveTo>
                <a:cubicBezTo>
                  <a:pt x="5833" y="3818"/>
                  <a:pt x="5829" y="3895"/>
                  <a:pt x="5829" y="3994"/>
                </a:cubicBezTo>
                <a:cubicBezTo>
                  <a:pt x="5829" y="4059"/>
                  <a:pt x="5847" y="4101"/>
                  <a:pt x="5779" y="4118"/>
                </a:cubicBezTo>
              </a:path>
              <a:path w="9824" h="1762">
                <a:moveTo>
                  <a:pt x="5606" y="4018"/>
                </a:moveTo>
                <a:cubicBezTo>
                  <a:pt x="5747" y="4018"/>
                  <a:pt x="5887" y="4018"/>
                  <a:pt x="6028" y="4018"/>
                </a:cubicBezTo>
              </a:path>
              <a:path w="9824" h="1762">
                <a:moveTo>
                  <a:pt x="5705" y="4415"/>
                </a:moveTo>
                <a:cubicBezTo>
                  <a:pt x="5813" y="4415"/>
                  <a:pt x="5920" y="4415"/>
                  <a:pt x="6028" y="4415"/>
                </a:cubicBezTo>
              </a:path>
              <a:path w="9824" h="1762">
                <a:moveTo>
                  <a:pt x="6375" y="3746"/>
                </a:moveTo>
                <a:cubicBezTo>
                  <a:pt x="6484" y="3746"/>
                  <a:pt x="6579" y="3740"/>
                  <a:pt x="6672" y="3721"/>
                </a:cubicBezTo>
                <a:cubicBezTo>
                  <a:pt x="6717" y="3721"/>
                  <a:pt x="6730" y="3724"/>
                  <a:pt x="6747" y="3696"/>
                </a:cubicBezTo>
              </a:path>
              <a:path w="9824" h="1762">
                <a:moveTo>
                  <a:pt x="6375" y="3795"/>
                </a:moveTo>
                <a:cubicBezTo>
                  <a:pt x="6337" y="3871"/>
                  <a:pt x="6291" y="3974"/>
                  <a:pt x="6325" y="4068"/>
                </a:cubicBezTo>
                <a:cubicBezTo>
                  <a:pt x="6333" y="4076"/>
                  <a:pt x="6342" y="4085"/>
                  <a:pt x="6350" y="4093"/>
                </a:cubicBezTo>
                <a:cubicBezTo>
                  <a:pt x="6381" y="4075"/>
                  <a:pt x="6443" y="4003"/>
                  <a:pt x="6474" y="3994"/>
                </a:cubicBezTo>
                <a:cubicBezTo>
                  <a:pt x="6542" y="3975"/>
                  <a:pt x="6560" y="3972"/>
                  <a:pt x="6623" y="4018"/>
                </a:cubicBezTo>
                <a:cubicBezTo>
                  <a:pt x="6681" y="4061"/>
                  <a:pt x="6711" y="4178"/>
                  <a:pt x="6722" y="4242"/>
                </a:cubicBezTo>
                <a:cubicBezTo>
                  <a:pt x="6732" y="4301"/>
                  <a:pt x="6694" y="4394"/>
                  <a:pt x="6672" y="4440"/>
                </a:cubicBezTo>
                <a:cubicBezTo>
                  <a:pt x="6643" y="4499"/>
                  <a:pt x="6594" y="4552"/>
                  <a:pt x="6524" y="4564"/>
                </a:cubicBezTo>
                <a:cubicBezTo>
                  <a:pt x="6458" y="4576"/>
                  <a:pt x="6378" y="4606"/>
                  <a:pt x="6325" y="4564"/>
                </a:cubicBezTo>
                <a:cubicBezTo>
                  <a:pt x="6317" y="4556"/>
                  <a:pt x="6308" y="4547"/>
                  <a:pt x="6300" y="4539"/>
                </a:cubicBezTo>
              </a:path>
              <a:path w="9824" h="1762">
                <a:moveTo>
                  <a:pt x="6921" y="4589"/>
                </a:moveTo>
                <a:cubicBezTo>
                  <a:pt x="6897" y="4675"/>
                  <a:pt x="6889" y="4696"/>
                  <a:pt x="6846" y="4762"/>
                </a:cubicBezTo>
                <a:cubicBezTo>
                  <a:pt x="6819" y="4803"/>
                  <a:pt x="6806" y="4827"/>
                  <a:pt x="6772" y="4862"/>
                </a:cubicBezTo>
              </a:path>
              <a:path w="9824" h="1762">
                <a:moveTo>
                  <a:pt x="7417" y="3696"/>
                </a:moveTo>
                <a:cubicBezTo>
                  <a:pt x="7425" y="3789"/>
                  <a:pt x="7441" y="3874"/>
                  <a:pt x="7441" y="3969"/>
                </a:cubicBezTo>
                <a:cubicBezTo>
                  <a:pt x="7441" y="4010"/>
                  <a:pt x="7441" y="4018"/>
                  <a:pt x="7441" y="4043"/>
                </a:cubicBezTo>
              </a:path>
              <a:path w="9824" h="1762">
                <a:moveTo>
                  <a:pt x="7243" y="3944"/>
                </a:moveTo>
                <a:cubicBezTo>
                  <a:pt x="7359" y="3944"/>
                  <a:pt x="7474" y="3944"/>
                  <a:pt x="7590" y="3944"/>
                </a:cubicBezTo>
              </a:path>
              <a:path w="9824" h="1762">
                <a:moveTo>
                  <a:pt x="7268" y="4341"/>
                </a:moveTo>
                <a:cubicBezTo>
                  <a:pt x="7387" y="4362"/>
                  <a:pt x="7454" y="4379"/>
                  <a:pt x="7565" y="4341"/>
                </a:cubicBezTo>
              </a:path>
              <a:path w="9824" h="1762">
                <a:moveTo>
                  <a:pt x="7938" y="3746"/>
                </a:moveTo>
                <a:cubicBezTo>
                  <a:pt x="7955" y="3861"/>
                  <a:pt x="7962" y="3954"/>
                  <a:pt x="7962" y="4068"/>
                </a:cubicBezTo>
                <a:cubicBezTo>
                  <a:pt x="7962" y="4145"/>
                  <a:pt x="7938" y="4209"/>
                  <a:pt x="7938" y="4291"/>
                </a:cubicBezTo>
                <a:cubicBezTo>
                  <a:pt x="7938" y="4361"/>
                  <a:pt x="7913" y="4417"/>
                  <a:pt x="7913" y="4490"/>
                </a:cubicBezTo>
                <a:cubicBezTo>
                  <a:pt x="7913" y="4525"/>
                  <a:pt x="7914" y="4588"/>
                  <a:pt x="7938" y="4539"/>
                </a:cubicBezTo>
              </a:path>
              <a:path w="9824" h="1762">
                <a:moveTo>
                  <a:pt x="8235" y="3870"/>
                </a:moveTo>
                <a:cubicBezTo>
                  <a:pt x="8360" y="3848"/>
                  <a:pt x="8480" y="3820"/>
                  <a:pt x="8607" y="3820"/>
                </a:cubicBezTo>
              </a:path>
              <a:path w="9824" h="1762">
                <a:moveTo>
                  <a:pt x="8334" y="3845"/>
                </a:moveTo>
                <a:cubicBezTo>
                  <a:pt x="8274" y="3911"/>
                  <a:pt x="8215" y="3956"/>
                  <a:pt x="8210" y="4043"/>
                </a:cubicBezTo>
                <a:cubicBezTo>
                  <a:pt x="8210" y="4093"/>
                  <a:pt x="8210" y="4109"/>
                  <a:pt x="8210" y="4142"/>
                </a:cubicBezTo>
                <a:cubicBezTo>
                  <a:pt x="8275" y="4164"/>
                  <a:pt x="8325" y="4146"/>
                  <a:pt x="8384" y="4093"/>
                </a:cubicBezTo>
                <a:cubicBezTo>
                  <a:pt x="8430" y="4051"/>
                  <a:pt x="8511" y="4072"/>
                  <a:pt x="8533" y="4142"/>
                </a:cubicBezTo>
                <a:cubicBezTo>
                  <a:pt x="8561" y="4229"/>
                  <a:pt x="8497" y="4301"/>
                  <a:pt x="8458" y="4366"/>
                </a:cubicBezTo>
                <a:cubicBezTo>
                  <a:pt x="8409" y="4449"/>
                  <a:pt x="8395" y="4436"/>
                  <a:pt x="8310" y="4465"/>
                </a:cubicBezTo>
                <a:cubicBezTo>
                  <a:pt x="8290" y="4472"/>
                  <a:pt x="8111" y="4565"/>
                  <a:pt x="8111" y="4490"/>
                </a:cubicBezTo>
                <a:cubicBezTo>
                  <a:pt x="8119" y="4482"/>
                  <a:pt x="8128" y="4473"/>
                  <a:pt x="8136" y="4465"/>
                </a:cubicBezTo>
              </a:path>
              <a:path w="9824" h="1762">
                <a:moveTo>
                  <a:pt x="8533" y="4589"/>
                </a:moveTo>
                <a:cubicBezTo>
                  <a:pt x="8509" y="4658"/>
                  <a:pt x="8428" y="4790"/>
                  <a:pt x="8409" y="4862"/>
                </a:cubicBezTo>
                <a:cubicBezTo>
                  <a:pt x="8409" y="4903"/>
                  <a:pt x="8409" y="4911"/>
                  <a:pt x="8409" y="4936"/>
                </a:cubicBezTo>
              </a:path>
              <a:path w="9824" h="1762">
                <a:moveTo>
                  <a:pt x="8186" y="5110"/>
                </a:moveTo>
                <a:cubicBezTo>
                  <a:pt x="8280" y="5127"/>
                  <a:pt x="8355" y="5110"/>
                  <a:pt x="8458" y="5110"/>
                </a:cubicBezTo>
                <a:cubicBezTo>
                  <a:pt x="8615" y="5110"/>
                  <a:pt x="8797" y="5116"/>
                  <a:pt x="8954" y="5135"/>
                </a:cubicBezTo>
                <a:cubicBezTo>
                  <a:pt x="9119" y="5155"/>
                  <a:pt x="9285" y="5143"/>
                  <a:pt x="9451" y="5159"/>
                </a:cubicBezTo>
                <a:cubicBezTo>
                  <a:pt x="9643" y="5178"/>
                  <a:pt x="9827" y="5184"/>
                  <a:pt x="10021" y="5184"/>
                </a:cubicBezTo>
                <a:cubicBezTo>
                  <a:pt x="10206" y="5184"/>
                  <a:pt x="10384" y="5205"/>
                  <a:pt x="10567" y="5209"/>
                </a:cubicBezTo>
                <a:cubicBezTo>
                  <a:pt x="10705" y="5212"/>
                  <a:pt x="10831" y="5198"/>
                  <a:pt x="10964" y="5184"/>
                </a:cubicBezTo>
                <a:cubicBezTo>
                  <a:pt x="11027" y="5177"/>
                  <a:pt x="11062" y="5172"/>
                  <a:pt x="11112" y="5159"/>
                </a:cubicBezTo>
              </a:path>
              <a:path w="9824" h="1762">
                <a:moveTo>
                  <a:pt x="9029" y="3870"/>
                </a:moveTo>
                <a:cubicBezTo>
                  <a:pt x="9016" y="3982"/>
                  <a:pt x="9004" y="4062"/>
                  <a:pt x="9004" y="4167"/>
                </a:cubicBezTo>
              </a:path>
              <a:path w="9824" h="1762">
                <a:moveTo>
                  <a:pt x="8855" y="4093"/>
                </a:moveTo>
                <a:cubicBezTo>
                  <a:pt x="8930" y="4093"/>
                  <a:pt x="9004" y="4093"/>
                  <a:pt x="9079" y="4093"/>
                </a:cubicBezTo>
              </a:path>
              <a:path w="9824" h="1762">
                <a:moveTo>
                  <a:pt x="8905" y="4415"/>
                </a:moveTo>
                <a:cubicBezTo>
                  <a:pt x="8965" y="4430"/>
                  <a:pt x="9058" y="4434"/>
                  <a:pt x="9128" y="4415"/>
                </a:cubicBezTo>
                <a:cubicBezTo>
                  <a:pt x="9145" y="4407"/>
                  <a:pt x="9161" y="4398"/>
                  <a:pt x="9178" y="4390"/>
                </a:cubicBezTo>
              </a:path>
              <a:path w="9824" h="1762">
                <a:moveTo>
                  <a:pt x="9401" y="3944"/>
                </a:moveTo>
                <a:cubicBezTo>
                  <a:pt x="9473" y="3879"/>
                  <a:pt x="9533" y="3831"/>
                  <a:pt x="9624" y="3795"/>
                </a:cubicBezTo>
                <a:cubicBezTo>
                  <a:pt x="9691" y="3773"/>
                  <a:pt x="9709" y="3761"/>
                  <a:pt x="9748" y="3795"/>
                </a:cubicBezTo>
                <a:cubicBezTo>
                  <a:pt x="9711" y="3842"/>
                  <a:pt x="9687" y="3899"/>
                  <a:pt x="9649" y="3944"/>
                </a:cubicBezTo>
                <a:cubicBezTo>
                  <a:pt x="9596" y="4009"/>
                  <a:pt x="9563" y="4066"/>
                  <a:pt x="9525" y="4142"/>
                </a:cubicBezTo>
                <a:cubicBezTo>
                  <a:pt x="9497" y="4198"/>
                  <a:pt x="9462" y="4264"/>
                  <a:pt x="9426" y="4316"/>
                </a:cubicBezTo>
                <a:cubicBezTo>
                  <a:pt x="9381" y="4381"/>
                  <a:pt x="9376" y="4409"/>
                  <a:pt x="9376" y="4490"/>
                </a:cubicBezTo>
                <a:cubicBezTo>
                  <a:pt x="9445" y="4490"/>
                  <a:pt x="9512" y="4484"/>
                  <a:pt x="9575" y="4465"/>
                </a:cubicBezTo>
                <a:cubicBezTo>
                  <a:pt x="9649" y="4443"/>
                  <a:pt x="9727" y="4397"/>
                  <a:pt x="9798" y="4366"/>
                </a:cubicBezTo>
              </a:path>
              <a:path w="9824" h="1762">
                <a:moveTo>
                  <a:pt x="10046" y="3845"/>
                </a:moveTo>
                <a:cubicBezTo>
                  <a:pt x="10145" y="3830"/>
                  <a:pt x="10248" y="3800"/>
                  <a:pt x="10344" y="3795"/>
                </a:cubicBezTo>
                <a:cubicBezTo>
                  <a:pt x="10388" y="3795"/>
                  <a:pt x="10402" y="3798"/>
                  <a:pt x="10418" y="3770"/>
                </a:cubicBezTo>
              </a:path>
              <a:path w="9824" h="1762">
                <a:moveTo>
                  <a:pt x="10021" y="3795"/>
                </a:moveTo>
                <a:cubicBezTo>
                  <a:pt x="9971" y="3845"/>
                  <a:pt x="9851" y="3926"/>
                  <a:pt x="9872" y="4018"/>
                </a:cubicBezTo>
                <a:cubicBezTo>
                  <a:pt x="9888" y="4092"/>
                  <a:pt x="9951" y="4129"/>
                  <a:pt x="10021" y="4118"/>
                </a:cubicBezTo>
                <a:cubicBezTo>
                  <a:pt x="10119" y="4102"/>
                  <a:pt x="10196" y="4070"/>
                  <a:pt x="10294" y="4118"/>
                </a:cubicBezTo>
                <a:cubicBezTo>
                  <a:pt x="10358" y="4149"/>
                  <a:pt x="10344" y="4235"/>
                  <a:pt x="10344" y="4291"/>
                </a:cubicBezTo>
                <a:cubicBezTo>
                  <a:pt x="10344" y="4342"/>
                  <a:pt x="10315" y="4407"/>
                  <a:pt x="10269" y="4440"/>
                </a:cubicBezTo>
                <a:cubicBezTo>
                  <a:pt x="10228" y="4470"/>
                  <a:pt x="10163" y="4506"/>
                  <a:pt x="10120" y="4514"/>
                </a:cubicBezTo>
                <a:cubicBezTo>
                  <a:pt x="10060" y="4526"/>
                  <a:pt x="9994" y="4518"/>
                  <a:pt x="9947" y="4490"/>
                </a:cubicBezTo>
              </a:path>
              <a:path w="9824" h="1762">
                <a:moveTo>
                  <a:pt x="10468" y="4440"/>
                </a:moveTo>
                <a:cubicBezTo>
                  <a:pt x="10468" y="4441"/>
                  <a:pt x="10435" y="4713"/>
                  <a:pt x="10368" y="4713"/>
                </a:cubicBezTo>
                <a:cubicBezTo>
                  <a:pt x="10368" y="4705"/>
                  <a:pt x="10368" y="4696"/>
                  <a:pt x="10368" y="4688"/>
                </a:cubicBezTo>
              </a:path>
              <a:path w="9824" h="1762">
                <a:moveTo>
                  <a:pt x="10815" y="3770"/>
                </a:moveTo>
                <a:cubicBezTo>
                  <a:pt x="10815" y="3899"/>
                  <a:pt x="10830" y="4023"/>
                  <a:pt x="10790" y="4142"/>
                </a:cubicBezTo>
              </a:path>
              <a:path w="9824" h="1762">
                <a:moveTo>
                  <a:pt x="10567" y="4093"/>
                </a:moveTo>
                <a:cubicBezTo>
                  <a:pt x="10646" y="4141"/>
                  <a:pt x="10719" y="4097"/>
                  <a:pt x="10815" y="4118"/>
                </a:cubicBezTo>
                <a:cubicBezTo>
                  <a:pt x="10823" y="4126"/>
                  <a:pt x="10832" y="4134"/>
                  <a:pt x="10840" y="4142"/>
                </a:cubicBezTo>
              </a:path>
              <a:path w="9824" h="1762">
                <a:moveTo>
                  <a:pt x="10716" y="4390"/>
                </a:moveTo>
                <a:cubicBezTo>
                  <a:pt x="10790" y="4428"/>
                  <a:pt x="10822" y="4403"/>
                  <a:pt x="10889" y="4390"/>
                </a:cubicBezTo>
                <a:cubicBezTo>
                  <a:pt x="10934" y="4390"/>
                  <a:pt x="10947" y="4394"/>
                  <a:pt x="10964" y="4366"/>
                </a:cubicBezTo>
              </a:path>
              <a:path w="9824" h="1762">
                <a:moveTo>
                  <a:pt x="11137" y="3795"/>
                </a:moveTo>
                <a:cubicBezTo>
                  <a:pt x="11231" y="3795"/>
                  <a:pt x="11298" y="3775"/>
                  <a:pt x="11385" y="3770"/>
                </a:cubicBezTo>
                <a:cubicBezTo>
                  <a:pt x="11434" y="3767"/>
                  <a:pt x="11485" y="3770"/>
                  <a:pt x="11534" y="3770"/>
                </a:cubicBezTo>
                <a:cubicBezTo>
                  <a:pt x="11525" y="3836"/>
                  <a:pt x="11492" y="3880"/>
                  <a:pt x="11460" y="3944"/>
                </a:cubicBezTo>
                <a:cubicBezTo>
                  <a:pt x="11412" y="4041"/>
                  <a:pt x="11382" y="4145"/>
                  <a:pt x="11336" y="4242"/>
                </a:cubicBezTo>
                <a:cubicBezTo>
                  <a:pt x="11294" y="4330"/>
                  <a:pt x="11286" y="4394"/>
                  <a:pt x="11286" y="4490"/>
                </a:cubicBezTo>
                <a:cubicBezTo>
                  <a:pt x="11286" y="4534"/>
                  <a:pt x="11283" y="4554"/>
                  <a:pt x="11311" y="4514"/>
                </a:cubicBezTo>
              </a:path>
              <a:path w="9824" h="1762">
                <a:moveTo>
                  <a:pt x="11757" y="3870"/>
                </a:moveTo>
                <a:cubicBezTo>
                  <a:pt x="11878" y="3870"/>
                  <a:pt x="11948" y="3870"/>
                  <a:pt x="12055" y="3845"/>
                </a:cubicBezTo>
                <a:cubicBezTo>
                  <a:pt x="12063" y="3845"/>
                  <a:pt x="12072" y="3845"/>
                  <a:pt x="12080" y="3845"/>
                </a:cubicBezTo>
              </a:path>
              <a:path w="9824" h="1762">
                <a:moveTo>
                  <a:pt x="11708" y="3894"/>
                </a:moveTo>
                <a:cubicBezTo>
                  <a:pt x="11669" y="3980"/>
                  <a:pt x="11595" y="4086"/>
                  <a:pt x="11633" y="4167"/>
                </a:cubicBezTo>
                <a:cubicBezTo>
                  <a:pt x="11666" y="4238"/>
                  <a:pt x="11742" y="4222"/>
                  <a:pt x="11807" y="4192"/>
                </a:cubicBezTo>
                <a:cubicBezTo>
                  <a:pt x="11860" y="4168"/>
                  <a:pt x="11885" y="4096"/>
                  <a:pt x="11956" y="4167"/>
                </a:cubicBezTo>
                <a:cubicBezTo>
                  <a:pt x="11983" y="4194"/>
                  <a:pt x="12016" y="4330"/>
                  <a:pt x="12005" y="4366"/>
                </a:cubicBezTo>
                <a:cubicBezTo>
                  <a:pt x="11988" y="4423"/>
                  <a:pt x="11924" y="4495"/>
                  <a:pt x="11881" y="4539"/>
                </a:cubicBezTo>
                <a:cubicBezTo>
                  <a:pt x="11838" y="4583"/>
                  <a:pt x="11764" y="4570"/>
                  <a:pt x="11708" y="4589"/>
                </a:cubicBezTo>
                <a:cubicBezTo>
                  <a:pt x="11631" y="4615"/>
                  <a:pt x="11567" y="4614"/>
                  <a:pt x="11485" y="4614"/>
                </a:cubicBezTo>
              </a:path>
              <a:path w="9824" h="1762">
                <a:moveTo>
                  <a:pt x="11931" y="5085"/>
                </a:moveTo>
                <a:cubicBezTo>
                  <a:pt x="12020" y="5085"/>
                  <a:pt x="12094" y="5098"/>
                  <a:pt x="12179" y="5110"/>
                </a:cubicBezTo>
                <a:cubicBezTo>
                  <a:pt x="12229" y="5110"/>
                  <a:pt x="12245" y="5110"/>
                  <a:pt x="12278" y="5110"/>
                </a:cubicBezTo>
              </a:path>
              <a:path w="9824" h="1762">
                <a:moveTo>
                  <a:pt x="12105" y="5259"/>
                </a:moveTo>
                <a:cubicBezTo>
                  <a:pt x="12252" y="5301"/>
                  <a:pt x="12283" y="5317"/>
                  <a:pt x="12378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4"/>
          <p:cNvSpPr/>
          <p:nvPr/>
        </p:nvSpPr>
        <p:spPr>
          <a:xfrm>
            <a:off x="4680000" y="1482840"/>
            <a:ext cx="3392280" cy="517320"/>
          </a:xfrm>
          <a:custGeom>
            <a:avLst/>
            <a:gdLst/>
            <a:ahLst/>
            <a:rect l="l" t="t" r="r" b="b"/>
            <a:pathLst>
              <a:path w="9426" h="1439">
                <a:moveTo>
                  <a:pt x="13320" y="4291"/>
                </a:moveTo>
                <a:cubicBezTo>
                  <a:pt x="13310" y="4383"/>
                  <a:pt x="13281" y="4473"/>
                  <a:pt x="13271" y="4564"/>
                </a:cubicBezTo>
                <a:cubicBezTo>
                  <a:pt x="13262" y="4646"/>
                  <a:pt x="13282" y="4720"/>
                  <a:pt x="13295" y="4787"/>
                </a:cubicBezTo>
                <a:cubicBezTo>
                  <a:pt x="13295" y="4837"/>
                  <a:pt x="13295" y="4854"/>
                  <a:pt x="13295" y="4887"/>
                </a:cubicBezTo>
              </a:path>
              <a:path w="9426" h="1439">
                <a:moveTo>
                  <a:pt x="12998" y="4738"/>
                </a:moveTo>
                <a:cubicBezTo>
                  <a:pt x="13086" y="4730"/>
                  <a:pt x="13155" y="4713"/>
                  <a:pt x="13246" y="4713"/>
                </a:cubicBezTo>
                <a:cubicBezTo>
                  <a:pt x="13304" y="4713"/>
                  <a:pt x="13361" y="4713"/>
                  <a:pt x="13419" y="4713"/>
                </a:cubicBezTo>
              </a:path>
              <a:path w="9426" h="1439">
                <a:moveTo>
                  <a:pt x="12998" y="5159"/>
                </a:moveTo>
                <a:cubicBezTo>
                  <a:pt x="13068" y="5175"/>
                  <a:pt x="13166" y="5175"/>
                  <a:pt x="13246" y="5159"/>
                </a:cubicBezTo>
                <a:cubicBezTo>
                  <a:pt x="13327" y="5133"/>
                  <a:pt x="13358" y="5125"/>
                  <a:pt x="13419" y="5135"/>
                </a:cubicBezTo>
              </a:path>
              <a:path w="9426" h="1439">
                <a:moveTo>
                  <a:pt x="14064" y="4291"/>
                </a:moveTo>
                <a:cubicBezTo>
                  <a:pt x="14045" y="4431"/>
                  <a:pt x="14029" y="4573"/>
                  <a:pt x="14015" y="4713"/>
                </a:cubicBezTo>
                <a:cubicBezTo>
                  <a:pt x="14007" y="4796"/>
                  <a:pt x="14039" y="4875"/>
                  <a:pt x="14039" y="4961"/>
                </a:cubicBezTo>
                <a:cubicBezTo>
                  <a:pt x="14039" y="5027"/>
                  <a:pt x="14039" y="5093"/>
                  <a:pt x="14039" y="5159"/>
                </a:cubicBezTo>
              </a:path>
              <a:path w="9426" h="1439">
                <a:moveTo>
                  <a:pt x="14337" y="5234"/>
                </a:moveTo>
                <a:cubicBezTo>
                  <a:pt x="14337" y="5314"/>
                  <a:pt x="14355" y="5411"/>
                  <a:pt x="14312" y="5482"/>
                </a:cubicBezTo>
                <a:cubicBezTo>
                  <a:pt x="14285" y="5510"/>
                  <a:pt x="14277" y="5524"/>
                  <a:pt x="14288" y="5556"/>
                </a:cubicBezTo>
              </a:path>
              <a:path w="9426" h="1439">
                <a:moveTo>
                  <a:pt x="14982" y="4291"/>
                </a:moveTo>
                <a:cubicBezTo>
                  <a:pt x="14965" y="4390"/>
                  <a:pt x="14936" y="4492"/>
                  <a:pt x="14932" y="4589"/>
                </a:cubicBezTo>
                <a:cubicBezTo>
                  <a:pt x="14932" y="4650"/>
                  <a:pt x="14941" y="4665"/>
                  <a:pt x="14908" y="4688"/>
                </a:cubicBezTo>
              </a:path>
              <a:path w="9426" h="1439">
                <a:moveTo>
                  <a:pt x="14660" y="4663"/>
                </a:moveTo>
                <a:cubicBezTo>
                  <a:pt x="14730" y="4690"/>
                  <a:pt x="14782" y="4688"/>
                  <a:pt x="14858" y="4688"/>
                </a:cubicBezTo>
                <a:cubicBezTo>
                  <a:pt x="14916" y="4688"/>
                  <a:pt x="14974" y="4688"/>
                  <a:pt x="15032" y="4688"/>
                </a:cubicBezTo>
              </a:path>
              <a:path w="9426" h="1439">
                <a:moveTo>
                  <a:pt x="14759" y="5110"/>
                </a:moveTo>
                <a:cubicBezTo>
                  <a:pt x="14907" y="5128"/>
                  <a:pt x="14922" y="5109"/>
                  <a:pt x="15056" y="5060"/>
                </a:cubicBezTo>
              </a:path>
              <a:path w="9426" h="1439">
                <a:moveTo>
                  <a:pt x="15354" y="4390"/>
                </a:moveTo>
                <a:cubicBezTo>
                  <a:pt x="15437" y="4331"/>
                  <a:pt x="15500" y="4272"/>
                  <a:pt x="15602" y="4266"/>
                </a:cubicBezTo>
                <a:cubicBezTo>
                  <a:pt x="15719" y="4259"/>
                  <a:pt x="15714" y="4326"/>
                  <a:pt x="15677" y="4415"/>
                </a:cubicBezTo>
                <a:cubicBezTo>
                  <a:pt x="15646" y="4488"/>
                  <a:pt x="15567" y="4546"/>
                  <a:pt x="15503" y="4589"/>
                </a:cubicBezTo>
                <a:cubicBezTo>
                  <a:pt x="15459" y="4619"/>
                  <a:pt x="15402" y="4639"/>
                  <a:pt x="15354" y="4663"/>
                </a:cubicBezTo>
                <a:cubicBezTo>
                  <a:pt x="15408" y="4690"/>
                  <a:pt x="15502" y="4682"/>
                  <a:pt x="15553" y="4713"/>
                </a:cubicBezTo>
                <a:cubicBezTo>
                  <a:pt x="15620" y="4754"/>
                  <a:pt x="15693" y="4839"/>
                  <a:pt x="15701" y="4911"/>
                </a:cubicBezTo>
                <a:cubicBezTo>
                  <a:pt x="15710" y="4994"/>
                  <a:pt x="15697" y="5057"/>
                  <a:pt x="15627" y="5110"/>
                </a:cubicBezTo>
                <a:cubicBezTo>
                  <a:pt x="15577" y="5148"/>
                  <a:pt x="15487" y="5174"/>
                  <a:pt x="15429" y="5184"/>
                </a:cubicBezTo>
                <a:cubicBezTo>
                  <a:pt x="15363" y="5195"/>
                  <a:pt x="15307" y="5188"/>
                  <a:pt x="15280" y="5135"/>
                </a:cubicBezTo>
              </a:path>
              <a:path w="9426" h="1439">
                <a:moveTo>
                  <a:pt x="15875" y="5184"/>
                </a:moveTo>
                <a:cubicBezTo>
                  <a:pt x="15873" y="5227"/>
                  <a:pt x="15880" y="5462"/>
                  <a:pt x="15801" y="5482"/>
                </a:cubicBezTo>
                <a:cubicBezTo>
                  <a:pt x="15801" y="5474"/>
                  <a:pt x="15801" y="5465"/>
                  <a:pt x="15801" y="5457"/>
                </a:cubicBezTo>
              </a:path>
              <a:path w="9426" h="1439">
                <a:moveTo>
                  <a:pt x="16470" y="4291"/>
                </a:moveTo>
                <a:cubicBezTo>
                  <a:pt x="16453" y="4395"/>
                  <a:pt x="16446" y="4484"/>
                  <a:pt x="16446" y="4589"/>
                </a:cubicBezTo>
                <a:cubicBezTo>
                  <a:pt x="16446" y="4605"/>
                  <a:pt x="16446" y="4622"/>
                  <a:pt x="16446" y="4638"/>
                </a:cubicBezTo>
              </a:path>
              <a:path w="9426" h="1439">
                <a:moveTo>
                  <a:pt x="16197" y="4514"/>
                </a:moveTo>
                <a:cubicBezTo>
                  <a:pt x="16305" y="4514"/>
                  <a:pt x="16412" y="4514"/>
                  <a:pt x="16520" y="4514"/>
                </a:cubicBezTo>
              </a:path>
              <a:path w="9426" h="1439">
                <a:moveTo>
                  <a:pt x="16173" y="4961"/>
                </a:moveTo>
                <a:cubicBezTo>
                  <a:pt x="16307" y="4985"/>
                  <a:pt x="16349" y="4994"/>
                  <a:pt x="16470" y="4936"/>
                </a:cubicBezTo>
                <a:cubicBezTo>
                  <a:pt x="16487" y="4928"/>
                  <a:pt x="16503" y="4919"/>
                  <a:pt x="16520" y="4911"/>
                </a:cubicBezTo>
              </a:path>
              <a:path w="9426" h="1439">
                <a:moveTo>
                  <a:pt x="16842" y="4316"/>
                </a:moveTo>
                <a:cubicBezTo>
                  <a:pt x="16958" y="4301"/>
                  <a:pt x="17058" y="4291"/>
                  <a:pt x="17165" y="4266"/>
                </a:cubicBezTo>
                <a:cubicBezTo>
                  <a:pt x="17173" y="4266"/>
                  <a:pt x="17182" y="4266"/>
                  <a:pt x="17190" y="4266"/>
                </a:cubicBezTo>
              </a:path>
              <a:path w="9426" h="1439">
                <a:moveTo>
                  <a:pt x="16718" y="4366"/>
                </a:moveTo>
                <a:cubicBezTo>
                  <a:pt x="16706" y="4398"/>
                  <a:pt x="16600" y="4579"/>
                  <a:pt x="16694" y="4614"/>
                </a:cubicBezTo>
                <a:cubicBezTo>
                  <a:pt x="16766" y="4641"/>
                  <a:pt x="16821" y="4610"/>
                  <a:pt x="16867" y="4564"/>
                </a:cubicBezTo>
                <a:cubicBezTo>
                  <a:pt x="16920" y="4510"/>
                  <a:pt x="16995" y="4543"/>
                  <a:pt x="17016" y="4614"/>
                </a:cubicBezTo>
                <a:cubicBezTo>
                  <a:pt x="17038" y="4690"/>
                  <a:pt x="17014" y="4792"/>
                  <a:pt x="16991" y="4862"/>
                </a:cubicBezTo>
                <a:cubicBezTo>
                  <a:pt x="16961" y="4952"/>
                  <a:pt x="16926" y="4988"/>
                  <a:pt x="16842" y="5035"/>
                </a:cubicBezTo>
                <a:cubicBezTo>
                  <a:pt x="16800" y="5058"/>
                  <a:pt x="16635" y="5136"/>
                  <a:pt x="16594" y="5085"/>
                </a:cubicBezTo>
                <a:cubicBezTo>
                  <a:pt x="16594" y="5060"/>
                  <a:pt x="16594" y="5036"/>
                  <a:pt x="16594" y="5011"/>
                </a:cubicBezTo>
              </a:path>
              <a:path w="9426" h="1439">
                <a:moveTo>
                  <a:pt x="17140" y="5035"/>
                </a:moveTo>
                <a:cubicBezTo>
                  <a:pt x="17133" y="5242"/>
                  <a:pt x="17087" y="5405"/>
                  <a:pt x="17140" y="5159"/>
                </a:cubicBezTo>
              </a:path>
              <a:path w="9426" h="1439">
                <a:moveTo>
                  <a:pt x="17661" y="4242"/>
                </a:moveTo>
                <a:cubicBezTo>
                  <a:pt x="17641" y="4390"/>
                  <a:pt x="17624" y="4455"/>
                  <a:pt x="17661" y="4589"/>
                </a:cubicBezTo>
              </a:path>
              <a:path w="9426" h="1439">
                <a:moveTo>
                  <a:pt x="17438" y="4589"/>
                </a:moveTo>
                <a:cubicBezTo>
                  <a:pt x="17521" y="4589"/>
                  <a:pt x="17603" y="4589"/>
                  <a:pt x="17686" y="4589"/>
                </a:cubicBezTo>
              </a:path>
              <a:path w="9426" h="1439">
                <a:moveTo>
                  <a:pt x="17562" y="4936"/>
                </a:moveTo>
                <a:cubicBezTo>
                  <a:pt x="17637" y="5011"/>
                  <a:pt x="17683" y="4985"/>
                  <a:pt x="17785" y="4936"/>
                </a:cubicBezTo>
                <a:cubicBezTo>
                  <a:pt x="17802" y="4928"/>
                  <a:pt x="17818" y="4919"/>
                  <a:pt x="17835" y="4911"/>
                </a:cubicBezTo>
              </a:path>
              <a:path w="9426" h="1439">
                <a:moveTo>
                  <a:pt x="18132" y="4192"/>
                </a:moveTo>
                <a:cubicBezTo>
                  <a:pt x="18117" y="4381"/>
                  <a:pt x="18118" y="4600"/>
                  <a:pt x="18083" y="4787"/>
                </a:cubicBezTo>
                <a:cubicBezTo>
                  <a:pt x="18067" y="4870"/>
                  <a:pt x="18046" y="4955"/>
                  <a:pt x="18033" y="5035"/>
                </a:cubicBezTo>
                <a:cubicBezTo>
                  <a:pt x="18033" y="5085"/>
                  <a:pt x="18033" y="5102"/>
                  <a:pt x="18033" y="5135"/>
                </a:cubicBezTo>
              </a:path>
              <a:path w="9426" h="1439">
                <a:moveTo>
                  <a:pt x="18405" y="4291"/>
                </a:moveTo>
                <a:cubicBezTo>
                  <a:pt x="18517" y="4270"/>
                  <a:pt x="18645" y="4258"/>
                  <a:pt x="18752" y="4217"/>
                </a:cubicBezTo>
                <a:cubicBezTo>
                  <a:pt x="18769" y="4209"/>
                  <a:pt x="18785" y="4200"/>
                  <a:pt x="18802" y="4192"/>
                </a:cubicBezTo>
              </a:path>
              <a:path w="9426" h="1439">
                <a:moveTo>
                  <a:pt x="18405" y="4266"/>
                </a:moveTo>
                <a:cubicBezTo>
                  <a:pt x="18370" y="4305"/>
                  <a:pt x="18258" y="4396"/>
                  <a:pt x="18281" y="4465"/>
                </a:cubicBezTo>
                <a:cubicBezTo>
                  <a:pt x="18309" y="4550"/>
                  <a:pt x="18403" y="4497"/>
                  <a:pt x="18455" y="4490"/>
                </a:cubicBezTo>
                <a:cubicBezTo>
                  <a:pt x="18544" y="4478"/>
                  <a:pt x="18603" y="4506"/>
                  <a:pt x="18653" y="4589"/>
                </a:cubicBezTo>
                <a:cubicBezTo>
                  <a:pt x="18714" y="4691"/>
                  <a:pt x="18675" y="4781"/>
                  <a:pt x="18628" y="4862"/>
                </a:cubicBezTo>
                <a:cubicBezTo>
                  <a:pt x="18596" y="4917"/>
                  <a:pt x="18521" y="4992"/>
                  <a:pt x="18455" y="5011"/>
                </a:cubicBezTo>
                <a:cubicBezTo>
                  <a:pt x="18435" y="5017"/>
                  <a:pt x="18281" y="5064"/>
                  <a:pt x="18281" y="5011"/>
                </a:cubicBezTo>
                <a:cubicBezTo>
                  <a:pt x="18289" y="4994"/>
                  <a:pt x="18298" y="4978"/>
                  <a:pt x="18306" y="4961"/>
                </a:cubicBezTo>
              </a:path>
              <a:path w="9426" h="1439">
                <a:moveTo>
                  <a:pt x="18827" y="5011"/>
                </a:moveTo>
                <a:cubicBezTo>
                  <a:pt x="18827" y="5154"/>
                  <a:pt x="18839" y="5145"/>
                  <a:pt x="18777" y="5259"/>
                </a:cubicBezTo>
              </a:path>
              <a:path w="9426" h="1439">
                <a:moveTo>
                  <a:pt x="19273" y="4217"/>
                </a:moveTo>
                <a:cubicBezTo>
                  <a:pt x="19278" y="4339"/>
                  <a:pt x="19298" y="4427"/>
                  <a:pt x="19298" y="4539"/>
                </a:cubicBezTo>
              </a:path>
              <a:path w="9426" h="1439">
                <a:moveTo>
                  <a:pt x="19025" y="4390"/>
                </a:moveTo>
                <a:cubicBezTo>
                  <a:pt x="19149" y="4390"/>
                  <a:pt x="19273" y="4390"/>
                  <a:pt x="19397" y="4390"/>
                </a:cubicBezTo>
              </a:path>
              <a:path w="9426" h="1439">
                <a:moveTo>
                  <a:pt x="19050" y="4812"/>
                </a:moveTo>
                <a:cubicBezTo>
                  <a:pt x="19115" y="4861"/>
                  <a:pt x="19182" y="4886"/>
                  <a:pt x="19273" y="4862"/>
                </a:cubicBezTo>
                <a:cubicBezTo>
                  <a:pt x="19330" y="4834"/>
                  <a:pt x="19353" y="4823"/>
                  <a:pt x="19397" y="4812"/>
                </a:cubicBezTo>
              </a:path>
              <a:path w="9426" h="1439">
                <a:moveTo>
                  <a:pt x="19596" y="4341"/>
                </a:moveTo>
                <a:cubicBezTo>
                  <a:pt x="19697" y="4285"/>
                  <a:pt x="19780" y="4214"/>
                  <a:pt x="19893" y="4266"/>
                </a:cubicBezTo>
                <a:cubicBezTo>
                  <a:pt x="19971" y="4302"/>
                  <a:pt x="19891" y="4430"/>
                  <a:pt x="19869" y="4465"/>
                </a:cubicBezTo>
                <a:cubicBezTo>
                  <a:pt x="19805" y="4569"/>
                  <a:pt x="19731" y="4652"/>
                  <a:pt x="19645" y="4738"/>
                </a:cubicBezTo>
                <a:cubicBezTo>
                  <a:pt x="19596" y="4787"/>
                  <a:pt x="19479" y="4889"/>
                  <a:pt x="19546" y="4961"/>
                </a:cubicBezTo>
                <a:cubicBezTo>
                  <a:pt x="19597" y="5016"/>
                  <a:pt x="19699" y="5027"/>
                  <a:pt x="19769" y="5011"/>
                </a:cubicBezTo>
                <a:cubicBezTo>
                  <a:pt x="19826" y="4983"/>
                  <a:pt x="19849" y="4972"/>
                  <a:pt x="19893" y="4961"/>
                </a:cubicBezTo>
              </a:path>
              <a:path w="9426" h="1439">
                <a:moveTo>
                  <a:pt x="20191" y="4291"/>
                </a:moveTo>
                <a:cubicBezTo>
                  <a:pt x="20271" y="4262"/>
                  <a:pt x="20358" y="4227"/>
                  <a:pt x="20439" y="4217"/>
                </a:cubicBezTo>
                <a:cubicBezTo>
                  <a:pt x="20512" y="4217"/>
                  <a:pt x="20536" y="4218"/>
                  <a:pt x="20563" y="4167"/>
                </a:cubicBezTo>
              </a:path>
              <a:path w="9426" h="1439">
                <a:moveTo>
                  <a:pt x="19943" y="4390"/>
                </a:moveTo>
                <a:cubicBezTo>
                  <a:pt x="19926" y="4506"/>
                  <a:pt x="19907" y="4556"/>
                  <a:pt x="20042" y="4564"/>
                </a:cubicBezTo>
                <a:cubicBezTo>
                  <a:pt x="20120" y="4568"/>
                  <a:pt x="20193" y="4580"/>
                  <a:pt x="20265" y="4589"/>
                </a:cubicBezTo>
                <a:cubicBezTo>
                  <a:pt x="20351" y="4600"/>
                  <a:pt x="20392" y="4640"/>
                  <a:pt x="20414" y="4738"/>
                </a:cubicBezTo>
                <a:cubicBezTo>
                  <a:pt x="20430" y="4810"/>
                  <a:pt x="20366" y="4938"/>
                  <a:pt x="20315" y="4986"/>
                </a:cubicBezTo>
                <a:cubicBezTo>
                  <a:pt x="20291" y="5008"/>
                  <a:pt x="20194" y="5077"/>
                  <a:pt x="20166" y="5085"/>
                </a:cubicBezTo>
                <a:cubicBezTo>
                  <a:pt x="20088" y="5106"/>
                  <a:pt x="20082" y="5062"/>
                  <a:pt x="20067" y="5011"/>
                </a:cubicBezTo>
              </a:path>
              <a:path w="9426" h="1439">
                <a:moveTo>
                  <a:pt x="20638" y="4961"/>
                </a:moveTo>
                <a:cubicBezTo>
                  <a:pt x="20638" y="4962"/>
                  <a:pt x="20589" y="5250"/>
                  <a:pt x="20563" y="5259"/>
                </a:cubicBezTo>
                <a:cubicBezTo>
                  <a:pt x="20555" y="5251"/>
                  <a:pt x="20546" y="5242"/>
                  <a:pt x="20538" y="5234"/>
                </a:cubicBezTo>
              </a:path>
              <a:path w="9426" h="1439">
                <a:moveTo>
                  <a:pt x="21059" y="4167"/>
                </a:moveTo>
                <a:cubicBezTo>
                  <a:pt x="21046" y="4299"/>
                  <a:pt x="21017" y="4436"/>
                  <a:pt x="21010" y="4564"/>
                </a:cubicBezTo>
                <a:cubicBezTo>
                  <a:pt x="21010" y="4581"/>
                  <a:pt x="21010" y="4597"/>
                  <a:pt x="21010" y="4614"/>
                </a:cubicBezTo>
              </a:path>
              <a:path w="9426" h="1439">
                <a:moveTo>
                  <a:pt x="20762" y="4465"/>
                </a:moveTo>
                <a:cubicBezTo>
                  <a:pt x="20875" y="4465"/>
                  <a:pt x="20975" y="4478"/>
                  <a:pt x="21084" y="4490"/>
                </a:cubicBezTo>
                <a:cubicBezTo>
                  <a:pt x="21150" y="4490"/>
                  <a:pt x="21167" y="4490"/>
                  <a:pt x="21208" y="4490"/>
                </a:cubicBezTo>
              </a:path>
              <a:path w="9426" h="1439">
                <a:moveTo>
                  <a:pt x="20836" y="4837"/>
                </a:moveTo>
                <a:cubicBezTo>
                  <a:pt x="20918" y="4882"/>
                  <a:pt x="20984" y="4906"/>
                  <a:pt x="21084" y="4887"/>
                </a:cubicBezTo>
                <a:cubicBezTo>
                  <a:pt x="21162" y="4861"/>
                  <a:pt x="21190" y="4850"/>
                  <a:pt x="21233" y="4812"/>
                </a:cubicBezTo>
              </a:path>
              <a:path w="9426" h="1439">
                <a:moveTo>
                  <a:pt x="21481" y="4192"/>
                </a:moveTo>
                <a:cubicBezTo>
                  <a:pt x="21556" y="4171"/>
                  <a:pt x="21628" y="4146"/>
                  <a:pt x="21704" y="4142"/>
                </a:cubicBezTo>
                <a:cubicBezTo>
                  <a:pt x="21775" y="4138"/>
                  <a:pt x="21834" y="4122"/>
                  <a:pt x="21903" y="4118"/>
                </a:cubicBezTo>
                <a:cubicBezTo>
                  <a:pt x="21919" y="4118"/>
                  <a:pt x="21936" y="4118"/>
                  <a:pt x="21952" y="4118"/>
                </a:cubicBezTo>
                <a:cubicBezTo>
                  <a:pt x="21896" y="4173"/>
                  <a:pt x="21848" y="4226"/>
                  <a:pt x="21803" y="4291"/>
                </a:cubicBezTo>
                <a:cubicBezTo>
                  <a:pt x="21723" y="4408"/>
                  <a:pt x="21660" y="4557"/>
                  <a:pt x="21605" y="4688"/>
                </a:cubicBezTo>
                <a:cubicBezTo>
                  <a:pt x="21569" y="4773"/>
                  <a:pt x="21555" y="4846"/>
                  <a:pt x="21555" y="4936"/>
                </a:cubicBezTo>
                <a:cubicBezTo>
                  <a:pt x="21555" y="4993"/>
                  <a:pt x="21560" y="5005"/>
                  <a:pt x="21605" y="4936"/>
                </a:cubicBezTo>
              </a:path>
              <a:path w="9426" h="1439">
                <a:moveTo>
                  <a:pt x="22051" y="4192"/>
                </a:moveTo>
                <a:cubicBezTo>
                  <a:pt x="22173" y="4204"/>
                  <a:pt x="22262" y="4217"/>
                  <a:pt x="22374" y="4217"/>
                </a:cubicBezTo>
              </a:path>
              <a:path w="9426" h="1439">
                <a:moveTo>
                  <a:pt x="22027" y="4291"/>
                </a:moveTo>
                <a:cubicBezTo>
                  <a:pt x="22018" y="4322"/>
                  <a:pt x="21911" y="4539"/>
                  <a:pt x="22027" y="4564"/>
                </a:cubicBezTo>
                <a:cubicBezTo>
                  <a:pt x="22115" y="4583"/>
                  <a:pt x="22159" y="4495"/>
                  <a:pt x="22250" y="4514"/>
                </a:cubicBezTo>
                <a:cubicBezTo>
                  <a:pt x="22307" y="4526"/>
                  <a:pt x="22387" y="4609"/>
                  <a:pt x="22399" y="4663"/>
                </a:cubicBezTo>
                <a:cubicBezTo>
                  <a:pt x="22421" y="4764"/>
                  <a:pt x="22432" y="4891"/>
                  <a:pt x="22374" y="4986"/>
                </a:cubicBezTo>
                <a:cubicBezTo>
                  <a:pt x="22323" y="5069"/>
                  <a:pt x="22237" y="5096"/>
                  <a:pt x="22151" y="5110"/>
                </a:cubicBezTo>
                <a:cubicBezTo>
                  <a:pt x="22053" y="5126"/>
                  <a:pt x="21966" y="5096"/>
                  <a:pt x="21878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5"/>
          <p:cNvSpPr/>
          <p:nvPr/>
        </p:nvSpPr>
        <p:spPr>
          <a:xfrm>
            <a:off x="1384200" y="1990800"/>
            <a:ext cx="384120" cy="304560"/>
          </a:xfrm>
          <a:custGeom>
            <a:avLst/>
            <a:gdLst/>
            <a:ahLst/>
            <a:rect l="l" t="t" r="r" b="b"/>
            <a:pathLst>
              <a:path w="1067" h="845">
                <a:moveTo>
                  <a:pt x="4266" y="5531"/>
                </a:moveTo>
                <a:cubicBezTo>
                  <a:pt x="4266" y="5614"/>
                  <a:pt x="4254" y="5679"/>
                  <a:pt x="4242" y="5755"/>
                </a:cubicBezTo>
                <a:cubicBezTo>
                  <a:pt x="4232" y="5817"/>
                  <a:pt x="4242" y="5890"/>
                  <a:pt x="4242" y="5953"/>
                </a:cubicBezTo>
              </a:path>
              <a:path w="1067" h="845">
                <a:moveTo>
                  <a:pt x="3845" y="5879"/>
                </a:moveTo>
                <a:cubicBezTo>
                  <a:pt x="3982" y="5879"/>
                  <a:pt x="4112" y="5883"/>
                  <a:pt x="4242" y="5904"/>
                </a:cubicBezTo>
                <a:cubicBezTo>
                  <a:pt x="4258" y="5904"/>
                  <a:pt x="4275" y="5904"/>
                  <a:pt x="4291" y="5904"/>
                </a:cubicBezTo>
              </a:path>
              <a:path w="1067" h="845">
                <a:moveTo>
                  <a:pt x="3994" y="6201"/>
                </a:moveTo>
                <a:cubicBezTo>
                  <a:pt x="4107" y="6230"/>
                  <a:pt x="4226" y="6237"/>
                  <a:pt x="4341" y="6251"/>
                </a:cubicBezTo>
                <a:cubicBezTo>
                  <a:pt x="4399" y="6251"/>
                  <a:pt x="4424" y="6251"/>
                  <a:pt x="4465" y="6251"/>
                </a:cubicBezTo>
              </a:path>
              <a:path w="1067" h="845">
                <a:moveTo>
                  <a:pt x="4887" y="5631"/>
                </a:moveTo>
                <a:cubicBezTo>
                  <a:pt x="4887" y="5832"/>
                  <a:pt x="4894" y="6033"/>
                  <a:pt x="4911" y="6226"/>
                </a:cubicBezTo>
                <a:cubicBezTo>
                  <a:pt x="4911" y="6317"/>
                  <a:pt x="4911" y="6325"/>
                  <a:pt x="4911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6"/>
          <p:cNvSpPr/>
          <p:nvPr/>
        </p:nvSpPr>
        <p:spPr>
          <a:xfrm>
            <a:off x="723960" y="2463840"/>
            <a:ext cx="54000" cy="698400"/>
          </a:xfrm>
          <a:custGeom>
            <a:avLst/>
            <a:gdLst/>
            <a:ahLst/>
            <a:rect l="l" t="t" r="r" b="b"/>
            <a:pathLst>
              <a:path w="150" h="1936">
                <a:moveTo>
                  <a:pt x="2158" y="6896"/>
                </a:moveTo>
                <a:cubicBezTo>
                  <a:pt x="2158" y="6755"/>
                  <a:pt x="2162" y="7045"/>
                  <a:pt x="2158" y="7069"/>
                </a:cubicBezTo>
                <a:cubicBezTo>
                  <a:pt x="2135" y="7218"/>
                  <a:pt x="2126" y="7366"/>
                  <a:pt x="2108" y="7516"/>
                </a:cubicBezTo>
                <a:cubicBezTo>
                  <a:pt x="2082" y="7737"/>
                  <a:pt x="2064" y="7963"/>
                  <a:pt x="2059" y="8186"/>
                </a:cubicBezTo>
                <a:cubicBezTo>
                  <a:pt x="2056" y="8310"/>
                  <a:pt x="2055" y="8459"/>
                  <a:pt x="2034" y="8582"/>
                </a:cubicBezTo>
                <a:cubicBezTo>
                  <a:pt x="2028" y="8615"/>
                  <a:pt x="2009" y="8901"/>
                  <a:pt x="2009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7"/>
          <p:cNvSpPr/>
          <p:nvPr/>
        </p:nvSpPr>
        <p:spPr>
          <a:xfrm>
            <a:off x="1017720" y="2554200"/>
            <a:ext cx="241200" cy="401760"/>
          </a:xfrm>
          <a:custGeom>
            <a:avLst/>
            <a:gdLst/>
            <a:ahLst/>
            <a:rect l="l" t="t" r="r" b="b"/>
            <a:pathLst>
              <a:path w="670" h="1117">
                <a:moveTo>
                  <a:pt x="2952" y="7293"/>
                </a:moveTo>
                <a:cubicBezTo>
                  <a:pt x="3018" y="7227"/>
                  <a:pt x="3079" y="7138"/>
                  <a:pt x="3175" y="7119"/>
                </a:cubicBezTo>
                <a:cubicBezTo>
                  <a:pt x="3224" y="7109"/>
                  <a:pt x="3322" y="7071"/>
                  <a:pt x="3349" y="7144"/>
                </a:cubicBezTo>
                <a:cubicBezTo>
                  <a:pt x="3367" y="7193"/>
                  <a:pt x="3304" y="7260"/>
                  <a:pt x="3274" y="7293"/>
                </a:cubicBezTo>
                <a:cubicBezTo>
                  <a:pt x="3233" y="7338"/>
                  <a:pt x="3212" y="7393"/>
                  <a:pt x="3175" y="7441"/>
                </a:cubicBezTo>
                <a:cubicBezTo>
                  <a:pt x="3123" y="7509"/>
                  <a:pt x="3111" y="7471"/>
                  <a:pt x="3200" y="7466"/>
                </a:cubicBezTo>
                <a:cubicBezTo>
                  <a:pt x="3307" y="7460"/>
                  <a:pt x="3355" y="7544"/>
                  <a:pt x="3373" y="7640"/>
                </a:cubicBezTo>
                <a:cubicBezTo>
                  <a:pt x="3386" y="7710"/>
                  <a:pt x="3364" y="7781"/>
                  <a:pt x="3324" y="7838"/>
                </a:cubicBezTo>
                <a:cubicBezTo>
                  <a:pt x="3280" y="7901"/>
                  <a:pt x="3216" y="7929"/>
                  <a:pt x="3150" y="7962"/>
                </a:cubicBezTo>
                <a:cubicBezTo>
                  <a:pt x="3097" y="7988"/>
                  <a:pt x="3012" y="8004"/>
                  <a:pt x="2952" y="7987"/>
                </a:cubicBezTo>
                <a:cubicBezTo>
                  <a:pt x="2871" y="7964"/>
                  <a:pt x="2842" y="7913"/>
                  <a:pt x="2853" y="7863"/>
                </a:cubicBezTo>
                <a:cubicBezTo>
                  <a:pt x="2853" y="7855"/>
                  <a:pt x="2853" y="7846"/>
                  <a:pt x="2853" y="7838"/>
                </a:cubicBezTo>
              </a:path>
              <a:path w="670" h="1117">
                <a:moveTo>
                  <a:pt x="3497" y="7938"/>
                </a:moveTo>
                <a:cubicBezTo>
                  <a:pt x="3497" y="8055"/>
                  <a:pt x="3480" y="8083"/>
                  <a:pt x="3448" y="8186"/>
                </a:cubicBezTo>
                <a:cubicBezTo>
                  <a:pt x="3448" y="8194"/>
                  <a:pt x="3448" y="8202"/>
                  <a:pt x="3448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8"/>
          <p:cNvSpPr/>
          <p:nvPr/>
        </p:nvSpPr>
        <p:spPr>
          <a:xfrm>
            <a:off x="1438200" y="2517840"/>
            <a:ext cx="982800" cy="465120"/>
          </a:xfrm>
          <a:custGeom>
            <a:avLst/>
            <a:gdLst/>
            <a:ahLst/>
            <a:rect l="l" t="t" r="r" b="b"/>
            <a:pathLst>
              <a:path w="2729" h="1291">
                <a:moveTo>
                  <a:pt x="3994" y="7268"/>
                </a:moveTo>
                <a:cubicBezTo>
                  <a:pt x="4123" y="7268"/>
                  <a:pt x="4271" y="7288"/>
                  <a:pt x="4390" y="7243"/>
                </a:cubicBezTo>
              </a:path>
              <a:path w="2729" h="1291">
                <a:moveTo>
                  <a:pt x="4787" y="7094"/>
                </a:moveTo>
                <a:cubicBezTo>
                  <a:pt x="4894" y="7075"/>
                  <a:pt x="4978" y="7069"/>
                  <a:pt x="5085" y="7069"/>
                </a:cubicBezTo>
                <a:cubicBezTo>
                  <a:pt x="5140" y="7069"/>
                  <a:pt x="5154" y="7053"/>
                  <a:pt x="5209" y="7045"/>
                </a:cubicBezTo>
              </a:path>
              <a:path w="2729" h="1291">
                <a:moveTo>
                  <a:pt x="4862" y="7020"/>
                </a:moveTo>
                <a:cubicBezTo>
                  <a:pt x="4821" y="7077"/>
                  <a:pt x="4784" y="7142"/>
                  <a:pt x="4738" y="7193"/>
                </a:cubicBezTo>
                <a:cubicBezTo>
                  <a:pt x="4692" y="7245"/>
                  <a:pt x="4663" y="7255"/>
                  <a:pt x="4688" y="7317"/>
                </a:cubicBezTo>
                <a:cubicBezTo>
                  <a:pt x="4748" y="7258"/>
                  <a:pt x="4767" y="7295"/>
                  <a:pt x="4837" y="7268"/>
                </a:cubicBezTo>
                <a:cubicBezTo>
                  <a:pt x="4877" y="7252"/>
                  <a:pt x="4913" y="7255"/>
                  <a:pt x="4961" y="7293"/>
                </a:cubicBezTo>
                <a:cubicBezTo>
                  <a:pt x="5019" y="7338"/>
                  <a:pt x="5058" y="7398"/>
                  <a:pt x="5085" y="7466"/>
                </a:cubicBezTo>
                <a:cubicBezTo>
                  <a:pt x="5112" y="7534"/>
                  <a:pt x="5129" y="7642"/>
                  <a:pt x="5110" y="7714"/>
                </a:cubicBezTo>
                <a:cubicBezTo>
                  <a:pt x="5093" y="7777"/>
                  <a:pt x="5039" y="7852"/>
                  <a:pt x="4986" y="7888"/>
                </a:cubicBezTo>
                <a:cubicBezTo>
                  <a:pt x="4911" y="7938"/>
                  <a:pt x="4849" y="7938"/>
                  <a:pt x="4762" y="7938"/>
                </a:cubicBezTo>
                <a:cubicBezTo>
                  <a:pt x="4699" y="7938"/>
                  <a:pt x="4664" y="7922"/>
                  <a:pt x="4614" y="7888"/>
                </a:cubicBezTo>
                <a:cubicBezTo>
                  <a:pt x="4694" y="7834"/>
                  <a:pt x="4725" y="7814"/>
                  <a:pt x="4787" y="7789"/>
                </a:cubicBezTo>
              </a:path>
              <a:path w="2729" h="1291">
                <a:moveTo>
                  <a:pt x="5482" y="7888"/>
                </a:moveTo>
                <a:cubicBezTo>
                  <a:pt x="5467" y="7990"/>
                  <a:pt x="5467" y="8098"/>
                  <a:pt x="5407" y="8186"/>
                </a:cubicBezTo>
                <a:cubicBezTo>
                  <a:pt x="5390" y="8211"/>
                  <a:pt x="5276" y="8301"/>
                  <a:pt x="5358" y="8260"/>
                </a:cubicBezTo>
              </a:path>
              <a:path w="2729" h="1291">
                <a:moveTo>
                  <a:pt x="6152" y="7069"/>
                </a:moveTo>
                <a:cubicBezTo>
                  <a:pt x="6238" y="7046"/>
                  <a:pt x="6312" y="7023"/>
                  <a:pt x="6400" y="7020"/>
                </a:cubicBezTo>
                <a:cubicBezTo>
                  <a:pt x="6498" y="7016"/>
                  <a:pt x="6578" y="7009"/>
                  <a:pt x="6672" y="6995"/>
                </a:cubicBezTo>
                <a:cubicBezTo>
                  <a:pt x="6689" y="6995"/>
                  <a:pt x="6705" y="6995"/>
                  <a:pt x="6722" y="6995"/>
                </a:cubicBezTo>
              </a:path>
              <a:path w="2729" h="1291">
                <a:moveTo>
                  <a:pt x="6152" y="7020"/>
                </a:moveTo>
                <a:cubicBezTo>
                  <a:pt x="6081" y="7119"/>
                  <a:pt x="6044" y="7175"/>
                  <a:pt x="6028" y="7293"/>
                </a:cubicBezTo>
                <a:cubicBezTo>
                  <a:pt x="6028" y="7342"/>
                  <a:pt x="6028" y="7359"/>
                  <a:pt x="6028" y="7392"/>
                </a:cubicBezTo>
                <a:cubicBezTo>
                  <a:pt x="6107" y="7383"/>
                  <a:pt x="6173" y="7345"/>
                  <a:pt x="6251" y="7342"/>
                </a:cubicBezTo>
                <a:cubicBezTo>
                  <a:pt x="6329" y="7339"/>
                  <a:pt x="6386" y="7354"/>
                  <a:pt x="6449" y="7367"/>
                </a:cubicBezTo>
                <a:cubicBezTo>
                  <a:pt x="6537" y="7385"/>
                  <a:pt x="6615" y="7463"/>
                  <a:pt x="6672" y="7541"/>
                </a:cubicBezTo>
                <a:cubicBezTo>
                  <a:pt x="6704" y="7585"/>
                  <a:pt x="6733" y="7712"/>
                  <a:pt x="6722" y="7764"/>
                </a:cubicBezTo>
                <a:cubicBezTo>
                  <a:pt x="6711" y="7818"/>
                  <a:pt x="6647" y="7911"/>
                  <a:pt x="6598" y="7938"/>
                </a:cubicBezTo>
                <a:cubicBezTo>
                  <a:pt x="6527" y="7977"/>
                  <a:pt x="6405" y="8025"/>
                  <a:pt x="6325" y="8037"/>
                </a:cubicBezTo>
                <a:cubicBezTo>
                  <a:pt x="6241" y="8049"/>
                  <a:pt x="6013" y="8055"/>
                  <a:pt x="6028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9"/>
          <p:cNvSpPr/>
          <p:nvPr/>
        </p:nvSpPr>
        <p:spPr>
          <a:xfrm>
            <a:off x="839880" y="1866960"/>
            <a:ext cx="2197080" cy="54000"/>
          </a:xfrm>
          <a:custGeom>
            <a:avLst/>
            <a:gdLst/>
            <a:ahLst/>
            <a:rect l="l" t="t" r="r" b="b"/>
            <a:pathLst>
              <a:path w="6103" h="150">
                <a:moveTo>
                  <a:pt x="2332" y="5333"/>
                </a:moveTo>
                <a:cubicBezTo>
                  <a:pt x="2381" y="5323"/>
                  <a:pt x="2447" y="5318"/>
                  <a:pt x="2505" y="5308"/>
                </a:cubicBezTo>
                <a:cubicBezTo>
                  <a:pt x="2581" y="5295"/>
                  <a:pt x="2646" y="5285"/>
                  <a:pt x="2729" y="5283"/>
                </a:cubicBezTo>
                <a:cubicBezTo>
                  <a:pt x="2830" y="5280"/>
                  <a:pt x="2932" y="5266"/>
                  <a:pt x="3026" y="5259"/>
                </a:cubicBezTo>
                <a:cubicBezTo>
                  <a:pt x="3412" y="5232"/>
                  <a:pt x="3807" y="5257"/>
                  <a:pt x="4192" y="5234"/>
                </a:cubicBezTo>
                <a:cubicBezTo>
                  <a:pt x="4381" y="5223"/>
                  <a:pt x="4578" y="5218"/>
                  <a:pt x="4762" y="5209"/>
                </a:cubicBezTo>
                <a:cubicBezTo>
                  <a:pt x="5001" y="5197"/>
                  <a:pt x="5248" y="5195"/>
                  <a:pt x="5482" y="5184"/>
                </a:cubicBezTo>
                <a:cubicBezTo>
                  <a:pt x="6415" y="5138"/>
                  <a:pt x="7419" y="5143"/>
                  <a:pt x="8334" y="5209"/>
                </a:cubicBezTo>
                <a:cubicBezTo>
                  <a:pt x="8384" y="5209"/>
                  <a:pt x="8401" y="5209"/>
                  <a:pt x="8434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0"/>
          <p:cNvSpPr/>
          <p:nvPr/>
        </p:nvSpPr>
        <p:spPr>
          <a:xfrm>
            <a:off x="723960" y="2303640"/>
            <a:ext cx="2160360" cy="884160"/>
          </a:xfrm>
          <a:custGeom>
            <a:avLst/>
            <a:gdLst/>
            <a:ahLst/>
            <a:rect l="l" t="t" r="r" b="b"/>
            <a:pathLst>
              <a:path w="6004" h="2456">
                <a:moveTo>
                  <a:pt x="2084" y="6672"/>
                </a:moveTo>
                <a:cubicBezTo>
                  <a:pt x="2149" y="6655"/>
                  <a:pt x="2193" y="6628"/>
                  <a:pt x="2257" y="6623"/>
                </a:cubicBezTo>
                <a:cubicBezTo>
                  <a:pt x="2429" y="6608"/>
                  <a:pt x="2607" y="6606"/>
                  <a:pt x="2778" y="6598"/>
                </a:cubicBezTo>
                <a:cubicBezTo>
                  <a:pt x="3026" y="6586"/>
                  <a:pt x="3276" y="6572"/>
                  <a:pt x="3522" y="6548"/>
                </a:cubicBezTo>
                <a:cubicBezTo>
                  <a:pt x="3763" y="6525"/>
                  <a:pt x="4001" y="6484"/>
                  <a:pt x="4242" y="6474"/>
                </a:cubicBezTo>
                <a:cubicBezTo>
                  <a:pt x="4580" y="6460"/>
                  <a:pt x="4921" y="6445"/>
                  <a:pt x="5259" y="6424"/>
                </a:cubicBezTo>
                <a:cubicBezTo>
                  <a:pt x="5594" y="6403"/>
                  <a:pt x="5939" y="6377"/>
                  <a:pt x="6276" y="6400"/>
                </a:cubicBezTo>
                <a:cubicBezTo>
                  <a:pt x="6606" y="6423"/>
                  <a:pt x="6939" y="6418"/>
                  <a:pt x="7268" y="6449"/>
                </a:cubicBezTo>
                <a:cubicBezTo>
                  <a:pt x="7392" y="6461"/>
                  <a:pt x="7516" y="6460"/>
                  <a:pt x="7640" y="6474"/>
                </a:cubicBezTo>
                <a:cubicBezTo>
                  <a:pt x="7706" y="6482"/>
                  <a:pt x="7806" y="6481"/>
                  <a:pt x="7863" y="6524"/>
                </a:cubicBezTo>
                <a:cubicBezTo>
                  <a:pt x="7937" y="6580"/>
                  <a:pt x="7919" y="6673"/>
                  <a:pt x="7913" y="6772"/>
                </a:cubicBezTo>
                <a:cubicBezTo>
                  <a:pt x="7908" y="6857"/>
                  <a:pt x="7890" y="6952"/>
                  <a:pt x="7888" y="7045"/>
                </a:cubicBezTo>
                <a:cubicBezTo>
                  <a:pt x="7884" y="7246"/>
                  <a:pt x="7892" y="7442"/>
                  <a:pt x="7913" y="7640"/>
                </a:cubicBezTo>
                <a:cubicBezTo>
                  <a:pt x="7932" y="7815"/>
                  <a:pt x="7940" y="7988"/>
                  <a:pt x="7962" y="8161"/>
                </a:cubicBezTo>
                <a:cubicBezTo>
                  <a:pt x="7975" y="8266"/>
                  <a:pt x="8004" y="8379"/>
                  <a:pt x="8012" y="8483"/>
                </a:cubicBezTo>
                <a:cubicBezTo>
                  <a:pt x="8019" y="8582"/>
                  <a:pt x="8020" y="8687"/>
                  <a:pt x="7987" y="8781"/>
                </a:cubicBezTo>
                <a:cubicBezTo>
                  <a:pt x="7957" y="8811"/>
                  <a:pt x="7946" y="8825"/>
                  <a:pt x="7938" y="8855"/>
                </a:cubicBezTo>
                <a:cubicBezTo>
                  <a:pt x="7869" y="8836"/>
                  <a:pt x="7823" y="8813"/>
                  <a:pt x="7764" y="8806"/>
                </a:cubicBezTo>
                <a:cubicBezTo>
                  <a:pt x="7544" y="8778"/>
                  <a:pt x="7316" y="8781"/>
                  <a:pt x="7094" y="8781"/>
                </a:cubicBezTo>
                <a:cubicBezTo>
                  <a:pt x="6605" y="8781"/>
                  <a:pt x="6140" y="8740"/>
                  <a:pt x="5655" y="8706"/>
                </a:cubicBezTo>
                <a:cubicBezTo>
                  <a:pt x="5398" y="8688"/>
                  <a:pt x="5164" y="8697"/>
                  <a:pt x="4911" y="8657"/>
                </a:cubicBezTo>
                <a:cubicBezTo>
                  <a:pt x="4639" y="8614"/>
                  <a:pt x="4363" y="8669"/>
                  <a:pt x="4093" y="8632"/>
                </a:cubicBezTo>
                <a:cubicBezTo>
                  <a:pt x="3827" y="8595"/>
                  <a:pt x="3571" y="8562"/>
                  <a:pt x="3299" y="8558"/>
                </a:cubicBezTo>
                <a:cubicBezTo>
                  <a:pt x="2942" y="8553"/>
                  <a:pt x="2583" y="8566"/>
                  <a:pt x="2232" y="8582"/>
                </a:cubicBezTo>
                <a:cubicBezTo>
                  <a:pt x="2139" y="8586"/>
                  <a:pt x="2123" y="8604"/>
                  <a:pt x="2034" y="8632"/>
                </a:cubicBezTo>
                <a:cubicBezTo>
                  <a:pt x="2026" y="8632"/>
                  <a:pt x="2017" y="8632"/>
                  <a:pt x="2009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7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6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7x + 5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Ink 3"/>
          <p:cNvSpPr/>
          <p:nvPr/>
        </p:nvSpPr>
        <p:spPr>
          <a:xfrm>
            <a:off x="795240" y="965160"/>
            <a:ext cx="2384640" cy="1035000"/>
          </a:xfrm>
          <a:custGeom>
            <a:avLst/>
            <a:gdLst/>
            <a:ahLst/>
            <a:rect l="l" t="t" r="r" b="b"/>
            <a:pathLst>
              <a:path w="6623" h="2878">
                <a:moveTo>
                  <a:pt x="2208" y="4266"/>
                </a:moveTo>
                <a:cubicBezTo>
                  <a:pt x="2283" y="4246"/>
                  <a:pt x="2355" y="4221"/>
                  <a:pt x="2431" y="4217"/>
                </a:cubicBezTo>
                <a:cubicBezTo>
                  <a:pt x="2525" y="4212"/>
                  <a:pt x="2610" y="4201"/>
                  <a:pt x="2704" y="4192"/>
                </a:cubicBezTo>
                <a:cubicBezTo>
                  <a:pt x="2820" y="4181"/>
                  <a:pt x="2937" y="4180"/>
                  <a:pt x="3051" y="4167"/>
                </a:cubicBezTo>
                <a:cubicBezTo>
                  <a:pt x="3235" y="4146"/>
                  <a:pt x="3436" y="4156"/>
                  <a:pt x="3621" y="4142"/>
                </a:cubicBezTo>
                <a:cubicBezTo>
                  <a:pt x="3995" y="4115"/>
                  <a:pt x="4557" y="4061"/>
                  <a:pt x="4911" y="4118"/>
                </a:cubicBezTo>
                <a:cubicBezTo>
                  <a:pt x="4911" y="4126"/>
                  <a:pt x="4911" y="4134"/>
                  <a:pt x="4911" y="4142"/>
                </a:cubicBezTo>
              </a:path>
              <a:path w="6623" h="2878">
                <a:moveTo>
                  <a:pt x="2729" y="2679"/>
                </a:moveTo>
                <a:cubicBezTo>
                  <a:pt x="2729" y="2894"/>
                  <a:pt x="2729" y="3109"/>
                  <a:pt x="2729" y="3324"/>
                </a:cubicBezTo>
              </a:path>
              <a:path w="6623" h="2878">
                <a:moveTo>
                  <a:pt x="2406" y="3200"/>
                </a:moveTo>
                <a:cubicBezTo>
                  <a:pt x="2488" y="3200"/>
                  <a:pt x="2561" y="3189"/>
                  <a:pt x="2629" y="3175"/>
                </a:cubicBezTo>
                <a:cubicBezTo>
                  <a:pt x="2698" y="3161"/>
                  <a:pt x="2799" y="3167"/>
                  <a:pt x="2853" y="3200"/>
                </a:cubicBezTo>
              </a:path>
              <a:path w="6623" h="2878">
                <a:moveTo>
                  <a:pt x="2431" y="3671"/>
                </a:moveTo>
                <a:cubicBezTo>
                  <a:pt x="2536" y="3703"/>
                  <a:pt x="2602" y="3687"/>
                  <a:pt x="2704" y="3671"/>
                </a:cubicBezTo>
                <a:cubicBezTo>
                  <a:pt x="2787" y="3658"/>
                  <a:pt x="2872" y="3651"/>
                  <a:pt x="2952" y="3621"/>
                </a:cubicBezTo>
                <a:cubicBezTo>
                  <a:pt x="3001" y="3597"/>
                  <a:pt x="3018" y="3589"/>
                  <a:pt x="3051" y="3572"/>
                </a:cubicBezTo>
              </a:path>
              <a:path w="6623" h="2878">
                <a:moveTo>
                  <a:pt x="3324" y="2877"/>
                </a:moveTo>
                <a:cubicBezTo>
                  <a:pt x="3317" y="2991"/>
                  <a:pt x="3299" y="3085"/>
                  <a:pt x="3299" y="3200"/>
                </a:cubicBezTo>
                <a:cubicBezTo>
                  <a:pt x="3299" y="3340"/>
                  <a:pt x="3299" y="3481"/>
                  <a:pt x="3299" y="3621"/>
                </a:cubicBezTo>
              </a:path>
              <a:path w="6623" h="2878">
                <a:moveTo>
                  <a:pt x="3547" y="3845"/>
                </a:moveTo>
                <a:cubicBezTo>
                  <a:pt x="3540" y="3956"/>
                  <a:pt x="3531" y="4019"/>
                  <a:pt x="3497" y="4118"/>
                </a:cubicBezTo>
                <a:cubicBezTo>
                  <a:pt x="3489" y="4143"/>
                  <a:pt x="3481" y="4167"/>
                  <a:pt x="3473" y="4192"/>
                </a:cubicBezTo>
              </a:path>
              <a:path w="6623" h="2878">
                <a:moveTo>
                  <a:pt x="4018" y="2803"/>
                </a:moveTo>
                <a:cubicBezTo>
                  <a:pt x="4004" y="2943"/>
                  <a:pt x="3980" y="3079"/>
                  <a:pt x="3994" y="3200"/>
                </a:cubicBezTo>
                <a:cubicBezTo>
                  <a:pt x="4002" y="3274"/>
                  <a:pt x="4004" y="3365"/>
                  <a:pt x="3969" y="3423"/>
                </a:cubicBezTo>
              </a:path>
              <a:path w="6623" h="2878">
                <a:moveTo>
                  <a:pt x="3696" y="3324"/>
                </a:moveTo>
                <a:cubicBezTo>
                  <a:pt x="3778" y="3365"/>
                  <a:pt x="3812" y="3335"/>
                  <a:pt x="3894" y="3324"/>
                </a:cubicBezTo>
                <a:cubicBezTo>
                  <a:pt x="3941" y="3318"/>
                  <a:pt x="3995" y="3324"/>
                  <a:pt x="4043" y="3324"/>
                </a:cubicBezTo>
              </a:path>
              <a:path w="6623" h="2878">
                <a:moveTo>
                  <a:pt x="3795" y="3696"/>
                </a:moveTo>
                <a:cubicBezTo>
                  <a:pt x="3898" y="3696"/>
                  <a:pt x="3970" y="3679"/>
                  <a:pt x="4068" y="3646"/>
                </a:cubicBezTo>
              </a:path>
              <a:path w="6623" h="2878">
                <a:moveTo>
                  <a:pt x="4539" y="2927"/>
                </a:moveTo>
                <a:cubicBezTo>
                  <a:pt x="4628" y="2903"/>
                  <a:pt x="4728" y="2927"/>
                  <a:pt x="4812" y="2902"/>
                </a:cubicBezTo>
                <a:cubicBezTo>
                  <a:pt x="4840" y="2874"/>
                  <a:pt x="4854" y="2865"/>
                  <a:pt x="4887" y="2877"/>
                </a:cubicBezTo>
              </a:path>
              <a:path w="6623" h="2878">
                <a:moveTo>
                  <a:pt x="4440" y="3001"/>
                </a:moveTo>
                <a:cubicBezTo>
                  <a:pt x="4397" y="3100"/>
                  <a:pt x="4371" y="3167"/>
                  <a:pt x="4366" y="3274"/>
                </a:cubicBezTo>
                <a:cubicBezTo>
                  <a:pt x="4363" y="3348"/>
                  <a:pt x="4364" y="3372"/>
                  <a:pt x="4415" y="3423"/>
                </a:cubicBezTo>
                <a:cubicBezTo>
                  <a:pt x="4457" y="3381"/>
                  <a:pt x="4480" y="3345"/>
                  <a:pt x="4514" y="3299"/>
                </a:cubicBezTo>
                <a:cubicBezTo>
                  <a:pt x="4550" y="3251"/>
                  <a:pt x="4631" y="3219"/>
                  <a:pt x="4688" y="3249"/>
                </a:cubicBezTo>
                <a:cubicBezTo>
                  <a:pt x="4738" y="3275"/>
                  <a:pt x="4800" y="3369"/>
                  <a:pt x="4812" y="3423"/>
                </a:cubicBezTo>
                <a:cubicBezTo>
                  <a:pt x="4827" y="3491"/>
                  <a:pt x="4823" y="3613"/>
                  <a:pt x="4787" y="3671"/>
                </a:cubicBezTo>
                <a:cubicBezTo>
                  <a:pt x="4749" y="3733"/>
                  <a:pt x="4719" y="3753"/>
                  <a:pt x="4663" y="3795"/>
                </a:cubicBezTo>
                <a:cubicBezTo>
                  <a:pt x="4618" y="3829"/>
                  <a:pt x="4549" y="3842"/>
                  <a:pt x="4490" y="3845"/>
                </a:cubicBezTo>
                <a:cubicBezTo>
                  <a:pt x="4399" y="3849"/>
                  <a:pt x="4308" y="3845"/>
                  <a:pt x="4217" y="3845"/>
                </a:cubicBezTo>
              </a:path>
              <a:path w="6623" h="2878">
                <a:moveTo>
                  <a:pt x="2704" y="4514"/>
                </a:moveTo>
                <a:cubicBezTo>
                  <a:pt x="2704" y="4682"/>
                  <a:pt x="2694" y="4852"/>
                  <a:pt x="2729" y="5011"/>
                </a:cubicBezTo>
                <a:cubicBezTo>
                  <a:pt x="2729" y="5019"/>
                  <a:pt x="2729" y="5027"/>
                  <a:pt x="2729" y="5035"/>
                </a:cubicBezTo>
              </a:path>
              <a:path w="6623" h="2878">
                <a:moveTo>
                  <a:pt x="2431" y="4961"/>
                </a:moveTo>
                <a:cubicBezTo>
                  <a:pt x="2555" y="4961"/>
                  <a:pt x="2679" y="4961"/>
                  <a:pt x="2803" y="4961"/>
                </a:cubicBezTo>
              </a:path>
              <a:path w="6623" h="2878">
                <a:moveTo>
                  <a:pt x="2480" y="5358"/>
                </a:moveTo>
                <a:cubicBezTo>
                  <a:pt x="2542" y="5389"/>
                  <a:pt x="2605" y="5383"/>
                  <a:pt x="2679" y="5383"/>
                </a:cubicBezTo>
                <a:cubicBezTo>
                  <a:pt x="2767" y="5383"/>
                  <a:pt x="2844" y="5357"/>
                  <a:pt x="2927" y="5333"/>
                </a:cubicBezTo>
              </a:path>
              <a:path w="6623" h="2878">
                <a:moveTo>
                  <a:pt x="3671" y="4638"/>
                </a:moveTo>
                <a:cubicBezTo>
                  <a:pt x="3642" y="4716"/>
                  <a:pt x="3646" y="4777"/>
                  <a:pt x="3646" y="4862"/>
                </a:cubicBezTo>
                <a:cubicBezTo>
                  <a:pt x="3646" y="4959"/>
                  <a:pt x="3625" y="5040"/>
                  <a:pt x="3621" y="5135"/>
                </a:cubicBezTo>
                <a:cubicBezTo>
                  <a:pt x="3616" y="5233"/>
                  <a:pt x="3636" y="5318"/>
                  <a:pt x="3646" y="5407"/>
                </a:cubicBezTo>
                <a:cubicBezTo>
                  <a:pt x="3655" y="5490"/>
                  <a:pt x="3613" y="5551"/>
                  <a:pt x="3671" y="5531"/>
                </a:cubicBezTo>
              </a:path>
              <a:path w="6623" h="2878">
                <a:moveTo>
                  <a:pt x="5259" y="4093"/>
                </a:moveTo>
                <a:cubicBezTo>
                  <a:pt x="5334" y="4093"/>
                  <a:pt x="5388" y="4079"/>
                  <a:pt x="5457" y="4068"/>
                </a:cubicBezTo>
                <a:cubicBezTo>
                  <a:pt x="5525" y="4057"/>
                  <a:pt x="5575" y="4079"/>
                  <a:pt x="5631" y="4093"/>
                </a:cubicBezTo>
              </a:path>
              <a:path w="6623" h="2878">
                <a:moveTo>
                  <a:pt x="5283" y="4266"/>
                </a:moveTo>
                <a:cubicBezTo>
                  <a:pt x="5350" y="4320"/>
                  <a:pt x="5396" y="4316"/>
                  <a:pt x="5482" y="4316"/>
                </a:cubicBezTo>
                <a:cubicBezTo>
                  <a:pt x="5552" y="4316"/>
                  <a:pt x="5587" y="4307"/>
                  <a:pt x="5631" y="4266"/>
                </a:cubicBezTo>
              </a:path>
              <a:path w="6623" h="2878">
                <a:moveTo>
                  <a:pt x="6499" y="3373"/>
                </a:moveTo>
                <a:cubicBezTo>
                  <a:pt x="6499" y="3463"/>
                  <a:pt x="6487" y="3538"/>
                  <a:pt x="6474" y="3621"/>
                </a:cubicBezTo>
                <a:cubicBezTo>
                  <a:pt x="6462" y="3694"/>
                  <a:pt x="6508" y="3823"/>
                  <a:pt x="6499" y="3870"/>
                </a:cubicBezTo>
                <a:cubicBezTo>
                  <a:pt x="6491" y="3878"/>
                  <a:pt x="6482" y="3886"/>
                  <a:pt x="6474" y="3894"/>
                </a:cubicBezTo>
              </a:path>
              <a:path w="6623" h="2878">
                <a:moveTo>
                  <a:pt x="6201" y="3845"/>
                </a:moveTo>
                <a:cubicBezTo>
                  <a:pt x="6399" y="3845"/>
                  <a:pt x="6598" y="3845"/>
                  <a:pt x="6796" y="3845"/>
                </a:cubicBezTo>
              </a:path>
              <a:path w="6623" h="2878">
                <a:moveTo>
                  <a:pt x="6226" y="4192"/>
                </a:moveTo>
                <a:cubicBezTo>
                  <a:pt x="6375" y="4192"/>
                  <a:pt x="6523" y="4192"/>
                  <a:pt x="6672" y="4192"/>
                </a:cubicBezTo>
              </a:path>
              <a:path w="6623" h="2878">
                <a:moveTo>
                  <a:pt x="7193" y="3373"/>
                </a:moveTo>
                <a:cubicBezTo>
                  <a:pt x="7193" y="3488"/>
                  <a:pt x="7173" y="3584"/>
                  <a:pt x="7169" y="3696"/>
                </a:cubicBezTo>
                <a:cubicBezTo>
                  <a:pt x="7166" y="3783"/>
                  <a:pt x="7144" y="3857"/>
                  <a:pt x="7144" y="3944"/>
                </a:cubicBezTo>
                <a:cubicBezTo>
                  <a:pt x="7144" y="4010"/>
                  <a:pt x="7144" y="4076"/>
                  <a:pt x="7144" y="4142"/>
                </a:cubicBezTo>
              </a:path>
              <a:path w="6623" h="2878">
                <a:moveTo>
                  <a:pt x="7466" y="4192"/>
                </a:moveTo>
                <a:cubicBezTo>
                  <a:pt x="7431" y="4305"/>
                  <a:pt x="7275" y="4529"/>
                  <a:pt x="7392" y="4514"/>
                </a:cubicBezTo>
                <a:cubicBezTo>
                  <a:pt x="7400" y="4506"/>
                  <a:pt x="7409" y="4498"/>
                  <a:pt x="7417" y="4490"/>
                </a:cubicBezTo>
              </a:path>
              <a:path w="6623" h="2878">
                <a:moveTo>
                  <a:pt x="7987" y="3324"/>
                </a:moveTo>
                <a:cubicBezTo>
                  <a:pt x="7978" y="3422"/>
                  <a:pt x="7927" y="3499"/>
                  <a:pt x="7913" y="3597"/>
                </a:cubicBezTo>
                <a:cubicBezTo>
                  <a:pt x="7900" y="3684"/>
                  <a:pt x="7913" y="3782"/>
                  <a:pt x="7913" y="3870"/>
                </a:cubicBezTo>
              </a:path>
              <a:path w="6623" h="2878">
                <a:moveTo>
                  <a:pt x="7640" y="3671"/>
                </a:moveTo>
                <a:cubicBezTo>
                  <a:pt x="7771" y="3671"/>
                  <a:pt x="7889" y="3667"/>
                  <a:pt x="8012" y="3646"/>
                </a:cubicBezTo>
                <a:cubicBezTo>
                  <a:pt x="8029" y="3646"/>
                  <a:pt x="8045" y="3646"/>
                  <a:pt x="8062" y="3646"/>
                </a:cubicBezTo>
              </a:path>
              <a:path w="6623" h="2878">
                <a:moveTo>
                  <a:pt x="7714" y="4118"/>
                </a:moveTo>
                <a:cubicBezTo>
                  <a:pt x="7802" y="4150"/>
                  <a:pt x="7827" y="4132"/>
                  <a:pt x="7913" y="4118"/>
                </a:cubicBezTo>
                <a:cubicBezTo>
                  <a:pt x="7973" y="4108"/>
                  <a:pt x="8005" y="4096"/>
                  <a:pt x="8062" y="4068"/>
                </a:cubicBezTo>
              </a:path>
              <a:path w="6623" h="2878">
                <a:moveTo>
                  <a:pt x="8458" y="3398"/>
                </a:moveTo>
                <a:cubicBezTo>
                  <a:pt x="8546" y="3382"/>
                  <a:pt x="8676" y="3373"/>
                  <a:pt x="8756" y="3324"/>
                </a:cubicBezTo>
                <a:cubicBezTo>
                  <a:pt x="8764" y="3316"/>
                  <a:pt x="8773" y="3307"/>
                  <a:pt x="8781" y="3299"/>
                </a:cubicBezTo>
              </a:path>
              <a:path w="6623" h="2878">
                <a:moveTo>
                  <a:pt x="8384" y="3398"/>
                </a:moveTo>
                <a:cubicBezTo>
                  <a:pt x="8370" y="3424"/>
                  <a:pt x="8236" y="3625"/>
                  <a:pt x="8260" y="3696"/>
                </a:cubicBezTo>
                <a:cubicBezTo>
                  <a:pt x="8280" y="3757"/>
                  <a:pt x="8344" y="3794"/>
                  <a:pt x="8409" y="3770"/>
                </a:cubicBezTo>
                <a:cubicBezTo>
                  <a:pt x="8474" y="3746"/>
                  <a:pt x="8512" y="3661"/>
                  <a:pt x="8582" y="3646"/>
                </a:cubicBezTo>
                <a:cubicBezTo>
                  <a:pt x="8684" y="3624"/>
                  <a:pt x="8724" y="3653"/>
                  <a:pt x="8781" y="3721"/>
                </a:cubicBezTo>
                <a:cubicBezTo>
                  <a:pt x="8836" y="3787"/>
                  <a:pt x="8813" y="3866"/>
                  <a:pt x="8806" y="3944"/>
                </a:cubicBezTo>
                <a:cubicBezTo>
                  <a:pt x="8800" y="4015"/>
                  <a:pt x="8761" y="4094"/>
                  <a:pt x="8706" y="4142"/>
                </a:cubicBezTo>
                <a:cubicBezTo>
                  <a:pt x="8657" y="4185"/>
                  <a:pt x="8572" y="4230"/>
                  <a:pt x="8508" y="4242"/>
                </a:cubicBezTo>
                <a:cubicBezTo>
                  <a:pt x="8437" y="4256"/>
                  <a:pt x="8349" y="4183"/>
                  <a:pt x="8285" y="4192"/>
                </a:cubicBezTo>
                <a:cubicBezTo>
                  <a:pt x="8243" y="4198"/>
                  <a:pt x="8270" y="4227"/>
                  <a:pt x="8285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4"/>
          <p:cNvSpPr/>
          <p:nvPr/>
        </p:nvSpPr>
        <p:spPr>
          <a:xfrm>
            <a:off x="2963880" y="785880"/>
            <a:ext cx="4867200" cy="517320"/>
          </a:xfrm>
          <a:custGeom>
            <a:avLst/>
            <a:gdLst/>
            <a:ahLst/>
            <a:rect l="l" t="t" r="r" b="b"/>
            <a:pathLst>
              <a:path w="13520" h="1439">
                <a:moveTo>
                  <a:pt x="8235" y="2431"/>
                </a:moveTo>
                <a:cubicBezTo>
                  <a:pt x="8273" y="2472"/>
                  <a:pt x="8320" y="2546"/>
                  <a:pt x="8359" y="2580"/>
                </a:cubicBezTo>
                <a:cubicBezTo>
                  <a:pt x="8432" y="2643"/>
                  <a:pt x="8514" y="2673"/>
                  <a:pt x="8607" y="2704"/>
                </a:cubicBezTo>
                <a:cubicBezTo>
                  <a:pt x="8725" y="2743"/>
                  <a:pt x="8834" y="2799"/>
                  <a:pt x="8954" y="2828"/>
                </a:cubicBezTo>
                <a:cubicBezTo>
                  <a:pt x="9225" y="2894"/>
                  <a:pt x="9499" y="2918"/>
                  <a:pt x="9773" y="2952"/>
                </a:cubicBezTo>
                <a:cubicBezTo>
                  <a:pt x="9937" y="2972"/>
                  <a:pt x="10105" y="2988"/>
                  <a:pt x="10269" y="3001"/>
                </a:cubicBezTo>
                <a:cubicBezTo>
                  <a:pt x="10362" y="3008"/>
                  <a:pt x="10496" y="3107"/>
                  <a:pt x="10542" y="3026"/>
                </a:cubicBezTo>
                <a:cubicBezTo>
                  <a:pt x="10585" y="3026"/>
                  <a:pt x="10587" y="3009"/>
                  <a:pt x="10542" y="2952"/>
                </a:cubicBezTo>
              </a:path>
              <a:path w="13520" h="1439">
                <a:moveTo>
                  <a:pt x="10344" y="2753"/>
                </a:moveTo>
                <a:cubicBezTo>
                  <a:pt x="10432" y="2761"/>
                  <a:pt x="10505" y="2793"/>
                  <a:pt x="10592" y="2803"/>
                </a:cubicBezTo>
                <a:cubicBezTo>
                  <a:pt x="10687" y="2814"/>
                  <a:pt x="10797" y="2826"/>
                  <a:pt x="10889" y="2853"/>
                </a:cubicBezTo>
                <a:cubicBezTo>
                  <a:pt x="10952" y="2871"/>
                  <a:pt x="11046" y="2950"/>
                  <a:pt x="11013" y="3026"/>
                </a:cubicBezTo>
                <a:cubicBezTo>
                  <a:pt x="10968" y="3127"/>
                  <a:pt x="10886" y="3171"/>
                  <a:pt x="10815" y="3249"/>
                </a:cubicBezTo>
                <a:cubicBezTo>
                  <a:pt x="10744" y="3327"/>
                  <a:pt x="10678" y="3413"/>
                  <a:pt x="10616" y="3497"/>
                </a:cubicBezTo>
                <a:cubicBezTo>
                  <a:pt x="10594" y="3520"/>
                  <a:pt x="10586" y="3525"/>
                  <a:pt x="10592" y="3547"/>
                </a:cubicBezTo>
              </a:path>
              <a:path w="13520" h="1439">
                <a:moveTo>
                  <a:pt x="11534" y="2456"/>
                </a:moveTo>
                <a:cubicBezTo>
                  <a:pt x="11502" y="2539"/>
                  <a:pt x="11469" y="2618"/>
                  <a:pt x="11435" y="2704"/>
                </a:cubicBezTo>
                <a:cubicBezTo>
                  <a:pt x="11401" y="2788"/>
                  <a:pt x="11329" y="2919"/>
                  <a:pt x="11311" y="3001"/>
                </a:cubicBezTo>
                <a:cubicBezTo>
                  <a:pt x="11291" y="3094"/>
                  <a:pt x="11286" y="3203"/>
                  <a:pt x="11286" y="3299"/>
                </a:cubicBezTo>
                <a:cubicBezTo>
                  <a:pt x="11286" y="3363"/>
                  <a:pt x="11296" y="3450"/>
                  <a:pt x="11336" y="3497"/>
                </a:cubicBezTo>
                <a:cubicBezTo>
                  <a:pt x="11374" y="3542"/>
                  <a:pt x="11393" y="3581"/>
                  <a:pt x="11410" y="3547"/>
                </a:cubicBezTo>
              </a:path>
              <a:path w="13520" h="1439">
                <a:moveTo>
                  <a:pt x="11658" y="2828"/>
                </a:moveTo>
                <a:cubicBezTo>
                  <a:pt x="11693" y="2919"/>
                  <a:pt x="11728" y="2989"/>
                  <a:pt x="11782" y="3076"/>
                </a:cubicBezTo>
                <a:cubicBezTo>
                  <a:pt x="11826" y="3148"/>
                  <a:pt x="11847" y="3212"/>
                  <a:pt x="11906" y="3274"/>
                </a:cubicBezTo>
                <a:cubicBezTo>
                  <a:pt x="11960" y="3331"/>
                  <a:pt x="11998" y="3372"/>
                  <a:pt x="12055" y="3423"/>
                </a:cubicBezTo>
                <a:cubicBezTo>
                  <a:pt x="12124" y="3486"/>
                  <a:pt x="12097" y="3506"/>
                  <a:pt x="12179" y="3448"/>
                </a:cubicBezTo>
              </a:path>
              <a:path w="13520" h="1439">
                <a:moveTo>
                  <a:pt x="11981" y="2828"/>
                </a:moveTo>
                <a:cubicBezTo>
                  <a:pt x="11936" y="2942"/>
                  <a:pt x="11903" y="3062"/>
                  <a:pt x="11857" y="3175"/>
                </a:cubicBezTo>
                <a:cubicBezTo>
                  <a:pt x="11825" y="3253"/>
                  <a:pt x="11771" y="3322"/>
                  <a:pt x="11733" y="3398"/>
                </a:cubicBezTo>
                <a:cubicBezTo>
                  <a:pt x="11727" y="3411"/>
                  <a:pt x="11659" y="3529"/>
                  <a:pt x="11633" y="3522"/>
                </a:cubicBezTo>
                <a:cubicBezTo>
                  <a:pt x="11633" y="3514"/>
                  <a:pt x="11633" y="3505"/>
                  <a:pt x="11633" y="3497"/>
                </a:cubicBezTo>
              </a:path>
              <a:path w="13520" h="1439">
                <a:moveTo>
                  <a:pt x="12105" y="3101"/>
                </a:moveTo>
                <a:cubicBezTo>
                  <a:pt x="12165" y="3064"/>
                  <a:pt x="12211" y="3095"/>
                  <a:pt x="12278" y="3076"/>
                </a:cubicBezTo>
                <a:cubicBezTo>
                  <a:pt x="12336" y="3060"/>
                  <a:pt x="12423" y="3072"/>
                  <a:pt x="12477" y="3051"/>
                </a:cubicBezTo>
                <a:cubicBezTo>
                  <a:pt x="12528" y="3031"/>
                  <a:pt x="12563" y="3026"/>
                  <a:pt x="12626" y="3026"/>
                </a:cubicBezTo>
              </a:path>
              <a:path w="13520" h="1439">
                <a:moveTo>
                  <a:pt x="12774" y="2629"/>
                </a:moveTo>
                <a:cubicBezTo>
                  <a:pt x="12790" y="2755"/>
                  <a:pt x="12819" y="2879"/>
                  <a:pt x="12824" y="3001"/>
                </a:cubicBezTo>
                <a:cubicBezTo>
                  <a:pt x="12830" y="3158"/>
                  <a:pt x="12824" y="3316"/>
                  <a:pt x="12824" y="3473"/>
                </a:cubicBezTo>
              </a:path>
              <a:path w="13520" h="1439">
                <a:moveTo>
                  <a:pt x="12898" y="2332"/>
                </a:moveTo>
                <a:cubicBezTo>
                  <a:pt x="13078" y="2496"/>
                  <a:pt x="13157" y="2570"/>
                  <a:pt x="13221" y="2803"/>
                </a:cubicBezTo>
                <a:cubicBezTo>
                  <a:pt x="13262" y="2954"/>
                  <a:pt x="13234" y="3055"/>
                  <a:pt x="13196" y="3200"/>
                </a:cubicBezTo>
                <a:cubicBezTo>
                  <a:pt x="13161" y="3336"/>
                  <a:pt x="13094" y="3445"/>
                  <a:pt x="12998" y="3547"/>
                </a:cubicBezTo>
                <a:cubicBezTo>
                  <a:pt x="12973" y="3572"/>
                  <a:pt x="12948" y="3596"/>
                  <a:pt x="12923" y="3621"/>
                </a:cubicBezTo>
              </a:path>
              <a:path w="13520" h="1439">
                <a:moveTo>
                  <a:pt x="13841" y="2332"/>
                </a:moveTo>
                <a:cubicBezTo>
                  <a:pt x="13787" y="2438"/>
                  <a:pt x="13738" y="2548"/>
                  <a:pt x="13692" y="2654"/>
                </a:cubicBezTo>
                <a:cubicBezTo>
                  <a:pt x="13646" y="2761"/>
                  <a:pt x="13622" y="2888"/>
                  <a:pt x="13593" y="3001"/>
                </a:cubicBezTo>
                <a:cubicBezTo>
                  <a:pt x="13561" y="3123"/>
                  <a:pt x="13557" y="3229"/>
                  <a:pt x="13593" y="3349"/>
                </a:cubicBezTo>
                <a:cubicBezTo>
                  <a:pt x="13618" y="3432"/>
                  <a:pt x="13662" y="3526"/>
                  <a:pt x="13742" y="3572"/>
                </a:cubicBezTo>
                <a:cubicBezTo>
                  <a:pt x="13834" y="3625"/>
                  <a:pt x="13859" y="3591"/>
                  <a:pt x="13940" y="3547"/>
                </a:cubicBezTo>
              </a:path>
              <a:path w="13520" h="1439">
                <a:moveTo>
                  <a:pt x="13990" y="2729"/>
                </a:moveTo>
                <a:cubicBezTo>
                  <a:pt x="14069" y="2808"/>
                  <a:pt x="14111" y="2878"/>
                  <a:pt x="14163" y="2977"/>
                </a:cubicBezTo>
                <a:cubicBezTo>
                  <a:pt x="14222" y="3090"/>
                  <a:pt x="14282" y="3202"/>
                  <a:pt x="14362" y="3299"/>
                </a:cubicBezTo>
                <a:cubicBezTo>
                  <a:pt x="14394" y="3337"/>
                  <a:pt x="14460" y="3433"/>
                  <a:pt x="14511" y="3423"/>
                </a:cubicBezTo>
                <a:cubicBezTo>
                  <a:pt x="14557" y="3414"/>
                  <a:pt x="14556" y="3353"/>
                  <a:pt x="14560" y="3324"/>
                </a:cubicBezTo>
              </a:path>
              <a:path w="13520" h="1439">
                <a:moveTo>
                  <a:pt x="14387" y="2729"/>
                </a:moveTo>
                <a:cubicBezTo>
                  <a:pt x="14292" y="2902"/>
                  <a:pt x="14205" y="3076"/>
                  <a:pt x="14114" y="3249"/>
                </a:cubicBezTo>
                <a:cubicBezTo>
                  <a:pt x="14091" y="3293"/>
                  <a:pt x="13928" y="3533"/>
                  <a:pt x="13990" y="3473"/>
                </a:cubicBezTo>
              </a:path>
              <a:path w="13520" h="1439">
                <a:moveTo>
                  <a:pt x="14734" y="2778"/>
                </a:moveTo>
                <a:cubicBezTo>
                  <a:pt x="14734" y="2912"/>
                  <a:pt x="14741" y="3022"/>
                  <a:pt x="14759" y="3150"/>
                </a:cubicBezTo>
                <a:cubicBezTo>
                  <a:pt x="14768" y="3214"/>
                  <a:pt x="14784" y="3252"/>
                  <a:pt x="14784" y="3324"/>
                </a:cubicBezTo>
                <a:cubicBezTo>
                  <a:pt x="14784" y="3332"/>
                  <a:pt x="14784" y="3341"/>
                  <a:pt x="14784" y="3349"/>
                </a:cubicBezTo>
              </a:path>
              <a:path w="13520" h="1439">
                <a:moveTo>
                  <a:pt x="14511" y="3026"/>
                </a:moveTo>
                <a:cubicBezTo>
                  <a:pt x="14634" y="3026"/>
                  <a:pt x="14719" y="3005"/>
                  <a:pt x="14833" y="3001"/>
                </a:cubicBezTo>
                <a:cubicBezTo>
                  <a:pt x="14929" y="2997"/>
                  <a:pt x="15015" y="2991"/>
                  <a:pt x="15106" y="2977"/>
                </a:cubicBezTo>
                <a:cubicBezTo>
                  <a:pt x="15123" y="2977"/>
                  <a:pt x="15139" y="2977"/>
                  <a:pt x="15156" y="2977"/>
                </a:cubicBezTo>
              </a:path>
              <a:path w="13520" h="1439">
                <a:moveTo>
                  <a:pt x="15404" y="2604"/>
                </a:moveTo>
                <a:cubicBezTo>
                  <a:pt x="15404" y="2798"/>
                  <a:pt x="15403" y="2987"/>
                  <a:pt x="15429" y="3175"/>
                </a:cubicBezTo>
                <a:cubicBezTo>
                  <a:pt x="15437" y="3234"/>
                  <a:pt x="15427" y="3298"/>
                  <a:pt x="15453" y="3349"/>
                </a:cubicBezTo>
                <a:cubicBezTo>
                  <a:pt x="15475" y="3371"/>
                  <a:pt x="15484" y="3382"/>
                  <a:pt x="15478" y="3349"/>
                </a:cubicBezTo>
              </a:path>
              <a:path w="13520" h="1439">
                <a:moveTo>
                  <a:pt x="15553" y="2232"/>
                </a:moveTo>
                <a:cubicBezTo>
                  <a:pt x="15677" y="2356"/>
                  <a:pt x="15770" y="2449"/>
                  <a:pt x="15850" y="2604"/>
                </a:cubicBezTo>
                <a:cubicBezTo>
                  <a:pt x="15919" y="2738"/>
                  <a:pt x="15957" y="2858"/>
                  <a:pt x="15999" y="3001"/>
                </a:cubicBezTo>
                <a:cubicBezTo>
                  <a:pt x="16031" y="3109"/>
                  <a:pt x="16031" y="3191"/>
                  <a:pt x="15999" y="3299"/>
                </a:cubicBezTo>
                <a:cubicBezTo>
                  <a:pt x="15982" y="3357"/>
                  <a:pt x="15923" y="3456"/>
                  <a:pt x="15875" y="3497"/>
                </a:cubicBezTo>
                <a:cubicBezTo>
                  <a:pt x="15826" y="3539"/>
                  <a:pt x="15730" y="3571"/>
                  <a:pt x="15726" y="3572"/>
                </a:cubicBezTo>
              </a:path>
              <a:path w="13520" h="1439">
                <a:moveTo>
                  <a:pt x="16768" y="2232"/>
                </a:moveTo>
                <a:cubicBezTo>
                  <a:pt x="16721" y="2279"/>
                  <a:pt x="16708" y="2331"/>
                  <a:pt x="16669" y="2381"/>
                </a:cubicBezTo>
                <a:cubicBezTo>
                  <a:pt x="16593" y="2479"/>
                  <a:pt x="16529" y="2591"/>
                  <a:pt x="16470" y="2704"/>
                </a:cubicBezTo>
                <a:cubicBezTo>
                  <a:pt x="16403" y="2832"/>
                  <a:pt x="16374" y="2958"/>
                  <a:pt x="16371" y="3101"/>
                </a:cubicBezTo>
                <a:cubicBezTo>
                  <a:pt x="16367" y="3272"/>
                  <a:pt x="16383" y="3310"/>
                  <a:pt x="16495" y="3423"/>
                </a:cubicBezTo>
                <a:cubicBezTo>
                  <a:pt x="16535" y="3463"/>
                  <a:pt x="16610" y="3533"/>
                  <a:pt x="16669" y="3547"/>
                </a:cubicBezTo>
                <a:cubicBezTo>
                  <a:pt x="16726" y="3561"/>
                  <a:pt x="16728" y="3567"/>
                  <a:pt x="16768" y="3547"/>
                </a:cubicBezTo>
              </a:path>
              <a:path w="13520" h="1439">
                <a:moveTo>
                  <a:pt x="17066" y="2778"/>
                </a:moveTo>
                <a:cubicBezTo>
                  <a:pt x="17113" y="2875"/>
                  <a:pt x="17175" y="2978"/>
                  <a:pt x="17214" y="3076"/>
                </a:cubicBezTo>
                <a:cubicBezTo>
                  <a:pt x="17265" y="3204"/>
                  <a:pt x="17330" y="3321"/>
                  <a:pt x="17388" y="3448"/>
                </a:cubicBezTo>
                <a:cubicBezTo>
                  <a:pt x="17390" y="3453"/>
                  <a:pt x="17477" y="3642"/>
                  <a:pt x="17512" y="3572"/>
                </a:cubicBezTo>
                <a:cubicBezTo>
                  <a:pt x="17512" y="3547"/>
                  <a:pt x="17512" y="3522"/>
                  <a:pt x="17512" y="3497"/>
                </a:cubicBezTo>
              </a:path>
              <a:path w="13520" h="1439">
                <a:moveTo>
                  <a:pt x="17388" y="2753"/>
                </a:moveTo>
                <a:cubicBezTo>
                  <a:pt x="17358" y="2915"/>
                  <a:pt x="17315" y="3047"/>
                  <a:pt x="17264" y="3200"/>
                </a:cubicBezTo>
                <a:cubicBezTo>
                  <a:pt x="17233" y="3294"/>
                  <a:pt x="17215" y="3366"/>
                  <a:pt x="17165" y="3448"/>
                </a:cubicBezTo>
                <a:cubicBezTo>
                  <a:pt x="17114" y="3532"/>
                  <a:pt x="17157" y="3476"/>
                  <a:pt x="17165" y="3423"/>
                </a:cubicBezTo>
              </a:path>
              <a:path w="13520" h="1439">
                <a:moveTo>
                  <a:pt x="17562" y="2456"/>
                </a:moveTo>
                <a:cubicBezTo>
                  <a:pt x="17646" y="2421"/>
                  <a:pt x="17856" y="2267"/>
                  <a:pt x="17934" y="2431"/>
                </a:cubicBezTo>
                <a:cubicBezTo>
                  <a:pt x="17972" y="2511"/>
                  <a:pt x="17919" y="2632"/>
                  <a:pt x="17884" y="2704"/>
                </a:cubicBezTo>
                <a:cubicBezTo>
                  <a:pt x="17854" y="2767"/>
                  <a:pt x="17804" y="2824"/>
                  <a:pt x="17760" y="2877"/>
                </a:cubicBezTo>
                <a:cubicBezTo>
                  <a:pt x="17819" y="2897"/>
                  <a:pt x="17909" y="2871"/>
                  <a:pt x="17983" y="2853"/>
                </a:cubicBezTo>
                <a:cubicBezTo>
                  <a:pt x="18008" y="2845"/>
                  <a:pt x="18033" y="2836"/>
                  <a:pt x="18058" y="2828"/>
                </a:cubicBezTo>
              </a:path>
              <a:path w="13520" h="1439">
                <a:moveTo>
                  <a:pt x="18083" y="3150"/>
                </a:moveTo>
                <a:cubicBezTo>
                  <a:pt x="18175" y="3167"/>
                  <a:pt x="18237" y="3160"/>
                  <a:pt x="18331" y="3125"/>
                </a:cubicBezTo>
                <a:cubicBezTo>
                  <a:pt x="18387" y="3097"/>
                  <a:pt x="18411" y="3087"/>
                  <a:pt x="18455" y="3076"/>
                </a:cubicBezTo>
              </a:path>
              <a:path w="13520" h="1439">
                <a:moveTo>
                  <a:pt x="18703" y="2654"/>
                </a:moveTo>
                <a:cubicBezTo>
                  <a:pt x="18834" y="2616"/>
                  <a:pt x="18973" y="2590"/>
                  <a:pt x="19100" y="2555"/>
                </a:cubicBezTo>
                <a:cubicBezTo>
                  <a:pt x="19148" y="2542"/>
                  <a:pt x="19273" y="2495"/>
                  <a:pt x="19273" y="2604"/>
                </a:cubicBezTo>
                <a:cubicBezTo>
                  <a:pt x="19273" y="2705"/>
                  <a:pt x="19199" y="2853"/>
                  <a:pt x="19174" y="2952"/>
                </a:cubicBezTo>
                <a:cubicBezTo>
                  <a:pt x="19141" y="3083"/>
                  <a:pt x="19105" y="3215"/>
                  <a:pt x="19100" y="3349"/>
                </a:cubicBezTo>
                <a:cubicBezTo>
                  <a:pt x="19098" y="3416"/>
                  <a:pt x="19094" y="3446"/>
                  <a:pt x="19124" y="3497"/>
                </a:cubicBezTo>
                <a:cubicBezTo>
                  <a:pt x="19194" y="3448"/>
                  <a:pt x="19192" y="3436"/>
                  <a:pt x="19224" y="3349"/>
                </a:cubicBezTo>
              </a:path>
              <a:path w="13520" h="1439">
                <a:moveTo>
                  <a:pt x="19546" y="2853"/>
                </a:moveTo>
                <a:cubicBezTo>
                  <a:pt x="19660" y="2973"/>
                  <a:pt x="19736" y="3103"/>
                  <a:pt x="19844" y="3225"/>
                </a:cubicBezTo>
                <a:cubicBezTo>
                  <a:pt x="19898" y="3285"/>
                  <a:pt x="19919" y="3297"/>
                  <a:pt x="19943" y="3225"/>
                </a:cubicBezTo>
              </a:path>
              <a:path w="13520" h="1439">
                <a:moveTo>
                  <a:pt x="19745" y="2853"/>
                </a:moveTo>
                <a:cubicBezTo>
                  <a:pt x="19698" y="2999"/>
                  <a:pt x="19668" y="3151"/>
                  <a:pt x="19571" y="3274"/>
                </a:cubicBezTo>
                <a:cubicBezTo>
                  <a:pt x="19517" y="3342"/>
                  <a:pt x="19510" y="3367"/>
                  <a:pt x="19496" y="3299"/>
                </a:cubicBezTo>
              </a:path>
              <a:path w="13520" h="1439">
                <a:moveTo>
                  <a:pt x="19993" y="2853"/>
                </a:moveTo>
                <a:cubicBezTo>
                  <a:pt x="20083" y="2868"/>
                  <a:pt x="20197" y="2896"/>
                  <a:pt x="20290" y="2877"/>
                </a:cubicBezTo>
                <a:cubicBezTo>
                  <a:pt x="20388" y="2846"/>
                  <a:pt x="20436" y="2834"/>
                  <a:pt x="20513" y="2828"/>
                </a:cubicBezTo>
              </a:path>
              <a:path w="13520" h="1439">
                <a:moveTo>
                  <a:pt x="20836" y="2480"/>
                </a:moveTo>
                <a:cubicBezTo>
                  <a:pt x="20936" y="2444"/>
                  <a:pt x="21027" y="2387"/>
                  <a:pt x="21134" y="2381"/>
                </a:cubicBezTo>
                <a:cubicBezTo>
                  <a:pt x="21182" y="2378"/>
                  <a:pt x="21213" y="2365"/>
                  <a:pt x="21258" y="2356"/>
                </a:cubicBezTo>
              </a:path>
              <a:path w="13520" h="1439">
                <a:moveTo>
                  <a:pt x="20712" y="2530"/>
                </a:moveTo>
                <a:cubicBezTo>
                  <a:pt x="20639" y="2622"/>
                  <a:pt x="20577" y="2634"/>
                  <a:pt x="20638" y="2679"/>
                </a:cubicBezTo>
                <a:cubicBezTo>
                  <a:pt x="20714" y="2718"/>
                  <a:pt x="20754" y="2684"/>
                  <a:pt x="20836" y="2679"/>
                </a:cubicBezTo>
                <a:cubicBezTo>
                  <a:pt x="20906" y="2675"/>
                  <a:pt x="21005" y="2676"/>
                  <a:pt x="21059" y="2729"/>
                </a:cubicBezTo>
                <a:cubicBezTo>
                  <a:pt x="21130" y="2799"/>
                  <a:pt x="21134" y="2856"/>
                  <a:pt x="21134" y="2952"/>
                </a:cubicBezTo>
                <a:cubicBezTo>
                  <a:pt x="21134" y="3058"/>
                  <a:pt x="21043" y="3123"/>
                  <a:pt x="20960" y="3175"/>
                </a:cubicBezTo>
                <a:cubicBezTo>
                  <a:pt x="20889" y="3219"/>
                  <a:pt x="20812" y="3247"/>
                  <a:pt x="20737" y="3200"/>
                </a:cubicBezTo>
                <a:cubicBezTo>
                  <a:pt x="20688" y="3170"/>
                  <a:pt x="20682" y="3126"/>
                  <a:pt x="20662" y="3076"/>
                </a:cubicBezTo>
              </a:path>
              <a:path w="13520" h="1439">
                <a:moveTo>
                  <a:pt x="21406" y="2183"/>
                </a:moveTo>
                <a:cubicBezTo>
                  <a:pt x="21559" y="2345"/>
                  <a:pt x="21644" y="2460"/>
                  <a:pt x="21704" y="2679"/>
                </a:cubicBezTo>
                <a:cubicBezTo>
                  <a:pt x="21738" y="2805"/>
                  <a:pt x="21775" y="2926"/>
                  <a:pt x="21729" y="3051"/>
                </a:cubicBezTo>
                <a:cubicBezTo>
                  <a:pt x="21666" y="3222"/>
                  <a:pt x="21533" y="3262"/>
                  <a:pt x="21382" y="3324"/>
                </a:cubicBezTo>
                <a:cubicBezTo>
                  <a:pt x="21325" y="3348"/>
                  <a:pt x="21261" y="3358"/>
                  <a:pt x="21208" y="3373"/>
                </a:cubicBezTo>
                <a:cubicBezTo>
                  <a:pt x="21200" y="3373"/>
                  <a:pt x="21191" y="3373"/>
                  <a:pt x="21183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554040" y="2205000"/>
            <a:ext cx="1258920" cy="1760400"/>
          </a:xfrm>
          <a:custGeom>
            <a:avLst/>
            <a:gdLst/>
            <a:ahLst/>
            <a:rect l="l" t="t" r="r" b="b"/>
            <a:pathLst>
              <a:path w="3498" h="4887">
                <a:moveTo>
                  <a:pt x="4564" y="7888"/>
                </a:moveTo>
                <a:cubicBezTo>
                  <a:pt x="4599" y="7982"/>
                  <a:pt x="4568" y="8033"/>
                  <a:pt x="4564" y="8136"/>
                </a:cubicBezTo>
                <a:cubicBezTo>
                  <a:pt x="4556" y="8353"/>
                  <a:pt x="4565" y="8570"/>
                  <a:pt x="4589" y="8781"/>
                </a:cubicBezTo>
                <a:cubicBezTo>
                  <a:pt x="4598" y="8860"/>
                  <a:pt x="4611" y="8933"/>
                  <a:pt x="4614" y="9004"/>
                </a:cubicBezTo>
                <a:cubicBezTo>
                  <a:pt x="4617" y="9077"/>
                  <a:pt x="4625" y="9123"/>
                  <a:pt x="4564" y="9153"/>
                </a:cubicBezTo>
              </a:path>
              <a:path w="3498" h="4887">
                <a:moveTo>
                  <a:pt x="4093" y="8731"/>
                </a:moveTo>
                <a:cubicBezTo>
                  <a:pt x="4131" y="8800"/>
                  <a:pt x="4175" y="8864"/>
                  <a:pt x="4217" y="8930"/>
                </a:cubicBezTo>
                <a:cubicBezTo>
                  <a:pt x="4261" y="8999"/>
                  <a:pt x="4309" y="9045"/>
                  <a:pt x="4366" y="9103"/>
                </a:cubicBezTo>
                <a:cubicBezTo>
                  <a:pt x="4420" y="9157"/>
                  <a:pt x="4445" y="9219"/>
                  <a:pt x="4514" y="9227"/>
                </a:cubicBezTo>
                <a:cubicBezTo>
                  <a:pt x="4574" y="9234"/>
                  <a:pt x="4655" y="9203"/>
                  <a:pt x="4688" y="9153"/>
                </a:cubicBezTo>
                <a:cubicBezTo>
                  <a:pt x="4748" y="9062"/>
                  <a:pt x="4831" y="8969"/>
                  <a:pt x="4936" y="8880"/>
                </a:cubicBezTo>
                <a:cubicBezTo>
                  <a:pt x="4996" y="8850"/>
                  <a:pt x="5019" y="8833"/>
                  <a:pt x="5035" y="8781"/>
                </a:cubicBezTo>
              </a:path>
              <a:path w="3498" h="4887">
                <a:moveTo>
                  <a:pt x="4589" y="9624"/>
                </a:moveTo>
                <a:cubicBezTo>
                  <a:pt x="4620" y="9695"/>
                  <a:pt x="4614" y="9743"/>
                  <a:pt x="4614" y="9823"/>
                </a:cubicBezTo>
                <a:cubicBezTo>
                  <a:pt x="4614" y="9896"/>
                  <a:pt x="4589" y="9969"/>
                  <a:pt x="4589" y="10046"/>
                </a:cubicBezTo>
                <a:cubicBezTo>
                  <a:pt x="4589" y="10175"/>
                  <a:pt x="4578" y="10294"/>
                  <a:pt x="4564" y="10418"/>
                </a:cubicBezTo>
                <a:cubicBezTo>
                  <a:pt x="4554" y="10506"/>
                  <a:pt x="4586" y="10565"/>
                  <a:pt x="4589" y="10641"/>
                </a:cubicBezTo>
                <a:cubicBezTo>
                  <a:pt x="4593" y="10724"/>
                  <a:pt x="4601" y="10787"/>
                  <a:pt x="4614" y="10864"/>
                </a:cubicBezTo>
                <a:cubicBezTo>
                  <a:pt x="4634" y="10985"/>
                  <a:pt x="4538" y="10862"/>
                  <a:pt x="4514" y="10840"/>
                </a:cubicBezTo>
              </a:path>
              <a:path w="3498" h="4887">
                <a:moveTo>
                  <a:pt x="3497" y="6127"/>
                </a:moveTo>
                <a:cubicBezTo>
                  <a:pt x="3425" y="6149"/>
                  <a:pt x="3325" y="6182"/>
                  <a:pt x="3249" y="6176"/>
                </a:cubicBezTo>
                <a:cubicBezTo>
                  <a:pt x="3172" y="6170"/>
                  <a:pt x="3057" y="6167"/>
                  <a:pt x="2977" y="6152"/>
                </a:cubicBezTo>
                <a:cubicBezTo>
                  <a:pt x="2851" y="6129"/>
                  <a:pt x="2734" y="6127"/>
                  <a:pt x="2604" y="6127"/>
                </a:cubicBezTo>
                <a:cubicBezTo>
                  <a:pt x="2468" y="6127"/>
                  <a:pt x="2342" y="6148"/>
                  <a:pt x="2208" y="6152"/>
                </a:cubicBezTo>
                <a:cubicBezTo>
                  <a:pt x="2088" y="6155"/>
                  <a:pt x="1973" y="6187"/>
                  <a:pt x="1860" y="6201"/>
                </a:cubicBezTo>
                <a:cubicBezTo>
                  <a:pt x="1782" y="6210"/>
                  <a:pt x="1712" y="6218"/>
                  <a:pt x="1637" y="6226"/>
                </a:cubicBezTo>
                <a:cubicBezTo>
                  <a:pt x="1621" y="6226"/>
                  <a:pt x="1604" y="6226"/>
                  <a:pt x="1588" y="6226"/>
                </a:cubicBezTo>
                <a:cubicBezTo>
                  <a:pt x="1601" y="6278"/>
                  <a:pt x="1632" y="6354"/>
                  <a:pt x="1637" y="6400"/>
                </a:cubicBezTo>
                <a:cubicBezTo>
                  <a:pt x="1647" y="6490"/>
                  <a:pt x="1653" y="6584"/>
                  <a:pt x="1662" y="6672"/>
                </a:cubicBezTo>
                <a:cubicBezTo>
                  <a:pt x="1672" y="6764"/>
                  <a:pt x="1704" y="6853"/>
                  <a:pt x="1712" y="6945"/>
                </a:cubicBezTo>
                <a:cubicBezTo>
                  <a:pt x="1721" y="7051"/>
                  <a:pt x="1748" y="7144"/>
                  <a:pt x="1761" y="7243"/>
                </a:cubicBezTo>
                <a:cubicBezTo>
                  <a:pt x="1772" y="7330"/>
                  <a:pt x="1715" y="7483"/>
                  <a:pt x="1786" y="7541"/>
                </a:cubicBezTo>
                <a:cubicBezTo>
                  <a:pt x="1837" y="7583"/>
                  <a:pt x="1918" y="7565"/>
                  <a:pt x="1984" y="7565"/>
                </a:cubicBezTo>
                <a:cubicBezTo>
                  <a:pt x="2059" y="7565"/>
                  <a:pt x="2111" y="7558"/>
                  <a:pt x="2183" y="7541"/>
                </a:cubicBezTo>
              </a:path>
              <a:path w="3498" h="4887">
                <a:moveTo>
                  <a:pt x="4018" y="9451"/>
                </a:moveTo>
                <a:cubicBezTo>
                  <a:pt x="4043" y="9434"/>
                  <a:pt x="4068" y="9418"/>
                  <a:pt x="4093" y="9401"/>
                </a:cubicBezTo>
                <a:cubicBezTo>
                  <a:pt x="4112" y="9475"/>
                  <a:pt x="4096" y="9536"/>
                  <a:pt x="4093" y="9624"/>
                </a:cubicBezTo>
                <a:cubicBezTo>
                  <a:pt x="4084" y="9865"/>
                  <a:pt x="4092" y="10109"/>
                  <a:pt x="4118" y="10344"/>
                </a:cubicBezTo>
                <a:cubicBezTo>
                  <a:pt x="4131" y="10461"/>
                  <a:pt x="4125" y="10578"/>
                  <a:pt x="4142" y="10691"/>
                </a:cubicBezTo>
                <a:cubicBezTo>
                  <a:pt x="4152" y="10757"/>
                  <a:pt x="4183" y="10833"/>
                  <a:pt x="4192" y="10889"/>
                </a:cubicBezTo>
                <a:cubicBezTo>
                  <a:pt x="4192" y="10941"/>
                  <a:pt x="4193" y="10959"/>
                  <a:pt x="4217" y="10988"/>
                </a:cubicBezTo>
                <a:cubicBezTo>
                  <a:pt x="4133" y="11011"/>
                  <a:pt x="4114" y="10999"/>
                  <a:pt x="4018" y="10988"/>
                </a:cubicBezTo>
                <a:cubicBezTo>
                  <a:pt x="3895" y="10974"/>
                  <a:pt x="3771" y="10949"/>
                  <a:pt x="3646" y="10939"/>
                </a:cubicBezTo>
                <a:cubicBezTo>
                  <a:pt x="3498" y="10928"/>
                  <a:pt x="3347" y="10918"/>
                  <a:pt x="3200" y="10914"/>
                </a:cubicBezTo>
                <a:cubicBezTo>
                  <a:pt x="2994" y="10909"/>
                  <a:pt x="2786" y="10914"/>
                  <a:pt x="2580" y="10914"/>
                </a:cubicBezTo>
              </a:path>
              <a:path w="3498" h="4887">
                <a:moveTo>
                  <a:pt x="1712" y="10145"/>
                </a:moveTo>
                <a:cubicBezTo>
                  <a:pt x="1809" y="10198"/>
                  <a:pt x="1848" y="10195"/>
                  <a:pt x="1960" y="10195"/>
                </a:cubicBezTo>
                <a:cubicBezTo>
                  <a:pt x="2088" y="10195"/>
                  <a:pt x="2205" y="10212"/>
                  <a:pt x="2332" y="10220"/>
                </a:cubicBezTo>
              </a:path>
              <a:path w="3498" h="4887">
                <a:moveTo>
                  <a:pt x="3001" y="9674"/>
                </a:moveTo>
                <a:cubicBezTo>
                  <a:pt x="3001" y="9785"/>
                  <a:pt x="2981" y="9887"/>
                  <a:pt x="2977" y="9996"/>
                </a:cubicBezTo>
                <a:cubicBezTo>
                  <a:pt x="2973" y="10117"/>
                  <a:pt x="2987" y="10231"/>
                  <a:pt x="3001" y="10344"/>
                </a:cubicBezTo>
                <a:cubicBezTo>
                  <a:pt x="3010" y="10419"/>
                  <a:pt x="3016" y="10496"/>
                  <a:pt x="3026" y="10567"/>
                </a:cubicBezTo>
                <a:cubicBezTo>
                  <a:pt x="3031" y="10601"/>
                  <a:pt x="3085" y="10759"/>
                  <a:pt x="3026" y="10641"/>
                </a:cubicBezTo>
              </a:path>
              <a:path w="3498" h="4887">
                <a:moveTo>
                  <a:pt x="4093" y="9302"/>
                </a:moveTo>
                <a:cubicBezTo>
                  <a:pt x="4013" y="9273"/>
                  <a:pt x="3957" y="9274"/>
                  <a:pt x="3870" y="9252"/>
                </a:cubicBezTo>
                <a:cubicBezTo>
                  <a:pt x="3746" y="9221"/>
                  <a:pt x="3619" y="9254"/>
                  <a:pt x="3497" y="9227"/>
                </a:cubicBezTo>
                <a:cubicBezTo>
                  <a:pt x="3313" y="9186"/>
                  <a:pt x="3146" y="9157"/>
                  <a:pt x="2952" y="9153"/>
                </a:cubicBezTo>
                <a:cubicBezTo>
                  <a:pt x="2709" y="9148"/>
                  <a:pt x="2471" y="9164"/>
                  <a:pt x="2232" y="9178"/>
                </a:cubicBezTo>
                <a:cubicBezTo>
                  <a:pt x="2075" y="9187"/>
                  <a:pt x="1937" y="9217"/>
                  <a:pt x="1786" y="9227"/>
                </a:cubicBezTo>
                <a:cubicBezTo>
                  <a:pt x="1706" y="9232"/>
                  <a:pt x="1563" y="9239"/>
                  <a:pt x="1538" y="9327"/>
                </a:cubicBezTo>
                <a:cubicBezTo>
                  <a:pt x="1518" y="9399"/>
                  <a:pt x="1578" y="9461"/>
                  <a:pt x="1588" y="9525"/>
                </a:cubicBezTo>
                <a:cubicBezTo>
                  <a:pt x="1615" y="9703"/>
                  <a:pt x="1580" y="9899"/>
                  <a:pt x="1563" y="10071"/>
                </a:cubicBezTo>
                <a:cubicBezTo>
                  <a:pt x="1554" y="10162"/>
                  <a:pt x="1547" y="10255"/>
                  <a:pt x="1538" y="10344"/>
                </a:cubicBezTo>
                <a:cubicBezTo>
                  <a:pt x="1529" y="10429"/>
                  <a:pt x="1554" y="10486"/>
                  <a:pt x="1563" y="10567"/>
                </a:cubicBezTo>
                <a:cubicBezTo>
                  <a:pt x="1575" y="10676"/>
                  <a:pt x="1601" y="10666"/>
                  <a:pt x="1712" y="10691"/>
                </a:cubicBezTo>
                <a:cubicBezTo>
                  <a:pt x="1795" y="10710"/>
                  <a:pt x="1871" y="10716"/>
                  <a:pt x="1960" y="10716"/>
                </a:cubicBezTo>
                <a:cubicBezTo>
                  <a:pt x="2093" y="10716"/>
                  <a:pt x="2226" y="10740"/>
                  <a:pt x="2356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2143080" y="2990880"/>
            <a:ext cx="608040" cy="920880"/>
          </a:xfrm>
          <a:custGeom>
            <a:avLst/>
            <a:gdLst/>
            <a:ahLst/>
            <a:rect l="l" t="t" r="r" b="b"/>
            <a:pathLst>
              <a:path w="1688" h="2555">
                <a:moveTo>
                  <a:pt x="7119" y="8310"/>
                </a:moveTo>
                <a:cubicBezTo>
                  <a:pt x="7119" y="8524"/>
                  <a:pt x="7107" y="8757"/>
                  <a:pt x="7144" y="8954"/>
                </a:cubicBezTo>
                <a:cubicBezTo>
                  <a:pt x="7156" y="9016"/>
                  <a:pt x="7161" y="9093"/>
                  <a:pt x="7169" y="9153"/>
                </a:cubicBezTo>
                <a:cubicBezTo>
                  <a:pt x="7177" y="9210"/>
                  <a:pt x="7164" y="9356"/>
                  <a:pt x="7144" y="9302"/>
                </a:cubicBezTo>
                <a:cubicBezTo>
                  <a:pt x="7144" y="9285"/>
                  <a:pt x="7144" y="9269"/>
                  <a:pt x="7144" y="9252"/>
                </a:cubicBezTo>
              </a:path>
              <a:path w="1688" h="2555">
                <a:moveTo>
                  <a:pt x="5953" y="10145"/>
                </a:moveTo>
                <a:cubicBezTo>
                  <a:pt x="6102" y="10145"/>
                  <a:pt x="6251" y="10145"/>
                  <a:pt x="6400" y="10145"/>
                </a:cubicBezTo>
              </a:path>
              <a:path w="1688" h="2555">
                <a:moveTo>
                  <a:pt x="6921" y="9922"/>
                </a:moveTo>
                <a:cubicBezTo>
                  <a:pt x="6910" y="9998"/>
                  <a:pt x="6861" y="10063"/>
                  <a:pt x="6846" y="10145"/>
                </a:cubicBezTo>
                <a:cubicBezTo>
                  <a:pt x="6826" y="10256"/>
                  <a:pt x="6843" y="10386"/>
                  <a:pt x="6871" y="10492"/>
                </a:cubicBezTo>
                <a:cubicBezTo>
                  <a:pt x="6892" y="10572"/>
                  <a:pt x="6938" y="10632"/>
                  <a:pt x="6995" y="10691"/>
                </a:cubicBezTo>
                <a:cubicBezTo>
                  <a:pt x="7068" y="10768"/>
                  <a:pt x="7148" y="10776"/>
                  <a:pt x="7243" y="10815"/>
                </a:cubicBezTo>
                <a:cubicBezTo>
                  <a:pt x="7331" y="10851"/>
                  <a:pt x="7406" y="10849"/>
                  <a:pt x="7491" y="10840"/>
                </a:cubicBezTo>
                <a:cubicBezTo>
                  <a:pt x="7536" y="10835"/>
                  <a:pt x="7623" y="10823"/>
                  <a:pt x="7640" y="10765"/>
                </a:cubicBezTo>
                <a:cubicBezTo>
                  <a:pt x="7664" y="10681"/>
                  <a:pt x="7612" y="10612"/>
                  <a:pt x="7590" y="10567"/>
                </a:cubicBezTo>
                <a:cubicBezTo>
                  <a:pt x="7559" y="10505"/>
                  <a:pt x="7492" y="10463"/>
                  <a:pt x="7417" y="10492"/>
                </a:cubicBezTo>
                <a:cubicBezTo>
                  <a:pt x="7356" y="10516"/>
                  <a:pt x="7346" y="10597"/>
                  <a:pt x="7342" y="10641"/>
                </a:cubicBezTo>
                <a:cubicBezTo>
                  <a:pt x="7337" y="10691"/>
                  <a:pt x="7364" y="10777"/>
                  <a:pt x="7392" y="10815"/>
                </a:cubicBezTo>
                <a:cubicBezTo>
                  <a:pt x="7414" y="10837"/>
                  <a:pt x="7423" y="10842"/>
                  <a:pt x="7417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3276720" y="3054240"/>
            <a:ext cx="2403360" cy="1106640"/>
          </a:xfrm>
          <a:custGeom>
            <a:avLst/>
            <a:gdLst/>
            <a:ahLst/>
            <a:rect l="l" t="t" r="r" b="b"/>
            <a:pathLst>
              <a:path w="6674" h="3077">
                <a:moveTo>
                  <a:pt x="9178" y="9029"/>
                </a:moveTo>
                <a:cubicBezTo>
                  <a:pt x="9369" y="9047"/>
                  <a:pt x="9477" y="9041"/>
                  <a:pt x="9674" y="9029"/>
                </a:cubicBezTo>
                <a:cubicBezTo>
                  <a:pt x="9699" y="9029"/>
                  <a:pt x="9723" y="9029"/>
                  <a:pt x="9748" y="9029"/>
                </a:cubicBezTo>
              </a:path>
              <a:path w="6674" h="3077">
                <a:moveTo>
                  <a:pt x="10170" y="8483"/>
                </a:moveTo>
                <a:cubicBezTo>
                  <a:pt x="10137" y="8566"/>
                  <a:pt x="10122" y="8619"/>
                  <a:pt x="10096" y="8706"/>
                </a:cubicBezTo>
                <a:cubicBezTo>
                  <a:pt x="10074" y="8777"/>
                  <a:pt x="10046" y="8865"/>
                  <a:pt x="10021" y="8930"/>
                </a:cubicBezTo>
                <a:cubicBezTo>
                  <a:pt x="9994" y="9001"/>
                  <a:pt x="10002" y="9072"/>
                  <a:pt x="10021" y="9153"/>
                </a:cubicBezTo>
                <a:cubicBezTo>
                  <a:pt x="10043" y="9249"/>
                  <a:pt x="10119" y="9251"/>
                  <a:pt x="10170" y="9302"/>
                </a:cubicBezTo>
                <a:cubicBezTo>
                  <a:pt x="10258" y="9390"/>
                  <a:pt x="10261" y="9376"/>
                  <a:pt x="10393" y="9376"/>
                </a:cubicBezTo>
                <a:cubicBezTo>
                  <a:pt x="10471" y="9376"/>
                  <a:pt x="10619" y="9411"/>
                  <a:pt x="10641" y="9302"/>
                </a:cubicBezTo>
                <a:cubicBezTo>
                  <a:pt x="10659" y="9211"/>
                  <a:pt x="10640" y="9161"/>
                  <a:pt x="10592" y="9103"/>
                </a:cubicBezTo>
                <a:cubicBezTo>
                  <a:pt x="10560" y="9064"/>
                  <a:pt x="10463" y="9064"/>
                  <a:pt x="10418" y="9079"/>
                </a:cubicBezTo>
                <a:cubicBezTo>
                  <a:pt x="10345" y="9104"/>
                  <a:pt x="10343" y="9180"/>
                  <a:pt x="10319" y="9227"/>
                </a:cubicBezTo>
                <a:cubicBezTo>
                  <a:pt x="10290" y="9284"/>
                  <a:pt x="10294" y="9330"/>
                  <a:pt x="10294" y="9401"/>
                </a:cubicBezTo>
              </a:path>
              <a:path w="6674" h="3077">
                <a:moveTo>
                  <a:pt x="9103" y="10195"/>
                </a:moveTo>
                <a:cubicBezTo>
                  <a:pt x="9187" y="10195"/>
                  <a:pt x="9248" y="10216"/>
                  <a:pt x="9327" y="10220"/>
                </a:cubicBezTo>
                <a:cubicBezTo>
                  <a:pt x="9376" y="10220"/>
                  <a:pt x="9393" y="10220"/>
                  <a:pt x="9426" y="10220"/>
                </a:cubicBezTo>
              </a:path>
              <a:path w="6674" h="3077">
                <a:moveTo>
                  <a:pt x="9872" y="9971"/>
                </a:moveTo>
                <a:cubicBezTo>
                  <a:pt x="9885" y="10054"/>
                  <a:pt x="9914" y="10180"/>
                  <a:pt x="9897" y="10269"/>
                </a:cubicBezTo>
                <a:cubicBezTo>
                  <a:pt x="9877" y="10372"/>
                  <a:pt x="9872" y="10460"/>
                  <a:pt x="9872" y="10567"/>
                </a:cubicBezTo>
                <a:cubicBezTo>
                  <a:pt x="9872" y="10660"/>
                  <a:pt x="9824" y="10943"/>
                  <a:pt x="9897" y="11013"/>
                </a:cubicBezTo>
                <a:cubicBezTo>
                  <a:pt x="9897" y="11005"/>
                  <a:pt x="9897" y="10996"/>
                  <a:pt x="9897" y="10988"/>
                </a:cubicBezTo>
              </a:path>
              <a:path w="6674" h="3077">
                <a:moveTo>
                  <a:pt x="10096" y="10120"/>
                </a:moveTo>
                <a:cubicBezTo>
                  <a:pt x="10192" y="10058"/>
                  <a:pt x="10236" y="10030"/>
                  <a:pt x="10319" y="9996"/>
                </a:cubicBezTo>
                <a:cubicBezTo>
                  <a:pt x="10402" y="9962"/>
                  <a:pt x="10442" y="9990"/>
                  <a:pt x="10492" y="10046"/>
                </a:cubicBezTo>
                <a:cubicBezTo>
                  <a:pt x="10531" y="10089"/>
                  <a:pt x="10534" y="10212"/>
                  <a:pt x="10517" y="10269"/>
                </a:cubicBezTo>
                <a:cubicBezTo>
                  <a:pt x="10495" y="10343"/>
                  <a:pt x="10433" y="10446"/>
                  <a:pt x="10393" y="10517"/>
                </a:cubicBezTo>
                <a:cubicBezTo>
                  <a:pt x="10361" y="10573"/>
                  <a:pt x="10331" y="10638"/>
                  <a:pt x="10294" y="10691"/>
                </a:cubicBezTo>
                <a:cubicBezTo>
                  <a:pt x="10259" y="10741"/>
                  <a:pt x="10269" y="10789"/>
                  <a:pt x="10244" y="10840"/>
                </a:cubicBezTo>
                <a:cubicBezTo>
                  <a:pt x="10206" y="10917"/>
                  <a:pt x="10268" y="10935"/>
                  <a:pt x="10344" y="10939"/>
                </a:cubicBezTo>
                <a:cubicBezTo>
                  <a:pt x="10417" y="10943"/>
                  <a:pt x="10474" y="10953"/>
                  <a:pt x="10542" y="10964"/>
                </a:cubicBezTo>
                <a:cubicBezTo>
                  <a:pt x="10637" y="10980"/>
                  <a:pt x="10748" y="10976"/>
                  <a:pt x="10840" y="10988"/>
                </a:cubicBezTo>
                <a:cubicBezTo>
                  <a:pt x="10905" y="10996"/>
                  <a:pt x="10998" y="11010"/>
                  <a:pt x="10964" y="10939"/>
                </a:cubicBezTo>
              </a:path>
              <a:path w="6674" h="3077">
                <a:moveTo>
                  <a:pt x="11609" y="9079"/>
                </a:moveTo>
                <a:cubicBezTo>
                  <a:pt x="11777" y="9079"/>
                  <a:pt x="11972" y="9052"/>
                  <a:pt x="12129" y="9103"/>
                </a:cubicBezTo>
              </a:path>
              <a:path w="6674" h="3077">
                <a:moveTo>
                  <a:pt x="12427" y="8706"/>
                </a:moveTo>
                <a:cubicBezTo>
                  <a:pt x="12427" y="8916"/>
                  <a:pt x="12428" y="9122"/>
                  <a:pt x="12452" y="9327"/>
                </a:cubicBezTo>
                <a:cubicBezTo>
                  <a:pt x="12459" y="9390"/>
                  <a:pt x="12463" y="9463"/>
                  <a:pt x="12477" y="9525"/>
                </a:cubicBezTo>
                <a:cubicBezTo>
                  <a:pt x="12499" y="9592"/>
                  <a:pt x="12504" y="9623"/>
                  <a:pt x="12526" y="9550"/>
                </a:cubicBezTo>
              </a:path>
              <a:path w="6674" h="3077">
                <a:moveTo>
                  <a:pt x="12774" y="8806"/>
                </a:moveTo>
                <a:cubicBezTo>
                  <a:pt x="12903" y="8713"/>
                  <a:pt x="12890" y="8709"/>
                  <a:pt x="13022" y="8731"/>
                </a:cubicBezTo>
                <a:cubicBezTo>
                  <a:pt x="13137" y="8750"/>
                  <a:pt x="13113" y="8908"/>
                  <a:pt x="13072" y="9004"/>
                </a:cubicBezTo>
                <a:cubicBezTo>
                  <a:pt x="13042" y="9075"/>
                  <a:pt x="13000" y="9149"/>
                  <a:pt x="12973" y="9227"/>
                </a:cubicBezTo>
                <a:cubicBezTo>
                  <a:pt x="12944" y="9312"/>
                  <a:pt x="12884" y="9323"/>
                  <a:pt x="12849" y="9401"/>
                </a:cubicBezTo>
                <a:cubicBezTo>
                  <a:pt x="12820" y="9465"/>
                  <a:pt x="12838" y="9572"/>
                  <a:pt x="12923" y="9599"/>
                </a:cubicBezTo>
                <a:cubicBezTo>
                  <a:pt x="13032" y="9633"/>
                  <a:pt x="13227" y="9604"/>
                  <a:pt x="13320" y="9550"/>
                </a:cubicBezTo>
                <a:cubicBezTo>
                  <a:pt x="13350" y="9520"/>
                  <a:pt x="13361" y="9506"/>
                  <a:pt x="13370" y="9475"/>
                </a:cubicBezTo>
              </a:path>
              <a:path w="6674" h="3077">
                <a:moveTo>
                  <a:pt x="12080" y="10641"/>
                </a:moveTo>
                <a:cubicBezTo>
                  <a:pt x="12189" y="10641"/>
                  <a:pt x="12231" y="10649"/>
                  <a:pt x="12328" y="10691"/>
                </a:cubicBezTo>
                <a:cubicBezTo>
                  <a:pt x="12401" y="10716"/>
                  <a:pt x="12425" y="10724"/>
                  <a:pt x="12477" y="10716"/>
                </a:cubicBezTo>
              </a:path>
              <a:path w="6674" h="3077">
                <a:moveTo>
                  <a:pt x="12874" y="10368"/>
                </a:moveTo>
                <a:cubicBezTo>
                  <a:pt x="13023" y="10407"/>
                  <a:pt x="13099" y="10418"/>
                  <a:pt x="13246" y="10418"/>
                </a:cubicBezTo>
              </a:path>
              <a:path w="6674" h="3077">
                <a:moveTo>
                  <a:pt x="12998" y="10418"/>
                </a:moveTo>
                <a:cubicBezTo>
                  <a:pt x="12892" y="10510"/>
                  <a:pt x="12830" y="10526"/>
                  <a:pt x="12824" y="10641"/>
                </a:cubicBezTo>
                <a:cubicBezTo>
                  <a:pt x="12819" y="10736"/>
                  <a:pt x="12824" y="10759"/>
                  <a:pt x="12923" y="10765"/>
                </a:cubicBezTo>
                <a:cubicBezTo>
                  <a:pt x="13005" y="10770"/>
                  <a:pt x="13078" y="10753"/>
                  <a:pt x="13146" y="10790"/>
                </a:cubicBezTo>
                <a:cubicBezTo>
                  <a:pt x="13214" y="10826"/>
                  <a:pt x="13231" y="10851"/>
                  <a:pt x="13271" y="10914"/>
                </a:cubicBezTo>
                <a:cubicBezTo>
                  <a:pt x="13312" y="10979"/>
                  <a:pt x="13359" y="11080"/>
                  <a:pt x="13345" y="11162"/>
                </a:cubicBezTo>
                <a:cubicBezTo>
                  <a:pt x="13336" y="11216"/>
                  <a:pt x="13317" y="11322"/>
                  <a:pt x="13271" y="11361"/>
                </a:cubicBezTo>
                <a:cubicBezTo>
                  <a:pt x="13220" y="11404"/>
                  <a:pt x="13163" y="11419"/>
                  <a:pt x="13097" y="11410"/>
                </a:cubicBezTo>
                <a:cubicBezTo>
                  <a:pt x="12960" y="11392"/>
                  <a:pt x="12921" y="11374"/>
                  <a:pt x="12824" y="11286"/>
                </a:cubicBezTo>
                <a:cubicBezTo>
                  <a:pt x="12798" y="11263"/>
                  <a:pt x="12774" y="11237"/>
                  <a:pt x="12750" y="11212"/>
                </a:cubicBezTo>
              </a:path>
              <a:path w="6674" h="3077">
                <a:moveTo>
                  <a:pt x="13940" y="8954"/>
                </a:moveTo>
                <a:cubicBezTo>
                  <a:pt x="14049" y="8972"/>
                  <a:pt x="14120" y="9004"/>
                  <a:pt x="14238" y="9004"/>
                </a:cubicBezTo>
                <a:cubicBezTo>
                  <a:pt x="14316" y="9004"/>
                  <a:pt x="14384" y="9022"/>
                  <a:pt x="14461" y="9029"/>
                </a:cubicBezTo>
              </a:path>
              <a:path w="6674" h="3077">
                <a:moveTo>
                  <a:pt x="15007" y="8781"/>
                </a:moveTo>
                <a:cubicBezTo>
                  <a:pt x="15131" y="8781"/>
                  <a:pt x="15255" y="8781"/>
                  <a:pt x="15379" y="8781"/>
                </a:cubicBezTo>
              </a:path>
              <a:path w="6674" h="3077">
                <a:moveTo>
                  <a:pt x="14932" y="8731"/>
                </a:moveTo>
                <a:cubicBezTo>
                  <a:pt x="14875" y="8822"/>
                  <a:pt x="14845" y="8897"/>
                  <a:pt x="14833" y="9004"/>
                </a:cubicBezTo>
                <a:cubicBezTo>
                  <a:pt x="14833" y="9029"/>
                  <a:pt x="14833" y="9054"/>
                  <a:pt x="14833" y="9079"/>
                </a:cubicBezTo>
                <a:cubicBezTo>
                  <a:pt x="14880" y="9013"/>
                  <a:pt x="14939" y="8975"/>
                  <a:pt x="15032" y="9004"/>
                </a:cubicBezTo>
                <a:cubicBezTo>
                  <a:pt x="15102" y="9026"/>
                  <a:pt x="15189" y="9099"/>
                  <a:pt x="15230" y="9153"/>
                </a:cubicBezTo>
                <a:cubicBezTo>
                  <a:pt x="15295" y="9238"/>
                  <a:pt x="15346" y="9348"/>
                  <a:pt x="15354" y="9451"/>
                </a:cubicBezTo>
                <a:cubicBezTo>
                  <a:pt x="15358" y="9503"/>
                  <a:pt x="15338" y="9645"/>
                  <a:pt x="15280" y="9674"/>
                </a:cubicBezTo>
                <a:cubicBezTo>
                  <a:pt x="15222" y="9703"/>
                  <a:pt x="15122" y="9699"/>
                  <a:pt x="15056" y="9699"/>
                </a:cubicBezTo>
                <a:cubicBezTo>
                  <a:pt x="14941" y="9699"/>
                  <a:pt x="14875" y="9687"/>
                  <a:pt x="14784" y="9748"/>
                </a:cubicBezTo>
              </a:path>
              <a:path w="6674" h="3077">
                <a:moveTo>
                  <a:pt x="15131" y="10641"/>
                </a:moveTo>
                <a:cubicBezTo>
                  <a:pt x="15094" y="10714"/>
                  <a:pt x="15053" y="10750"/>
                  <a:pt x="15007" y="10815"/>
                </a:cubicBezTo>
                <a:cubicBezTo>
                  <a:pt x="14957" y="10886"/>
                  <a:pt x="14961" y="10960"/>
                  <a:pt x="14932" y="11038"/>
                </a:cubicBezTo>
                <a:cubicBezTo>
                  <a:pt x="14902" y="11119"/>
                  <a:pt x="14897" y="11181"/>
                  <a:pt x="14932" y="11261"/>
                </a:cubicBezTo>
                <a:cubicBezTo>
                  <a:pt x="14973" y="11354"/>
                  <a:pt x="15018" y="11405"/>
                  <a:pt x="15106" y="11460"/>
                </a:cubicBezTo>
                <a:cubicBezTo>
                  <a:pt x="15178" y="11505"/>
                  <a:pt x="15295" y="11544"/>
                  <a:pt x="15379" y="11559"/>
                </a:cubicBezTo>
                <a:cubicBezTo>
                  <a:pt x="15468" y="11575"/>
                  <a:pt x="15538" y="11524"/>
                  <a:pt x="15602" y="11485"/>
                </a:cubicBezTo>
                <a:cubicBezTo>
                  <a:pt x="15697" y="11427"/>
                  <a:pt x="15708" y="11385"/>
                  <a:pt x="15751" y="11286"/>
                </a:cubicBezTo>
                <a:cubicBezTo>
                  <a:pt x="15796" y="11183"/>
                  <a:pt x="15786" y="11018"/>
                  <a:pt x="15751" y="10914"/>
                </a:cubicBezTo>
                <a:cubicBezTo>
                  <a:pt x="15722" y="10827"/>
                  <a:pt x="15614" y="10710"/>
                  <a:pt x="15553" y="10641"/>
                </a:cubicBezTo>
                <a:cubicBezTo>
                  <a:pt x="15485" y="10564"/>
                  <a:pt x="15352" y="10503"/>
                  <a:pt x="15255" y="10492"/>
                </a:cubicBezTo>
                <a:cubicBezTo>
                  <a:pt x="15127" y="10478"/>
                  <a:pt x="15061" y="10478"/>
                  <a:pt x="14982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6170760" y="1401840"/>
            <a:ext cx="2849400" cy="642960"/>
          </a:xfrm>
          <a:custGeom>
            <a:avLst/>
            <a:gdLst/>
            <a:ahLst/>
            <a:rect l="l" t="t" r="r" b="b"/>
            <a:pathLst>
              <a:path w="7914" h="1787">
                <a:moveTo>
                  <a:pt x="17140" y="4539"/>
                </a:moveTo>
                <a:cubicBezTo>
                  <a:pt x="17195" y="4621"/>
                  <a:pt x="17207" y="4731"/>
                  <a:pt x="17264" y="4812"/>
                </a:cubicBezTo>
                <a:cubicBezTo>
                  <a:pt x="17319" y="4890"/>
                  <a:pt x="17394" y="4971"/>
                  <a:pt x="17438" y="5060"/>
                </a:cubicBezTo>
                <a:cubicBezTo>
                  <a:pt x="17489" y="5163"/>
                  <a:pt x="17541" y="5241"/>
                  <a:pt x="17611" y="5333"/>
                </a:cubicBezTo>
                <a:cubicBezTo>
                  <a:pt x="17671" y="5413"/>
                  <a:pt x="17699" y="5502"/>
                  <a:pt x="17760" y="5581"/>
                </a:cubicBezTo>
                <a:cubicBezTo>
                  <a:pt x="17788" y="5617"/>
                  <a:pt x="17827" y="5648"/>
                  <a:pt x="17859" y="5680"/>
                </a:cubicBezTo>
              </a:path>
              <a:path w="7914" h="1787">
                <a:moveTo>
                  <a:pt x="17711" y="4390"/>
                </a:moveTo>
                <a:cubicBezTo>
                  <a:pt x="17663" y="4461"/>
                  <a:pt x="17646" y="4555"/>
                  <a:pt x="17636" y="4638"/>
                </a:cubicBezTo>
                <a:cubicBezTo>
                  <a:pt x="17623" y="4744"/>
                  <a:pt x="17596" y="4833"/>
                  <a:pt x="17562" y="4936"/>
                </a:cubicBezTo>
                <a:cubicBezTo>
                  <a:pt x="17524" y="5049"/>
                  <a:pt x="17484" y="5152"/>
                  <a:pt x="17438" y="5259"/>
                </a:cubicBezTo>
                <a:cubicBezTo>
                  <a:pt x="17404" y="5339"/>
                  <a:pt x="17385" y="5433"/>
                  <a:pt x="17338" y="5507"/>
                </a:cubicBezTo>
                <a:cubicBezTo>
                  <a:pt x="17310" y="5550"/>
                  <a:pt x="17265" y="5666"/>
                  <a:pt x="17289" y="5556"/>
                </a:cubicBezTo>
                <a:cubicBezTo>
                  <a:pt x="17289" y="5548"/>
                  <a:pt x="17289" y="5539"/>
                  <a:pt x="17289" y="5531"/>
                </a:cubicBezTo>
              </a:path>
              <a:path w="7914" h="1787">
                <a:moveTo>
                  <a:pt x="17909" y="4911"/>
                </a:moveTo>
                <a:cubicBezTo>
                  <a:pt x="17961" y="4943"/>
                  <a:pt x="18000" y="4931"/>
                  <a:pt x="18058" y="4911"/>
                </a:cubicBezTo>
                <a:cubicBezTo>
                  <a:pt x="18136" y="4884"/>
                  <a:pt x="18203" y="4859"/>
                  <a:pt x="18281" y="4837"/>
                </a:cubicBezTo>
                <a:cubicBezTo>
                  <a:pt x="18386" y="4808"/>
                  <a:pt x="18427" y="4775"/>
                  <a:pt x="18405" y="4862"/>
                </a:cubicBezTo>
              </a:path>
              <a:path w="7914" h="1787">
                <a:moveTo>
                  <a:pt x="18008" y="5184"/>
                </a:moveTo>
                <a:cubicBezTo>
                  <a:pt x="18073" y="5223"/>
                  <a:pt x="18134" y="5215"/>
                  <a:pt x="18207" y="5184"/>
                </a:cubicBezTo>
                <a:cubicBezTo>
                  <a:pt x="18284" y="5151"/>
                  <a:pt x="18375" y="5123"/>
                  <a:pt x="18455" y="5110"/>
                </a:cubicBezTo>
                <a:cubicBezTo>
                  <a:pt x="18471" y="5110"/>
                  <a:pt x="18488" y="5110"/>
                  <a:pt x="18504" y="5110"/>
                </a:cubicBezTo>
              </a:path>
              <a:path w="7914" h="1787">
                <a:moveTo>
                  <a:pt x="18926" y="4366"/>
                </a:moveTo>
                <a:cubicBezTo>
                  <a:pt x="18935" y="4429"/>
                  <a:pt x="18948" y="4420"/>
                  <a:pt x="18926" y="4465"/>
                </a:cubicBezTo>
                <a:cubicBezTo>
                  <a:pt x="18886" y="4359"/>
                  <a:pt x="18900" y="4361"/>
                  <a:pt x="18976" y="4316"/>
                </a:cubicBezTo>
                <a:cubicBezTo>
                  <a:pt x="19028" y="4285"/>
                  <a:pt x="19108" y="4270"/>
                  <a:pt x="19174" y="4266"/>
                </a:cubicBezTo>
                <a:cubicBezTo>
                  <a:pt x="19245" y="4262"/>
                  <a:pt x="19304" y="4245"/>
                  <a:pt x="19372" y="4242"/>
                </a:cubicBezTo>
                <a:cubicBezTo>
                  <a:pt x="19430" y="4240"/>
                  <a:pt x="19488" y="4242"/>
                  <a:pt x="19546" y="4242"/>
                </a:cubicBezTo>
                <a:cubicBezTo>
                  <a:pt x="19503" y="4312"/>
                  <a:pt x="19543" y="4380"/>
                  <a:pt x="19546" y="4465"/>
                </a:cubicBezTo>
                <a:cubicBezTo>
                  <a:pt x="19549" y="4559"/>
                  <a:pt x="19521" y="4639"/>
                  <a:pt x="19521" y="4738"/>
                </a:cubicBezTo>
                <a:cubicBezTo>
                  <a:pt x="19521" y="4836"/>
                  <a:pt x="19532" y="4921"/>
                  <a:pt x="19546" y="5011"/>
                </a:cubicBezTo>
                <a:cubicBezTo>
                  <a:pt x="19546" y="5060"/>
                  <a:pt x="19546" y="5077"/>
                  <a:pt x="19546" y="5110"/>
                </a:cubicBezTo>
              </a:path>
              <a:path w="7914" h="1787">
                <a:moveTo>
                  <a:pt x="20265" y="3919"/>
                </a:moveTo>
                <a:cubicBezTo>
                  <a:pt x="20252" y="4031"/>
                  <a:pt x="20265" y="4085"/>
                  <a:pt x="20265" y="4192"/>
                </a:cubicBezTo>
                <a:cubicBezTo>
                  <a:pt x="20265" y="4311"/>
                  <a:pt x="20298" y="4491"/>
                  <a:pt x="20241" y="4589"/>
                </a:cubicBezTo>
              </a:path>
              <a:path w="7914" h="1787">
                <a:moveTo>
                  <a:pt x="19993" y="4390"/>
                </a:moveTo>
                <a:cubicBezTo>
                  <a:pt x="20080" y="4390"/>
                  <a:pt x="20156" y="4370"/>
                  <a:pt x="20241" y="4366"/>
                </a:cubicBezTo>
                <a:cubicBezTo>
                  <a:pt x="20315" y="4362"/>
                  <a:pt x="20371" y="4365"/>
                  <a:pt x="20439" y="4390"/>
                </a:cubicBezTo>
              </a:path>
              <a:path w="7914" h="1787">
                <a:moveTo>
                  <a:pt x="20092" y="4787"/>
                </a:moveTo>
                <a:cubicBezTo>
                  <a:pt x="20165" y="4776"/>
                  <a:pt x="20239" y="4747"/>
                  <a:pt x="20315" y="4738"/>
                </a:cubicBezTo>
                <a:cubicBezTo>
                  <a:pt x="20401" y="4728"/>
                  <a:pt x="20474" y="4713"/>
                  <a:pt x="20563" y="4713"/>
                </a:cubicBezTo>
              </a:path>
              <a:path w="7914" h="1787">
                <a:moveTo>
                  <a:pt x="20762" y="4564"/>
                </a:moveTo>
                <a:cubicBezTo>
                  <a:pt x="20781" y="4694"/>
                  <a:pt x="20788" y="4834"/>
                  <a:pt x="20811" y="4961"/>
                </a:cubicBezTo>
                <a:cubicBezTo>
                  <a:pt x="20826" y="5045"/>
                  <a:pt x="20842" y="5128"/>
                  <a:pt x="20861" y="5209"/>
                </a:cubicBezTo>
                <a:cubicBezTo>
                  <a:pt x="20867" y="5233"/>
                  <a:pt x="20917" y="5433"/>
                  <a:pt x="20886" y="5308"/>
                </a:cubicBezTo>
                <a:cubicBezTo>
                  <a:pt x="20869" y="5239"/>
                  <a:pt x="20845" y="5181"/>
                  <a:pt x="20836" y="5110"/>
                </a:cubicBezTo>
                <a:cubicBezTo>
                  <a:pt x="20824" y="5018"/>
                  <a:pt x="20796" y="4930"/>
                  <a:pt x="20786" y="4837"/>
                </a:cubicBezTo>
                <a:cubicBezTo>
                  <a:pt x="20772" y="4709"/>
                  <a:pt x="20797" y="4587"/>
                  <a:pt x="20811" y="4465"/>
                </a:cubicBezTo>
                <a:cubicBezTo>
                  <a:pt x="20820" y="4387"/>
                  <a:pt x="20853" y="4316"/>
                  <a:pt x="20861" y="4242"/>
                </a:cubicBezTo>
                <a:cubicBezTo>
                  <a:pt x="20871" y="4151"/>
                  <a:pt x="20860" y="4117"/>
                  <a:pt x="20935" y="4043"/>
                </a:cubicBezTo>
                <a:cubicBezTo>
                  <a:pt x="20992" y="3987"/>
                  <a:pt x="21036" y="3999"/>
                  <a:pt x="21109" y="3994"/>
                </a:cubicBezTo>
                <a:cubicBezTo>
                  <a:pt x="21316" y="3980"/>
                  <a:pt x="21525" y="3984"/>
                  <a:pt x="21729" y="3969"/>
                </a:cubicBezTo>
                <a:cubicBezTo>
                  <a:pt x="21985" y="3950"/>
                  <a:pt x="22244" y="3965"/>
                  <a:pt x="22498" y="3944"/>
                </a:cubicBezTo>
                <a:cubicBezTo>
                  <a:pt x="22784" y="3921"/>
                  <a:pt x="23086" y="3941"/>
                  <a:pt x="23366" y="3919"/>
                </a:cubicBezTo>
                <a:cubicBezTo>
                  <a:pt x="23401" y="3916"/>
                  <a:pt x="23524" y="3892"/>
                  <a:pt x="23540" y="3894"/>
                </a:cubicBezTo>
                <a:cubicBezTo>
                  <a:pt x="23540" y="3902"/>
                  <a:pt x="23540" y="3911"/>
                  <a:pt x="23540" y="3919"/>
                </a:cubicBezTo>
              </a:path>
              <a:path w="7914" h="1787">
                <a:moveTo>
                  <a:pt x="21084" y="4316"/>
                </a:moveTo>
                <a:cubicBezTo>
                  <a:pt x="21059" y="4382"/>
                  <a:pt x="21021" y="4470"/>
                  <a:pt x="21010" y="4539"/>
                </a:cubicBezTo>
                <a:cubicBezTo>
                  <a:pt x="20995" y="4630"/>
                  <a:pt x="20973" y="4719"/>
                  <a:pt x="20960" y="4812"/>
                </a:cubicBezTo>
                <a:cubicBezTo>
                  <a:pt x="20950" y="4886"/>
                  <a:pt x="20965" y="4991"/>
                  <a:pt x="20985" y="5060"/>
                </a:cubicBezTo>
                <a:cubicBezTo>
                  <a:pt x="20999" y="5110"/>
                  <a:pt x="21055" y="5192"/>
                  <a:pt x="21084" y="5234"/>
                </a:cubicBezTo>
                <a:cubicBezTo>
                  <a:pt x="21112" y="5262"/>
                  <a:pt x="21125" y="5271"/>
                  <a:pt x="21158" y="5259"/>
                </a:cubicBezTo>
              </a:path>
              <a:path w="7914" h="1787">
                <a:moveTo>
                  <a:pt x="21109" y="4738"/>
                </a:moveTo>
                <a:cubicBezTo>
                  <a:pt x="21200" y="4738"/>
                  <a:pt x="21291" y="4738"/>
                  <a:pt x="21382" y="4738"/>
                </a:cubicBezTo>
              </a:path>
              <a:path w="7914" h="1787">
                <a:moveTo>
                  <a:pt x="21307" y="4564"/>
                </a:moveTo>
                <a:cubicBezTo>
                  <a:pt x="21385" y="4543"/>
                  <a:pt x="21485" y="4504"/>
                  <a:pt x="21555" y="4490"/>
                </a:cubicBezTo>
                <a:cubicBezTo>
                  <a:pt x="21600" y="4481"/>
                  <a:pt x="21658" y="4490"/>
                  <a:pt x="21704" y="4490"/>
                </a:cubicBezTo>
                <a:cubicBezTo>
                  <a:pt x="21704" y="4572"/>
                  <a:pt x="21683" y="4632"/>
                  <a:pt x="21679" y="4713"/>
                </a:cubicBezTo>
                <a:cubicBezTo>
                  <a:pt x="21672" y="4848"/>
                  <a:pt x="21680" y="4990"/>
                  <a:pt x="21704" y="5110"/>
                </a:cubicBezTo>
                <a:cubicBezTo>
                  <a:pt x="21712" y="5151"/>
                  <a:pt x="21704" y="5225"/>
                  <a:pt x="21704" y="5184"/>
                </a:cubicBezTo>
              </a:path>
              <a:path w="7914" h="1787">
                <a:moveTo>
                  <a:pt x="21630" y="4192"/>
                </a:moveTo>
                <a:cubicBezTo>
                  <a:pt x="21687" y="4199"/>
                  <a:pt x="21785" y="4220"/>
                  <a:pt x="21828" y="4266"/>
                </a:cubicBezTo>
                <a:cubicBezTo>
                  <a:pt x="21869" y="4310"/>
                  <a:pt x="21918" y="4433"/>
                  <a:pt x="21927" y="4490"/>
                </a:cubicBezTo>
                <a:cubicBezTo>
                  <a:pt x="21940" y="4577"/>
                  <a:pt x="21964" y="4673"/>
                  <a:pt x="21952" y="4762"/>
                </a:cubicBezTo>
                <a:cubicBezTo>
                  <a:pt x="21938" y="4869"/>
                  <a:pt x="21920" y="5012"/>
                  <a:pt x="21878" y="5110"/>
                </a:cubicBezTo>
                <a:cubicBezTo>
                  <a:pt x="21870" y="5129"/>
                  <a:pt x="21812" y="5259"/>
                  <a:pt x="21803" y="5259"/>
                </a:cubicBezTo>
                <a:cubicBezTo>
                  <a:pt x="21803" y="5251"/>
                  <a:pt x="21803" y="5242"/>
                  <a:pt x="21803" y="5234"/>
                </a:cubicBezTo>
              </a:path>
              <a:path w="7914" h="1787">
                <a:moveTo>
                  <a:pt x="22002" y="4118"/>
                </a:moveTo>
                <a:cubicBezTo>
                  <a:pt x="22068" y="4078"/>
                  <a:pt x="22149" y="4083"/>
                  <a:pt x="22225" y="4118"/>
                </a:cubicBezTo>
                <a:cubicBezTo>
                  <a:pt x="22275" y="4141"/>
                  <a:pt x="22294" y="4217"/>
                  <a:pt x="22275" y="4266"/>
                </a:cubicBezTo>
                <a:cubicBezTo>
                  <a:pt x="22261" y="4303"/>
                  <a:pt x="22220" y="4352"/>
                  <a:pt x="22200" y="4390"/>
                </a:cubicBezTo>
                <a:cubicBezTo>
                  <a:pt x="22267" y="4430"/>
                  <a:pt x="22298" y="4394"/>
                  <a:pt x="22374" y="4390"/>
                </a:cubicBezTo>
                <a:cubicBezTo>
                  <a:pt x="22415" y="4390"/>
                  <a:pt x="22439" y="4390"/>
                  <a:pt x="22399" y="4390"/>
                </a:cubicBezTo>
              </a:path>
              <a:path w="7914" h="1787">
                <a:moveTo>
                  <a:pt x="22473" y="4812"/>
                </a:moveTo>
                <a:cubicBezTo>
                  <a:pt x="22533" y="4848"/>
                  <a:pt x="22596" y="4837"/>
                  <a:pt x="22671" y="4837"/>
                </a:cubicBezTo>
                <a:cubicBezTo>
                  <a:pt x="22721" y="4837"/>
                  <a:pt x="22738" y="4837"/>
                  <a:pt x="22771" y="4837"/>
                </a:cubicBezTo>
              </a:path>
              <a:path w="7914" h="1787">
                <a:moveTo>
                  <a:pt x="22920" y="4465"/>
                </a:moveTo>
                <a:cubicBezTo>
                  <a:pt x="22896" y="4553"/>
                  <a:pt x="22895" y="4621"/>
                  <a:pt x="22895" y="4713"/>
                </a:cubicBezTo>
                <a:cubicBezTo>
                  <a:pt x="22895" y="4757"/>
                  <a:pt x="22898" y="4771"/>
                  <a:pt x="22870" y="4787"/>
                </a:cubicBezTo>
                <a:cubicBezTo>
                  <a:pt x="22952" y="4787"/>
                  <a:pt x="23025" y="4776"/>
                  <a:pt x="23093" y="4762"/>
                </a:cubicBezTo>
                <a:cubicBezTo>
                  <a:pt x="23138" y="4762"/>
                  <a:pt x="23151" y="4766"/>
                  <a:pt x="23168" y="4738"/>
                </a:cubicBezTo>
              </a:path>
              <a:path w="7914" h="1787">
                <a:moveTo>
                  <a:pt x="23143" y="4415"/>
                </a:moveTo>
                <a:cubicBezTo>
                  <a:pt x="23149" y="4565"/>
                  <a:pt x="23172" y="4693"/>
                  <a:pt x="23192" y="4837"/>
                </a:cubicBezTo>
                <a:cubicBezTo>
                  <a:pt x="23200" y="4896"/>
                  <a:pt x="23192" y="5115"/>
                  <a:pt x="23192" y="5085"/>
                </a:cubicBezTo>
              </a:path>
              <a:path w="7914" h="1787">
                <a:moveTo>
                  <a:pt x="23465" y="4341"/>
                </a:moveTo>
                <a:cubicBezTo>
                  <a:pt x="23438" y="4385"/>
                  <a:pt x="23425" y="4460"/>
                  <a:pt x="23416" y="4514"/>
                </a:cubicBezTo>
                <a:cubicBezTo>
                  <a:pt x="23404" y="4588"/>
                  <a:pt x="23375" y="4665"/>
                  <a:pt x="23366" y="4738"/>
                </a:cubicBezTo>
                <a:cubicBezTo>
                  <a:pt x="23357" y="4809"/>
                  <a:pt x="23370" y="4897"/>
                  <a:pt x="23391" y="4961"/>
                </a:cubicBezTo>
                <a:cubicBezTo>
                  <a:pt x="23424" y="5061"/>
                  <a:pt x="23437" y="5097"/>
                  <a:pt x="23540" y="5110"/>
                </a:cubicBezTo>
              </a:path>
              <a:path w="7914" h="1787">
                <a:moveTo>
                  <a:pt x="23688" y="4490"/>
                </a:moveTo>
                <a:cubicBezTo>
                  <a:pt x="23688" y="4574"/>
                  <a:pt x="23703" y="4637"/>
                  <a:pt x="23713" y="4713"/>
                </a:cubicBezTo>
                <a:cubicBezTo>
                  <a:pt x="23730" y="4842"/>
                  <a:pt x="23718" y="4961"/>
                  <a:pt x="23788" y="5085"/>
                </a:cubicBezTo>
                <a:cubicBezTo>
                  <a:pt x="23788" y="5077"/>
                  <a:pt x="23788" y="5068"/>
                  <a:pt x="23788" y="5060"/>
                </a:cubicBezTo>
              </a:path>
              <a:path w="7914" h="1787">
                <a:moveTo>
                  <a:pt x="23713" y="4266"/>
                </a:moveTo>
                <a:cubicBezTo>
                  <a:pt x="23764" y="4317"/>
                  <a:pt x="23799" y="4380"/>
                  <a:pt x="23837" y="4440"/>
                </a:cubicBezTo>
                <a:cubicBezTo>
                  <a:pt x="23864" y="4484"/>
                  <a:pt x="23955" y="4642"/>
                  <a:pt x="23961" y="4688"/>
                </a:cubicBezTo>
                <a:cubicBezTo>
                  <a:pt x="23980" y="4828"/>
                  <a:pt x="23971" y="4960"/>
                  <a:pt x="23912" y="5085"/>
                </a:cubicBezTo>
                <a:cubicBezTo>
                  <a:pt x="23906" y="5098"/>
                  <a:pt x="23827" y="5265"/>
                  <a:pt x="23812" y="5234"/>
                </a:cubicBezTo>
                <a:cubicBezTo>
                  <a:pt x="23812" y="5217"/>
                  <a:pt x="23812" y="5201"/>
                  <a:pt x="23812" y="5184"/>
                </a:cubicBezTo>
              </a:path>
              <a:path w="7914" h="1787">
                <a:moveTo>
                  <a:pt x="24135" y="4291"/>
                </a:moveTo>
                <a:cubicBezTo>
                  <a:pt x="24126" y="4368"/>
                  <a:pt x="24094" y="4442"/>
                  <a:pt x="24085" y="4514"/>
                </a:cubicBezTo>
                <a:cubicBezTo>
                  <a:pt x="24074" y="4599"/>
                  <a:pt x="24061" y="4674"/>
                  <a:pt x="24061" y="4762"/>
                </a:cubicBezTo>
                <a:cubicBezTo>
                  <a:pt x="24061" y="4828"/>
                  <a:pt x="24084" y="4951"/>
                  <a:pt x="24110" y="5011"/>
                </a:cubicBezTo>
                <a:cubicBezTo>
                  <a:pt x="24128" y="5054"/>
                  <a:pt x="24166" y="5099"/>
                  <a:pt x="24209" y="5110"/>
                </a:cubicBezTo>
              </a:path>
              <a:path w="7914" h="1787">
                <a:moveTo>
                  <a:pt x="24234" y="4663"/>
                </a:moveTo>
                <a:cubicBezTo>
                  <a:pt x="24324" y="4663"/>
                  <a:pt x="24356" y="4667"/>
                  <a:pt x="24433" y="4638"/>
                </a:cubicBezTo>
              </a:path>
              <a:path w="7914" h="1787">
                <a:moveTo>
                  <a:pt x="24507" y="4341"/>
                </a:moveTo>
                <a:cubicBezTo>
                  <a:pt x="24608" y="4314"/>
                  <a:pt x="24717" y="4301"/>
                  <a:pt x="24805" y="4316"/>
                </a:cubicBezTo>
              </a:path>
              <a:path w="7914" h="1787">
                <a:moveTo>
                  <a:pt x="24532" y="4390"/>
                </a:moveTo>
                <a:cubicBezTo>
                  <a:pt x="24510" y="4471"/>
                  <a:pt x="24507" y="4530"/>
                  <a:pt x="24507" y="4614"/>
                </a:cubicBezTo>
                <a:cubicBezTo>
                  <a:pt x="24546" y="4575"/>
                  <a:pt x="24592" y="4519"/>
                  <a:pt x="24656" y="4539"/>
                </a:cubicBezTo>
                <a:cubicBezTo>
                  <a:pt x="24707" y="4555"/>
                  <a:pt x="24746" y="4619"/>
                  <a:pt x="24755" y="4663"/>
                </a:cubicBezTo>
                <a:cubicBezTo>
                  <a:pt x="24767" y="4725"/>
                  <a:pt x="24767" y="4815"/>
                  <a:pt x="24730" y="4862"/>
                </a:cubicBezTo>
                <a:cubicBezTo>
                  <a:pt x="24690" y="4912"/>
                  <a:pt x="24659" y="4929"/>
                  <a:pt x="24606" y="4887"/>
                </a:cubicBezTo>
                <a:cubicBezTo>
                  <a:pt x="24598" y="4879"/>
                  <a:pt x="24589" y="4870"/>
                  <a:pt x="24581" y="4862"/>
                </a:cubicBezTo>
              </a:path>
              <a:path w="7914" h="1787">
                <a:moveTo>
                  <a:pt x="24854" y="4167"/>
                </a:moveTo>
                <a:cubicBezTo>
                  <a:pt x="24909" y="4236"/>
                  <a:pt x="24943" y="4311"/>
                  <a:pt x="24978" y="4390"/>
                </a:cubicBezTo>
                <a:cubicBezTo>
                  <a:pt x="25028" y="4502"/>
                  <a:pt x="25038" y="4580"/>
                  <a:pt x="25028" y="4688"/>
                </a:cubicBezTo>
                <a:cubicBezTo>
                  <a:pt x="25019" y="4782"/>
                  <a:pt x="24986" y="4838"/>
                  <a:pt x="24929" y="4911"/>
                </a:cubicBezTo>
                <a:cubicBezTo>
                  <a:pt x="24888" y="4963"/>
                  <a:pt x="24842" y="5005"/>
                  <a:pt x="24805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714240" y="2276640"/>
            <a:ext cx="527040" cy="455400"/>
          </a:xfrm>
          <a:custGeom>
            <a:avLst/>
            <a:gdLst/>
            <a:ahLst/>
            <a:rect l="l" t="t" r="r" b="b"/>
            <a:pathLst>
              <a:path w="1465" h="1266">
                <a:moveTo>
                  <a:pt x="2952" y="6548"/>
                </a:moveTo>
                <a:cubicBezTo>
                  <a:pt x="2952" y="6677"/>
                  <a:pt x="2945" y="6796"/>
                  <a:pt x="2927" y="6921"/>
                </a:cubicBezTo>
                <a:cubicBezTo>
                  <a:pt x="2916" y="6995"/>
                  <a:pt x="2949" y="7049"/>
                  <a:pt x="2952" y="7119"/>
                </a:cubicBezTo>
                <a:cubicBezTo>
                  <a:pt x="2955" y="7183"/>
                  <a:pt x="2964" y="7218"/>
                  <a:pt x="2927" y="7243"/>
                </a:cubicBezTo>
              </a:path>
              <a:path w="1465" h="1266">
                <a:moveTo>
                  <a:pt x="3423" y="6325"/>
                </a:moveTo>
                <a:cubicBezTo>
                  <a:pt x="3423" y="6439"/>
                  <a:pt x="3416" y="6541"/>
                  <a:pt x="3398" y="6648"/>
                </a:cubicBezTo>
                <a:cubicBezTo>
                  <a:pt x="3383" y="6738"/>
                  <a:pt x="3413" y="6812"/>
                  <a:pt x="3423" y="6896"/>
                </a:cubicBezTo>
                <a:cubicBezTo>
                  <a:pt x="3444" y="7078"/>
                  <a:pt x="3422" y="7261"/>
                  <a:pt x="3448" y="7441"/>
                </a:cubicBezTo>
                <a:cubicBezTo>
                  <a:pt x="3448" y="7491"/>
                  <a:pt x="3448" y="7508"/>
                  <a:pt x="3448" y="7541"/>
                </a:cubicBezTo>
                <a:cubicBezTo>
                  <a:pt x="3381" y="7528"/>
                  <a:pt x="3306" y="7516"/>
                  <a:pt x="3225" y="7516"/>
                </a:cubicBezTo>
                <a:cubicBezTo>
                  <a:pt x="3128" y="7516"/>
                  <a:pt x="3044" y="7531"/>
                  <a:pt x="2952" y="7541"/>
                </a:cubicBezTo>
                <a:cubicBezTo>
                  <a:pt x="2747" y="7564"/>
                  <a:pt x="2532" y="7541"/>
                  <a:pt x="2332" y="7565"/>
                </a:cubicBezTo>
                <a:cubicBezTo>
                  <a:pt x="2214" y="7579"/>
                  <a:pt x="2067" y="7559"/>
                  <a:pt x="1984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0"/>
          <p:cNvSpPr/>
          <p:nvPr/>
        </p:nvSpPr>
        <p:spPr>
          <a:xfrm>
            <a:off x="1633680" y="2313000"/>
            <a:ext cx="19080" cy="357120"/>
          </a:xfrm>
          <a:custGeom>
            <a:avLst/>
            <a:gdLst/>
            <a:ahLst/>
            <a:rect l="l" t="t" r="r" b="b"/>
            <a:pathLst>
              <a:path w="51" h="994">
                <a:moveTo>
                  <a:pt x="4539" y="6424"/>
                </a:moveTo>
                <a:cubicBezTo>
                  <a:pt x="4539" y="6602"/>
                  <a:pt x="4546" y="6770"/>
                  <a:pt x="4564" y="6945"/>
                </a:cubicBezTo>
                <a:cubicBezTo>
                  <a:pt x="4573" y="7039"/>
                  <a:pt x="4576" y="7126"/>
                  <a:pt x="4589" y="7218"/>
                </a:cubicBezTo>
                <a:cubicBezTo>
                  <a:pt x="4596" y="7270"/>
                  <a:pt x="4604" y="7377"/>
                  <a:pt x="4564" y="7417"/>
                </a:cubicBezTo>
                <a:cubicBezTo>
                  <a:pt x="4564" y="7409"/>
                  <a:pt x="4564" y="7400"/>
                  <a:pt x="4564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1"/>
          <p:cNvSpPr/>
          <p:nvPr/>
        </p:nvSpPr>
        <p:spPr>
          <a:xfrm>
            <a:off x="2224080" y="2303640"/>
            <a:ext cx="507960" cy="331560"/>
          </a:xfrm>
          <a:custGeom>
            <a:avLst/>
            <a:gdLst/>
            <a:ahLst/>
            <a:rect l="l" t="t" r="r" b="b"/>
            <a:pathLst>
              <a:path w="1415" h="918">
                <a:moveTo>
                  <a:pt x="6176" y="6697"/>
                </a:moveTo>
                <a:cubicBezTo>
                  <a:pt x="6236" y="6733"/>
                  <a:pt x="6300" y="6722"/>
                  <a:pt x="6375" y="6722"/>
                </a:cubicBezTo>
                <a:cubicBezTo>
                  <a:pt x="6450" y="6722"/>
                  <a:pt x="6501" y="6715"/>
                  <a:pt x="6573" y="6697"/>
                </a:cubicBezTo>
              </a:path>
              <a:path w="1415" h="918">
                <a:moveTo>
                  <a:pt x="6821" y="6474"/>
                </a:moveTo>
                <a:cubicBezTo>
                  <a:pt x="6938" y="6454"/>
                  <a:pt x="7052" y="6428"/>
                  <a:pt x="7169" y="6424"/>
                </a:cubicBezTo>
                <a:cubicBezTo>
                  <a:pt x="7263" y="6420"/>
                  <a:pt x="7349" y="6405"/>
                  <a:pt x="7441" y="6400"/>
                </a:cubicBezTo>
                <a:cubicBezTo>
                  <a:pt x="7506" y="6397"/>
                  <a:pt x="7603" y="6381"/>
                  <a:pt x="7590" y="6474"/>
                </a:cubicBezTo>
                <a:cubicBezTo>
                  <a:pt x="7576" y="6572"/>
                  <a:pt x="7531" y="6677"/>
                  <a:pt x="7516" y="6772"/>
                </a:cubicBezTo>
                <a:cubicBezTo>
                  <a:pt x="7503" y="6858"/>
                  <a:pt x="7511" y="6961"/>
                  <a:pt x="7491" y="7045"/>
                </a:cubicBezTo>
                <a:cubicBezTo>
                  <a:pt x="7478" y="7101"/>
                  <a:pt x="7451" y="7169"/>
                  <a:pt x="7441" y="7218"/>
                </a:cubicBezTo>
                <a:cubicBezTo>
                  <a:pt x="7419" y="7329"/>
                  <a:pt x="7429" y="7306"/>
                  <a:pt x="7516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2"/>
          <p:cNvSpPr/>
          <p:nvPr/>
        </p:nvSpPr>
        <p:spPr>
          <a:xfrm>
            <a:off x="3394080" y="2313000"/>
            <a:ext cx="669960" cy="303120"/>
          </a:xfrm>
          <a:custGeom>
            <a:avLst/>
            <a:gdLst/>
            <a:ahLst/>
            <a:rect l="l" t="t" r="r" b="b"/>
            <a:pathLst>
              <a:path w="1861" h="845">
                <a:moveTo>
                  <a:pt x="9426" y="6821"/>
                </a:moveTo>
                <a:cubicBezTo>
                  <a:pt x="9528" y="6812"/>
                  <a:pt x="9619" y="6796"/>
                  <a:pt x="9723" y="6796"/>
                </a:cubicBezTo>
                <a:cubicBezTo>
                  <a:pt x="9839" y="6796"/>
                  <a:pt x="9955" y="6796"/>
                  <a:pt x="10071" y="6796"/>
                </a:cubicBezTo>
              </a:path>
              <a:path w="1861" h="845">
                <a:moveTo>
                  <a:pt x="10666" y="6424"/>
                </a:moveTo>
                <a:cubicBezTo>
                  <a:pt x="10657" y="6579"/>
                  <a:pt x="10597" y="6667"/>
                  <a:pt x="10567" y="6821"/>
                </a:cubicBezTo>
                <a:cubicBezTo>
                  <a:pt x="10549" y="6916"/>
                  <a:pt x="10531" y="7001"/>
                  <a:pt x="10567" y="7094"/>
                </a:cubicBezTo>
                <a:cubicBezTo>
                  <a:pt x="10597" y="7173"/>
                  <a:pt x="10665" y="7213"/>
                  <a:pt x="10740" y="7243"/>
                </a:cubicBezTo>
                <a:cubicBezTo>
                  <a:pt x="10837" y="7281"/>
                  <a:pt x="10915" y="7272"/>
                  <a:pt x="11013" y="7243"/>
                </a:cubicBezTo>
                <a:cubicBezTo>
                  <a:pt x="11104" y="7216"/>
                  <a:pt x="11180" y="7173"/>
                  <a:pt x="11237" y="7094"/>
                </a:cubicBezTo>
                <a:cubicBezTo>
                  <a:pt x="11266" y="7054"/>
                  <a:pt x="11315" y="6967"/>
                  <a:pt x="11237" y="6945"/>
                </a:cubicBezTo>
                <a:cubicBezTo>
                  <a:pt x="11190" y="6931"/>
                  <a:pt x="11101" y="6993"/>
                  <a:pt x="11063" y="7020"/>
                </a:cubicBezTo>
                <a:cubicBezTo>
                  <a:pt x="11035" y="7040"/>
                  <a:pt x="11016" y="7164"/>
                  <a:pt x="11038" y="7193"/>
                </a:cubicBezTo>
                <a:cubicBezTo>
                  <a:pt x="11067" y="7230"/>
                  <a:pt x="11123" y="7237"/>
                  <a:pt x="11162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3"/>
          <p:cNvSpPr/>
          <p:nvPr/>
        </p:nvSpPr>
        <p:spPr>
          <a:xfrm>
            <a:off x="4562640" y="2224080"/>
            <a:ext cx="287280" cy="41112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12675" y="6201"/>
                </a:moveTo>
                <a:cubicBezTo>
                  <a:pt x="12774" y="6201"/>
                  <a:pt x="12853" y="6179"/>
                  <a:pt x="12948" y="6176"/>
                </a:cubicBezTo>
                <a:cubicBezTo>
                  <a:pt x="13058" y="6172"/>
                  <a:pt x="13337" y="6130"/>
                  <a:pt x="13419" y="6201"/>
                </a:cubicBezTo>
                <a:cubicBezTo>
                  <a:pt x="13489" y="6263"/>
                  <a:pt x="13452" y="6365"/>
                  <a:pt x="13419" y="6449"/>
                </a:cubicBezTo>
                <a:cubicBezTo>
                  <a:pt x="13358" y="6606"/>
                  <a:pt x="13328" y="6714"/>
                  <a:pt x="13295" y="6871"/>
                </a:cubicBezTo>
                <a:cubicBezTo>
                  <a:pt x="13275" y="6969"/>
                  <a:pt x="13268" y="7075"/>
                  <a:pt x="13246" y="7169"/>
                </a:cubicBezTo>
                <a:cubicBezTo>
                  <a:pt x="13233" y="7226"/>
                  <a:pt x="13221" y="7254"/>
                  <a:pt x="13221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4"/>
          <p:cNvSpPr/>
          <p:nvPr/>
        </p:nvSpPr>
        <p:spPr>
          <a:xfrm>
            <a:off x="5491080" y="2224080"/>
            <a:ext cx="268200" cy="3650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5453" y="6251"/>
                </a:moveTo>
                <a:cubicBezTo>
                  <a:pt x="15600" y="6251"/>
                  <a:pt x="15763" y="6272"/>
                  <a:pt x="15900" y="6226"/>
                </a:cubicBezTo>
                <a:cubicBezTo>
                  <a:pt x="15960" y="6206"/>
                  <a:pt x="15975" y="6207"/>
                  <a:pt x="15999" y="6176"/>
                </a:cubicBezTo>
              </a:path>
              <a:path w="745" h="1018">
                <a:moveTo>
                  <a:pt x="15577" y="6176"/>
                </a:moveTo>
                <a:cubicBezTo>
                  <a:pt x="15469" y="6291"/>
                  <a:pt x="15411" y="6324"/>
                  <a:pt x="15404" y="6474"/>
                </a:cubicBezTo>
                <a:cubicBezTo>
                  <a:pt x="15400" y="6558"/>
                  <a:pt x="15433" y="6554"/>
                  <a:pt x="15478" y="6548"/>
                </a:cubicBezTo>
                <a:cubicBezTo>
                  <a:pt x="15547" y="6538"/>
                  <a:pt x="15615" y="6545"/>
                  <a:pt x="15677" y="6573"/>
                </a:cubicBezTo>
                <a:cubicBezTo>
                  <a:pt x="15758" y="6610"/>
                  <a:pt x="15813" y="6692"/>
                  <a:pt x="15850" y="6772"/>
                </a:cubicBezTo>
                <a:cubicBezTo>
                  <a:pt x="15890" y="6858"/>
                  <a:pt x="15884" y="6942"/>
                  <a:pt x="15875" y="7020"/>
                </a:cubicBezTo>
                <a:cubicBezTo>
                  <a:pt x="15869" y="7075"/>
                  <a:pt x="15828" y="7111"/>
                  <a:pt x="15776" y="7144"/>
                </a:cubicBezTo>
                <a:cubicBezTo>
                  <a:pt x="15726" y="7176"/>
                  <a:pt x="15611" y="7204"/>
                  <a:pt x="15553" y="7193"/>
                </a:cubicBezTo>
                <a:cubicBezTo>
                  <a:pt x="15456" y="7175"/>
                  <a:pt x="15355" y="7164"/>
                  <a:pt x="15255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5"/>
          <p:cNvSpPr/>
          <p:nvPr/>
        </p:nvSpPr>
        <p:spPr>
          <a:xfrm>
            <a:off x="6126120" y="2581200"/>
            <a:ext cx="1911240" cy="1125720"/>
          </a:xfrm>
          <a:custGeom>
            <a:avLst/>
            <a:gdLst/>
            <a:ahLst/>
            <a:rect l="l" t="t" r="r" b="b"/>
            <a:pathLst>
              <a:path w="5309" h="3126">
                <a:moveTo>
                  <a:pt x="17016" y="7838"/>
                </a:moveTo>
                <a:cubicBezTo>
                  <a:pt x="17078" y="7777"/>
                  <a:pt x="17088" y="7799"/>
                  <a:pt x="17165" y="7838"/>
                </a:cubicBezTo>
                <a:cubicBezTo>
                  <a:pt x="17244" y="7878"/>
                  <a:pt x="17301" y="7949"/>
                  <a:pt x="17363" y="8012"/>
                </a:cubicBezTo>
                <a:cubicBezTo>
                  <a:pt x="17449" y="8098"/>
                  <a:pt x="17525" y="8180"/>
                  <a:pt x="17587" y="8285"/>
                </a:cubicBezTo>
                <a:cubicBezTo>
                  <a:pt x="17622" y="8345"/>
                  <a:pt x="17672" y="8440"/>
                  <a:pt x="17686" y="8508"/>
                </a:cubicBezTo>
                <a:cubicBezTo>
                  <a:pt x="17698" y="8569"/>
                  <a:pt x="17702" y="8573"/>
                  <a:pt x="17735" y="8632"/>
                </a:cubicBezTo>
              </a:path>
              <a:path w="5309" h="3126">
                <a:moveTo>
                  <a:pt x="17587" y="7565"/>
                </a:moveTo>
                <a:cubicBezTo>
                  <a:pt x="17532" y="7675"/>
                  <a:pt x="17472" y="7780"/>
                  <a:pt x="17413" y="7888"/>
                </a:cubicBezTo>
                <a:cubicBezTo>
                  <a:pt x="17326" y="8048"/>
                  <a:pt x="17265" y="8204"/>
                  <a:pt x="17165" y="8359"/>
                </a:cubicBezTo>
                <a:cubicBezTo>
                  <a:pt x="17113" y="8440"/>
                  <a:pt x="17034" y="8577"/>
                  <a:pt x="17066" y="8657"/>
                </a:cubicBezTo>
              </a:path>
              <a:path w="5309" h="3126">
                <a:moveTo>
                  <a:pt x="17686" y="7938"/>
                </a:moveTo>
                <a:cubicBezTo>
                  <a:pt x="17786" y="7930"/>
                  <a:pt x="17882" y="7913"/>
                  <a:pt x="17983" y="7913"/>
                </a:cubicBezTo>
                <a:cubicBezTo>
                  <a:pt x="18024" y="7913"/>
                  <a:pt x="18066" y="7913"/>
                  <a:pt x="18107" y="7913"/>
                </a:cubicBezTo>
              </a:path>
              <a:path w="5309" h="3126">
                <a:moveTo>
                  <a:pt x="17884" y="8210"/>
                </a:moveTo>
                <a:cubicBezTo>
                  <a:pt x="17961" y="8202"/>
                  <a:pt x="18028" y="8186"/>
                  <a:pt x="18107" y="8186"/>
                </a:cubicBezTo>
                <a:cubicBezTo>
                  <a:pt x="18165" y="8186"/>
                  <a:pt x="18223" y="8186"/>
                  <a:pt x="18281" y="8186"/>
                </a:cubicBezTo>
              </a:path>
              <a:path w="5309" h="3126">
                <a:moveTo>
                  <a:pt x="18455" y="7739"/>
                </a:moveTo>
                <a:cubicBezTo>
                  <a:pt x="18545" y="7706"/>
                  <a:pt x="18633" y="7675"/>
                  <a:pt x="18728" y="7665"/>
                </a:cubicBezTo>
                <a:cubicBezTo>
                  <a:pt x="18815" y="7656"/>
                  <a:pt x="18892" y="7628"/>
                  <a:pt x="18976" y="7615"/>
                </a:cubicBezTo>
                <a:cubicBezTo>
                  <a:pt x="19030" y="7606"/>
                  <a:pt x="19059" y="7615"/>
                  <a:pt x="19100" y="7640"/>
                </a:cubicBezTo>
                <a:cubicBezTo>
                  <a:pt x="19056" y="7713"/>
                  <a:pt x="19050" y="7806"/>
                  <a:pt x="19025" y="7888"/>
                </a:cubicBezTo>
                <a:cubicBezTo>
                  <a:pt x="18998" y="7978"/>
                  <a:pt x="18996" y="8069"/>
                  <a:pt x="18976" y="8161"/>
                </a:cubicBezTo>
                <a:cubicBezTo>
                  <a:pt x="18951" y="8273"/>
                  <a:pt x="18931" y="8393"/>
                  <a:pt x="18926" y="8508"/>
                </a:cubicBezTo>
                <a:cubicBezTo>
                  <a:pt x="18922" y="8585"/>
                  <a:pt x="18888" y="8652"/>
                  <a:pt x="18901" y="8731"/>
                </a:cubicBezTo>
                <a:cubicBezTo>
                  <a:pt x="18909" y="8748"/>
                  <a:pt x="18918" y="8764"/>
                  <a:pt x="18926" y="8781"/>
                </a:cubicBezTo>
              </a:path>
              <a:path w="5309" h="3126">
                <a:moveTo>
                  <a:pt x="19521" y="7541"/>
                </a:moveTo>
                <a:cubicBezTo>
                  <a:pt x="19547" y="7613"/>
                  <a:pt x="19584" y="7691"/>
                  <a:pt x="19596" y="7764"/>
                </a:cubicBezTo>
                <a:cubicBezTo>
                  <a:pt x="19608" y="7837"/>
                  <a:pt x="19575" y="7893"/>
                  <a:pt x="19571" y="7962"/>
                </a:cubicBezTo>
                <a:cubicBezTo>
                  <a:pt x="19571" y="7979"/>
                  <a:pt x="19571" y="7995"/>
                  <a:pt x="19571" y="8012"/>
                </a:cubicBezTo>
              </a:path>
              <a:path w="5309" h="3126">
                <a:moveTo>
                  <a:pt x="19248" y="7987"/>
                </a:moveTo>
                <a:cubicBezTo>
                  <a:pt x="19317" y="7942"/>
                  <a:pt x="19366" y="7938"/>
                  <a:pt x="19447" y="7938"/>
                </a:cubicBezTo>
                <a:cubicBezTo>
                  <a:pt x="19523" y="7938"/>
                  <a:pt x="19568" y="7946"/>
                  <a:pt x="19645" y="7962"/>
                </a:cubicBezTo>
              </a:path>
              <a:path w="5309" h="3126">
                <a:moveTo>
                  <a:pt x="19472" y="8409"/>
                </a:moveTo>
                <a:cubicBezTo>
                  <a:pt x="19563" y="8409"/>
                  <a:pt x="19654" y="8409"/>
                  <a:pt x="19745" y="8409"/>
                </a:cubicBezTo>
              </a:path>
              <a:path w="5309" h="3126">
                <a:moveTo>
                  <a:pt x="20191" y="8037"/>
                </a:moveTo>
                <a:cubicBezTo>
                  <a:pt x="20216" y="8144"/>
                  <a:pt x="20222" y="8230"/>
                  <a:pt x="20241" y="8334"/>
                </a:cubicBezTo>
                <a:cubicBezTo>
                  <a:pt x="20256" y="8417"/>
                  <a:pt x="20273" y="8499"/>
                  <a:pt x="20290" y="8582"/>
                </a:cubicBezTo>
                <a:cubicBezTo>
                  <a:pt x="20290" y="8453"/>
                  <a:pt x="20302" y="8334"/>
                  <a:pt x="20315" y="8210"/>
                </a:cubicBezTo>
                <a:cubicBezTo>
                  <a:pt x="20335" y="8022"/>
                  <a:pt x="20322" y="7825"/>
                  <a:pt x="20340" y="7640"/>
                </a:cubicBezTo>
                <a:cubicBezTo>
                  <a:pt x="20351" y="7529"/>
                  <a:pt x="20329" y="7559"/>
                  <a:pt x="20414" y="7516"/>
                </a:cubicBezTo>
                <a:cubicBezTo>
                  <a:pt x="20501" y="7472"/>
                  <a:pt x="20684" y="7453"/>
                  <a:pt x="20786" y="7441"/>
                </a:cubicBezTo>
                <a:cubicBezTo>
                  <a:pt x="20952" y="7422"/>
                  <a:pt x="21095" y="7383"/>
                  <a:pt x="21258" y="7342"/>
                </a:cubicBezTo>
                <a:cubicBezTo>
                  <a:pt x="21558" y="7266"/>
                  <a:pt x="22044" y="7202"/>
                  <a:pt x="22299" y="7169"/>
                </a:cubicBezTo>
                <a:cubicBezTo>
                  <a:pt x="22322" y="7191"/>
                  <a:pt x="22333" y="7199"/>
                  <a:pt x="22299" y="7193"/>
                </a:cubicBezTo>
              </a:path>
              <a:path w="5309" h="3126">
                <a:moveTo>
                  <a:pt x="20737" y="8285"/>
                </a:moveTo>
                <a:cubicBezTo>
                  <a:pt x="20753" y="8341"/>
                  <a:pt x="20780" y="8593"/>
                  <a:pt x="20935" y="8483"/>
                </a:cubicBezTo>
                <a:cubicBezTo>
                  <a:pt x="21010" y="8430"/>
                  <a:pt x="21140" y="8334"/>
                  <a:pt x="21208" y="8260"/>
                </a:cubicBezTo>
                <a:cubicBezTo>
                  <a:pt x="21259" y="8204"/>
                  <a:pt x="21258" y="8131"/>
                  <a:pt x="21258" y="8062"/>
                </a:cubicBezTo>
                <a:cubicBezTo>
                  <a:pt x="21258" y="8045"/>
                  <a:pt x="21258" y="8029"/>
                  <a:pt x="21258" y="8012"/>
                </a:cubicBezTo>
                <a:cubicBezTo>
                  <a:pt x="21134" y="8040"/>
                  <a:pt x="21077" y="8094"/>
                  <a:pt x="20985" y="8186"/>
                </a:cubicBezTo>
                <a:cubicBezTo>
                  <a:pt x="20913" y="8258"/>
                  <a:pt x="20877" y="8322"/>
                  <a:pt x="20836" y="8409"/>
                </a:cubicBezTo>
                <a:cubicBezTo>
                  <a:pt x="20785" y="8517"/>
                  <a:pt x="20768" y="8598"/>
                  <a:pt x="20886" y="8632"/>
                </a:cubicBezTo>
              </a:path>
              <a:path w="5309" h="3126">
                <a:moveTo>
                  <a:pt x="21010" y="7466"/>
                </a:moveTo>
                <a:cubicBezTo>
                  <a:pt x="20964" y="7585"/>
                  <a:pt x="20890" y="7677"/>
                  <a:pt x="20836" y="7789"/>
                </a:cubicBezTo>
                <a:cubicBezTo>
                  <a:pt x="20785" y="7895"/>
                  <a:pt x="20755" y="8001"/>
                  <a:pt x="20712" y="8111"/>
                </a:cubicBezTo>
                <a:cubicBezTo>
                  <a:pt x="20681" y="8190"/>
                  <a:pt x="20657" y="8277"/>
                  <a:pt x="20737" y="8334"/>
                </a:cubicBezTo>
                <a:cubicBezTo>
                  <a:pt x="20745" y="8334"/>
                  <a:pt x="20754" y="8334"/>
                  <a:pt x="20762" y="8334"/>
                </a:cubicBezTo>
              </a:path>
              <a:path w="5309" h="3126">
                <a:moveTo>
                  <a:pt x="21679" y="7615"/>
                </a:moveTo>
                <a:cubicBezTo>
                  <a:pt x="21679" y="7660"/>
                  <a:pt x="21675" y="7673"/>
                  <a:pt x="21704" y="7689"/>
                </a:cubicBezTo>
                <a:cubicBezTo>
                  <a:pt x="21527" y="7513"/>
                  <a:pt x="21563" y="7474"/>
                  <a:pt x="21456" y="7665"/>
                </a:cubicBezTo>
                <a:cubicBezTo>
                  <a:pt x="21447" y="7682"/>
                  <a:pt x="21397" y="7868"/>
                  <a:pt x="21406" y="7863"/>
                </a:cubicBezTo>
                <a:cubicBezTo>
                  <a:pt x="21688" y="7708"/>
                  <a:pt x="21552" y="7769"/>
                  <a:pt x="21630" y="7640"/>
                </a:cubicBezTo>
                <a:cubicBezTo>
                  <a:pt x="21630" y="7765"/>
                  <a:pt x="21609" y="7887"/>
                  <a:pt x="21605" y="8012"/>
                </a:cubicBezTo>
                <a:cubicBezTo>
                  <a:pt x="21601" y="8133"/>
                  <a:pt x="21567" y="8334"/>
                  <a:pt x="21580" y="8434"/>
                </a:cubicBezTo>
                <a:cubicBezTo>
                  <a:pt x="21589" y="8501"/>
                  <a:pt x="21631" y="8483"/>
                  <a:pt x="21679" y="8483"/>
                </a:cubicBezTo>
              </a:path>
              <a:path w="5309" h="3126">
                <a:moveTo>
                  <a:pt x="18777" y="8706"/>
                </a:moveTo>
                <a:cubicBezTo>
                  <a:pt x="18786" y="8752"/>
                  <a:pt x="18784" y="8762"/>
                  <a:pt x="18827" y="8781"/>
                </a:cubicBezTo>
                <a:cubicBezTo>
                  <a:pt x="18882" y="8805"/>
                  <a:pt x="19001" y="8843"/>
                  <a:pt x="19050" y="8855"/>
                </a:cubicBezTo>
                <a:cubicBezTo>
                  <a:pt x="19419" y="8946"/>
                  <a:pt x="19920" y="8779"/>
                  <a:pt x="20315" y="8731"/>
                </a:cubicBezTo>
                <a:cubicBezTo>
                  <a:pt x="20728" y="8681"/>
                  <a:pt x="21081" y="8658"/>
                  <a:pt x="21481" y="8706"/>
                </a:cubicBezTo>
                <a:cubicBezTo>
                  <a:pt x="21580" y="8718"/>
                  <a:pt x="21610" y="8659"/>
                  <a:pt x="21679" y="8731"/>
                </a:cubicBezTo>
              </a:path>
              <a:path w="5309" h="3126">
                <a:moveTo>
                  <a:pt x="20265" y="9302"/>
                </a:moveTo>
                <a:cubicBezTo>
                  <a:pt x="20219" y="9372"/>
                  <a:pt x="20202" y="9392"/>
                  <a:pt x="20216" y="9451"/>
                </a:cubicBezTo>
                <a:cubicBezTo>
                  <a:pt x="20255" y="9383"/>
                  <a:pt x="20279" y="9303"/>
                  <a:pt x="20340" y="9252"/>
                </a:cubicBezTo>
                <a:cubicBezTo>
                  <a:pt x="20400" y="9202"/>
                  <a:pt x="20456" y="9101"/>
                  <a:pt x="20538" y="9079"/>
                </a:cubicBezTo>
                <a:cubicBezTo>
                  <a:pt x="20663" y="9045"/>
                  <a:pt x="20699" y="9094"/>
                  <a:pt x="20762" y="9153"/>
                </a:cubicBezTo>
                <a:cubicBezTo>
                  <a:pt x="20822" y="9210"/>
                  <a:pt x="20868" y="9279"/>
                  <a:pt x="20861" y="9376"/>
                </a:cubicBezTo>
                <a:cubicBezTo>
                  <a:pt x="20850" y="9518"/>
                  <a:pt x="20750" y="9700"/>
                  <a:pt x="20687" y="9823"/>
                </a:cubicBezTo>
                <a:cubicBezTo>
                  <a:pt x="20627" y="9940"/>
                  <a:pt x="20529" y="10051"/>
                  <a:pt x="20439" y="10145"/>
                </a:cubicBezTo>
                <a:cubicBezTo>
                  <a:pt x="20373" y="10214"/>
                  <a:pt x="20302" y="10322"/>
                  <a:pt x="20191" y="10294"/>
                </a:cubicBezTo>
                <a:cubicBezTo>
                  <a:pt x="20168" y="10271"/>
                  <a:pt x="20164" y="10263"/>
                  <a:pt x="20141" y="10269"/>
                </a:cubicBezTo>
                <a:cubicBezTo>
                  <a:pt x="20192" y="10181"/>
                  <a:pt x="20212" y="10135"/>
                  <a:pt x="20315" y="10120"/>
                </a:cubicBezTo>
                <a:cubicBezTo>
                  <a:pt x="20366" y="10113"/>
                  <a:pt x="20427" y="10112"/>
                  <a:pt x="20464" y="10145"/>
                </a:cubicBezTo>
                <a:cubicBezTo>
                  <a:pt x="20500" y="10177"/>
                  <a:pt x="20615" y="10255"/>
                  <a:pt x="20662" y="10269"/>
                </a:cubicBezTo>
                <a:cubicBezTo>
                  <a:pt x="20728" y="10269"/>
                  <a:pt x="20745" y="10269"/>
                  <a:pt x="20786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7581960" y="2081160"/>
            <a:ext cx="571320" cy="330120"/>
          </a:xfrm>
          <a:custGeom>
            <a:avLst/>
            <a:gdLst/>
            <a:ahLst/>
            <a:rect l="l" t="t" r="r" b="b"/>
            <a:pathLst>
              <a:path w="1589" h="919">
                <a:moveTo>
                  <a:pt x="21059" y="5928"/>
                </a:moveTo>
                <a:cubicBezTo>
                  <a:pt x="21106" y="5848"/>
                  <a:pt x="21112" y="5833"/>
                  <a:pt x="21208" y="5829"/>
                </a:cubicBezTo>
                <a:cubicBezTo>
                  <a:pt x="21322" y="5824"/>
                  <a:pt x="21373" y="5907"/>
                  <a:pt x="21431" y="6003"/>
                </a:cubicBezTo>
                <a:cubicBezTo>
                  <a:pt x="21474" y="6074"/>
                  <a:pt x="21456" y="6170"/>
                  <a:pt x="21456" y="6251"/>
                </a:cubicBezTo>
                <a:cubicBezTo>
                  <a:pt x="21456" y="6353"/>
                  <a:pt x="21406" y="6414"/>
                  <a:pt x="21357" y="6499"/>
                </a:cubicBezTo>
                <a:cubicBezTo>
                  <a:pt x="21323" y="6559"/>
                  <a:pt x="21280" y="6628"/>
                  <a:pt x="21208" y="6648"/>
                </a:cubicBezTo>
                <a:cubicBezTo>
                  <a:pt x="21168" y="6659"/>
                  <a:pt x="21071" y="6654"/>
                  <a:pt x="21059" y="6598"/>
                </a:cubicBezTo>
                <a:cubicBezTo>
                  <a:pt x="21042" y="6516"/>
                  <a:pt x="21083" y="6475"/>
                  <a:pt x="21134" y="6424"/>
                </a:cubicBezTo>
                <a:cubicBezTo>
                  <a:pt x="21202" y="6356"/>
                  <a:pt x="21243" y="6387"/>
                  <a:pt x="21307" y="6400"/>
                </a:cubicBezTo>
                <a:cubicBezTo>
                  <a:pt x="21388" y="6416"/>
                  <a:pt x="21505" y="6464"/>
                  <a:pt x="21481" y="6573"/>
                </a:cubicBezTo>
                <a:cubicBezTo>
                  <a:pt x="21461" y="6614"/>
                  <a:pt x="21452" y="6620"/>
                  <a:pt x="21456" y="6648"/>
                </a:cubicBezTo>
              </a:path>
              <a:path w="1589" h="919">
                <a:moveTo>
                  <a:pt x="21803" y="5978"/>
                </a:moveTo>
                <a:cubicBezTo>
                  <a:pt x="21783" y="6053"/>
                  <a:pt x="21758" y="6125"/>
                  <a:pt x="21754" y="6201"/>
                </a:cubicBezTo>
                <a:cubicBezTo>
                  <a:pt x="21751" y="6260"/>
                  <a:pt x="21763" y="6365"/>
                  <a:pt x="21779" y="6424"/>
                </a:cubicBezTo>
                <a:cubicBezTo>
                  <a:pt x="21787" y="6455"/>
                  <a:pt x="21843" y="6538"/>
                  <a:pt x="21878" y="6548"/>
                </a:cubicBezTo>
                <a:cubicBezTo>
                  <a:pt x="21927" y="6548"/>
                  <a:pt x="21944" y="6548"/>
                  <a:pt x="21977" y="6548"/>
                </a:cubicBezTo>
              </a:path>
              <a:path w="1589" h="919">
                <a:moveTo>
                  <a:pt x="22175" y="6003"/>
                </a:moveTo>
                <a:cubicBezTo>
                  <a:pt x="22182" y="6090"/>
                  <a:pt x="22214" y="6169"/>
                  <a:pt x="22225" y="6251"/>
                </a:cubicBezTo>
                <a:cubicBezTo>
                  <a:pt x="22234" y="6320"/>
                  <a:pt x="22250" y="6379"/>
                  <a:pt x="22250" y="6449"/>
                </a:cubicBezTo>
              </a:path>
              <a:path w="1589" h="919">
                <a:moveTo>
                  <a:pt x="22374" y="5779"/>
                </a:moveTo>
                <a:cubicBezTo>
                  <a:pt x="22422" y="5835"/>
                  <a:pt x="22452" y="5897"/>
                  <a:pt x="22498" y="5953"/>
                </a:cubicBezTo>
                <a:cubicBezTo>
                  <a:pt x="22544" y="6010"/>
                  <a:pt x="22627" y="6080"/>
                  <a:pt x="22647" y="6152"/>
                </a:cubicBezTo>
                <a:cubicBezTo>
                  <a:pt x="22668" y="6228"/>
                  <a:pt x="22653" y="6355"/>
                  <a:pt x="22622" y="6424"/>
                </a:cubicBezTo>
                <a:cubicBezTo>
                  <a:pt x="22578" y="6522"/>
                  <a:pt x="22501" y="6579"/>
                  <a:pt x="22423" y="6648"/>
                </a:cubicBezTo>
                <a:cubicBezTo>
                  <a:pt x="22394" y="6677"/>
                  <a:pt x="22379" y="6688"/>
                  <a:pt x="22349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7"/>
          <p:cNvSpPr/>
          <p:nvPr/>
        </p:nvSpPr>
        <p:spPr>
          <a:xfrm>
            <a:off x="1608120" y="4143240"/>
            <a:ext cx="3973680" cy="1401840"/>
          </a:xfrm>
          <a:custGeom>
            <a:avLst/>
            <a:gdLst/>
            <a:ahLst/>
            <a:rect l="l" t="t" r="r" b="b"/>
            <a:pathLst>
              <a:path w="11039" h="3896">
                <a:moveTo>
                  <a:pt x="4539" y="13568"/>
                </a:moveTo>
                <a:cubicBezTo>
                  <a:pt x="4592" y="13560"/>
                  <a:pt x="4648" y="13520"/>
                  <a:pt x="4713" y="13519"/>
                </a:cubicBezTo>
                <a:cubicBezTo>
                  <a:pt x="4896" y="13516"/>
                  <a:pt x="5074" y="13541"/>
                  <a:pt x="5259" y="13543"/>
                </a:cubicBezTo>
                <a:cubicBezTo>
                  <a:pt x="5675" y="13548"/>
                  <a:pt x="6085" y="13523"/>
                  <a:pt x="6499" y="13519"/>
                </a:cubicBezTo>
                <a:cubicBezTo>
                  <a:pt x="7311" y="13511"/>
                  <a:pt x="8123" y="13508"/>
                  <a:pt x="8930" y="13568"/>
                </a:cubicBezTo>
                <a:cubicBezTo>
                  <a:pt x="9220" y="13590"/>
                  <a:pt x="9508" y="13620"/>
                  <a:pt x="9798" y="13643"/>
                </a:cubicBezTo>
                <a:cubicBezTo>
                  <a:pt x="10038" y="13662"/>
                  <a:pt x="10277" y="13675"/>
                  <a:pt x="10517" y="13692"/>
                </a:cubicBezTo>
                <a:cubicBezTo>
                  <a:pt x="10757" y="13709"/>
                  <a:pt x="10998" y="13723"/>
                  <a:pt x="11237" y="13742"/>
                </a:cubicBezTo>
                <a:cubicBezTo>
                  <a:pt x="11609" y="13771"/>
                  <a:pt x="11983" y="13827"/>
                  <a:pt x="12353" y="13866"/>
                </a:cubicBezTo>
                <a:cubicBezTo>
                  <a:pt x="12593" y="13891"/>
                  <a:pt x="12832" y="13918"/>
                  <a:pt x="13072" y="13940"/>
                </a:cubicBezTo>
                <a:cubicBezTo>
                  <a:pt x="13421" y="13972"/>
                  <a:pt x="13765" y="14024"/>
                  <a:pt x="14114" y="14064"/>
                </a:cubicBezTo>
                <a:cubicBezTo>
                  <a:pt x="14348" y="14091"/>
                  <a:pt x="14574" y="14131"/>
                  <a:pt x="14808" y="14163"/>
                </a:cubicBezTo>
                <a:cubicBezTo>
                  <a:pt x="14981" y="14187"/>
                  <a:pt x="15161" y="14243"/>
                  <a:pt x="15329" y="14263"/>
                </a:cubicBezTo>
                <a:cubicBezTo>
                  <a:pt x="15402" y="14272"/>
                  <a:pt x="15443" y="14269"/>
                  <a:pt x="15503" y="14263"/>
                </a:cubicBezTo>
                <a:cubicBezTo>
                  <a:pt x="15503" y="14255"/>
                  <a:pt x="15503" y="14246"/>
                  <a:pt x="15503" y="14238"/>
                </a:cubicBezTo>
              </a:path>
              <a:path w="11039" h="3896">
                <a:moveTo>
                  <a:pt x="4887" y="11509"/>
                </a:moveTo>
                <a:cubicBezTo>
                  <a:pt x="4858" y="11586"/>
                  <a:pt x="4862" y="11649"/>
                  <a:pt x="4862" y="11733"/>
                </a:cubicBezTo>
                <a:cubicBezTo>
                  <a:pt x="4862" y="11869"/>
                  <a:pt x="4847" y="11995"/>
                  <a:pt x="4837" y="12129"/>
                </a:cubicBezTo>
                <a:cubicBezTo>
                  <a:pt x="4827" y="12259"/>
                  <a:pt x="4803" y="12452"/>
                  <a:pt x="4812" y="12576"/>
                </a:cubicBezTo>
                <a:cubicBezTo>
                  <a:pt x="4818" y="12658"/>
                  <a:pt x="4837" y="12737"/>
                  <a:pt x="4837" y="12824"/>
                </a:cubicBezTo>
                <a:cubicBezTo>
                  <a:pt x="4837" y="12866"/>
                  <a:pt x="4845" y="12882"/>
                  <a:pt x="4812" y="12874"/>
                </a:cubicBezTo>
              </a:path>
              <a:path w="11039" h="3896">
                <a:moveTo>
                  <a:pt x="4465" y="12353"/>
                </a:moveTo>
                <a:cubicBezTo>
                  <a:pt x="4511" y="12411"/>
                  <a:pt x="4538" y="12481"/>
                  <a:pt x="4564" y="12551"/>
                </a:cubicBezTo>
                <a:cubicBezTo>
                  <a:pt x="4600" y="12646"/>
                  <a:pt x="4652" y="12729"/>
                  <a:pt x="4688" y="12824"/>
                </a:cubicBezTo>
                <a:cubicBezTo>
                  <a:pt x="4716" y="12899"/>
                  <a:pt x="4747" y="12956"/>
                  <a:pt x="4787" y="13022"/>
                </a:cubicBezTo>
                <a:cubicBezTo>
                  <a:pt x="4795" y="13039"/>
                  <a:pt x="4804" y="13055"/>
                  <a:pt x="4812" y="13072"/>
                </a:cubicBezTo>
                <a:cubicBezTo>
                  <a:pt x="4850" y="12996"/>
                  <a:pt x="4899" y="12906"/>
                  <a:pt x="4961" y="12849"/>
                </a:cubicBezTo>
                <a:cubicBezTo>
                  <a:pt x="5078" y="12741"/>
                  <a:pt x="5202" y="12674"/>
                  <a:pt x="5308" y="12551"/>
                </a:cubicBezTo>
              </a:path>
              <a:path w="11039" h="3896">
                <a:moveTo>
                  <a:pt x="5283" y="13841"/>
                </a:moveTo>
                <a:cubicBezTo>
                  <a:pt x="5296" y="13929"/>
                  <a:pt x="5294" y="13968"/>
                  <a:pt x="5283" y="14064"/>
                </a:cubicBezTo>
                <a:cubicBezTo>
                  <a:pt x="5265" y="14222"/>
                  <a:pt x="5222" y="14378"/>
                  <a:pt x="5209" y="14536"/>
                </a:cubicBezTo>
                <a:cubicBezTo>
                  <a:pt x="5198" y="14669"/>
                  <a:pt x="5172" y="14799"/>
                  <a:pt x="5159" y="14932"/>
                </a:cubicBezTo>
                <a:cubicBezTo>
                  <a:pt x="5153" y="14997"/>
                  <a:pt x="5178" y="15076"/>
                  <a:pt x="5135" y="15106"/>
                </a:cubicBezTo>
              </a:path>
              <a:path w="11039" h="3896">
                <a:moveTo>
                  <a:pt x="6276" y="12427"/>
                </a:moveTo>
                <a:cubicBezTo>
                  <a:pt x="6367" y="12427"/>
                  <a:pt x="6457" y="12427"/>
                  <a:pt x="6548" y="12427"/>
                </a:cubicBezTo>
              </a:path>
              <a:path w="11039" h="3896">
                <a:moveTo>
                  <a:pt x="7169" y="11708"/>
                </a:moveTo>
                <a:cubicBezTo>
                  <a:pt x="7169" y="11869"/>
                  <a:pt x="7154" y="12019"/>
                  <a:pt x="7144" y="12179"/>
                </a:cubicBezTo>
                <a:cubicBezTo>
                  <a:pt x="7135" y="12317"/>
                  <a:pt x="7138" y="12464"/>
                  <a:pt x="7119" y="12601"/>
                </a:cubicBezTo>
                <a:cubicBezTo>
                  <a:pt x="7102" y="12728"/>
                  <a:pt x="7094" y="12844"/>
                  <a:pt x="7094" y="12973"/>
                </a:cubicBezTo>
                <a:cubicBezTo>
                  <a:pt x="7094" y="13053"/>
                  <a:pt x="7099" y="13105"/>
                  <a:pt x="7119" y="13171"/>
                </a:cubicBezTo>
                <a:cubicBezTo>
                  <a:pt x="7119" y="13179"/>
                  <a:pt x="7119" y="13188"/>
                  <a:pt x="7119" y="13196"/>
                </a:cubicBezTo>
              </a:path>
              <a:path w="11039" h="3896">
                <a:moveTo>
                  <a:pt x="6052" y="13965"/>
                </a:moveTo>
                <a:cubicBezTo>
                  <a:pt x="6120" y="14006"/>
                  <a:pt x="6190" y="14012"/>
                  <a:pt x="6276" y="14015"/>
                </a:cubicBezTo>
                <a:cubicBezTo>
                  <a:pt x="6383" y="14018"/>
                  <a:pt x="6469" y="14010"/>
                  <a:pt x="6573" y="13990"/>
                </a:cubicBezTo>
              </a:path>
              <a:path w="11039" h="3896">
                <a:moveTo>
                  <a:pt x="6995" y="13717"/>
                </a:moveTo>
                <a:cubicBezTo>
                  <a:pt x="7126" y="13717"/>
                  <a:pt x="7241" y="13709"/>
                  <a:pt x="7367" y="13692"/>
                </a:cubicBezTo>
                <a:cubicBezTo>
                  <a:pt x="7414" y="13686"/>
                  <a:pt x="7506" y="13696"/>
                  <a:pt x="7541" y="13667"/>
                </a:cubicBezTo>
                <a:cubicBezTo>
                  <a:pt x="7541" y="13659"/>
                  <a:pt x="7541" y="13651"/>
                  <a:pt x="7541" y="13643"/>
                </a:cubicBezTo>
                <a:cubicBezTo>
                  <a:pt x="7541" y="13741"/>
                  <a:pt x="7520" y="13821"/>
                  <a:pt x="7516" y="13915"/>
                </a:cubicBezTo>
                <a:cubicBezTo>
                  <a:pt x="7511" y="14033"/>
                  <a:pt x="7491" y="14143"/>
                  <a:pt x="7491" y="14263"/>
                </a:cubicBezTo>
                <a:cubicBezTo>
                  <a:pt x="7491" y="14424"/>
                  <a:pt x="7480" y="14579"/>
                  <a:pt x="7466" y="14734"/>
                </a:cubicBezTo>
                <a:cubicBezTo>
                  <a:pt x="7459" y="14812"/>
                  <a:pt x="7442" y="15023"/>
                  <a:pt x="7491" y="15007"/>
                </a:cubicBezTo>
              </a:path>
              <a:path w="11039" h="3896">
                <a:moveTo>
                  <a:pt x="9674" y="11956"/>
                </a:moveTo>
                <a:cubicBezTo>
                  <a:pt x="9674" y="11972"/>
                  <a:pt x="9674" y="11989"/>
                  <a:pt x="9674" y="12005"/>
                </a:cubicBezTo>
                <a:cubicBezTo>
                  <a:pt x="9693" y="11975"/>
                  <a:pt x="9709" y="11876"/>
                  <a:pt x="9748" y="11857"/>
                </a:cubicBezTo>
                <a:cubicBezTo>
                  <a:pt x="9806" y="11829"/>
                  <a:pt x="9895" y="11873"/>
                  <a:pt x="9947" y="11881"/>
                </a:cubicBezTo>
                <a:cubicBezTo>
                  <a:pt x="10043" y="11897"/>
                  <a:pt x="10113" y="11900"/>
                  <a:pt x="10195" y="11956"/>
                </a:cubicBezTo>
                <a:cubicBezTo>
                  <a:pt x="10320" y="12042"/>
                  <a:pt x="10244" y="12218"/>
                  <a:pt x="10244" y="12353"/>
                </a:cubicBezTo>
                <a:cubicBezTo>
                  <a:pt x="10244" y="12449"/>
                  <a:pt x="10251" y="12535"/>
                  <a:pt x="10269" y="12626"/>
                </a:cubicBezTo>
                <a:cubicBezTo>
                  <a:pt x="10290" y="12708"/>
                  <a:pt x="10298" y="12723"/>
                  <a:pt x="10294" y="12774"/>
                </a:cubicBezTo>
              </a:path>
              <a:path w="11039" h="3896">
                <a:moveTo>
                  <a:pt x="9401" y="14114"/>
                </a:moveTo>
                <a:cubicBezTo>
                  <a:pt x="9539" y="14114"/>
                  <a:pt x="9663" y="14126"/>
                  <a:pt x="9798" y="14139"/>
                </a:cubicBezTo>
                <a:cubicBezTo>
                  <a:pt x="9880" y="14147"/>
                  <a:pt x="9946" y="14114"/>
                  <a:pt x="10021" y="14089"/>
                </a:cubicBezTo>
              </a:path>
              <a:path w="11039" h="3896">
                <a:moveTo>
                  <a:pt x="10368" y="13767"/>
                </a:moveTo>
                <a:cubicBezTo>
                  <a:pt x="10513" y="13788"/>
                  <a:pt x="10528" y="13783"/>
                  <a:pt x="10641" y="13767"/>
                </a:cubicBezTo>
              </a:path>
              <a:path w="11039" h="3896">
                <a:moveTo>
                  <a:pt x="10269" y="13791"/>
                </a:moveTo>
                <a:cubicBezTo>
                  <a:pt x="10223" y="13845"/>
                  <a:pt x="10124" y="13929"/>
                  <a:pt x="10145" y="14015"/>
                </a:cubicBezTo>
                <a:cubicBezTo>
                  <a:pt x="10165" y="14100"/>
                  <a:pt x="10271" y="14126"/>
                  <a:pt x="10344" y="14139"/>
                </a:cubicBezTo>
                <a:cubicBezTo>
                  <a:pt x="10444" y="14157"/>
                  <a:pt x="10548" y="14175"/>
                  <a:pt x="10616" y="14263"/>
                </a:cubicBezTo>
                <a:cubicBezTo>
                  <a:pt x="10668" y="14331"/>
                  <a:pt x="10719" y="14478"/>
                  <a:pt x="10716" y="14560"/>
                </a:cubicBezTo>
                <a:cubicBezTo>
                  <a:pt x="10713" y="14641"/>
                  <a:pt x="10694" y="14764"/>
                  <a:pt x="10641" y="14833"/>
                </a:cubicBezTo>
                <a:cubicBezTo>
                  <a:pt x="10588" y="14902"/>
                  <a:pt x="10545" y="14964"/>
                  <a:pt x="10468" y="15007"/>
                </a:cubicBezTo>
                <a:cubicBezTo>
                  <a:pt x="10399" y="15046"/>
                  <a:pt x="10314" y="15045"/>
                  <a:pt x="10244" y="15007"/>
                </a:cubicBezTo>
                <a:cubicBezTo>
                  <a:pt x="10170" y="14957"/>
                  <a:pt x="10146" y="14941"/>
                  <a:pt x="10096" y="14908"/>
                </a:cubicBezTo>
              </a:path>
              <a:path w="11039" h="3896">
                <a:moveTo>
                  <a:pt x="12005" y="12204"/>
                </a:moveTo>
                <a:cubicBezTo>
                  <a:pt x="12107" y="12188"/>
                  <a:pt x="12196" y="12204"/>
                  <a:pt x="12303" y="12204"/>
                </a:cubicBezTo>
                <a:cubicBezTo>
                  <a:pt x="12397" y="12204"/>
                  <a:pt x="12453" y="12214"/>
                  <a:pt x="12526" y="12154"/>
                </a:cubicBezTo>
              </a:path>
              <a:path w="11039" h="3896">
                <a:moveTo>
                  <a:pt x="12129" y="12105"/>
                </a:moveTo>
                <a:cubicBezTo>
                  <a:pt x="12072" y="12207"/>
                  <a:pt x="11979" y="12308"/>
                  <a:pt x="11956" y="12427"/>
                </a:cubicBezTo>
                <a:cubicBezTo>
                  <a:pt x="11956" y="12444"/>
                  <a:pt x="11956" y="12460"/>
                  <a:pt x="11956" y="12477"/>
                </a:cubicBezTo>
                <a:cubicBezTo>
                  <a:pt x="12018" y="12469"/>
                  <a:pt x="12074" y="12446"/>
                  <a:pt x="12129" y="12427"/>
                </a:cubicBezTo>
                <a:cubicBezTo>
                  <a:pt x="12225" y="12393"/>
                  <a:pt x="12236" y="12416"/>
                  <a:pt x="12328" y="12452"/>
                </a:cubicBezTo>
                <a:cubicBezTo>
                  <a:pt x="12439" y="12496"/>
                  <a:pt x="12513" y="12621"/>
                  <a:pt x="12576" y="12725"/>
                </a:cubicBezTo>
                <a:cubicBezTo>
                  <a:pt x="12635" y="12823"/>
                  <a:pt x="12692" y="12981"/>
                  <a:pt x="12675" y="13097"/>
                </a:cubicBezTo>
                <a:cubicBezTo>
                  <a:pt x="12663" y="13180"/>
                  <a:pt x="12619" y="13255"/>
                  <a:pt x="12551" y="13295"/>
                </a:cubicBezTo>
                <a:cubicBezTo>
                  <a:pt x="12466" y="13345"/>
                  <a:pt x="12423" y="13356"/>
                  <a:pt x="12328" y="13320"/>
                </a:cubicBezTo>
                <a:cubicBezTo>
                  <a:pt x="12245" y="13288"/>
                  <a:pt x="12161" y="13257"/>
                  <a:pt x="12080" y="13221"/>
                </a:cubicBezTo>
              </a:path>
              <a:path w="11039" h="3896">
                <a:moveTo>
                  <a:pt x="12526" y="14362"/>
                </a:moveTo>
                <a:cubicBezTo>
                  <a:pt x="12467" y="14445"/>
                  <a:pt x="12376" y="14547"/>
                  <a:pt x="12328" y="14635"/>
                </a:cubicBezTo>
                <a:cubicBezTo>
                  <a:pt x="12287" y="14710"/>
                  <a:pt x="12242" y="14846"/>
                  <a:pt x="12254" y="14932"/>
                </a:cubicBezTo>
                <a:cubicBezTo>
                  <a:pt x="12270" y="15045"/>
                  <a:pt x="12292" y="15133"/>
                  <a:pt x="12353" y="15230"/>
                </a:cubicBezTo>
                <a:cubicBezTo>
                  <a:pt x="12393" y="15294"/>
                  <a:pt x="12464" y="15415"/>
                  <a:pt x="12551" y="15404"/>
                </a:cubicBezTo>
                <a:cubicBezTo>
                  <a:pt x="12668" y="15389"/>
                  <a:pt x="12728" y="15308"/>
                  <a:pt x="12799" y="15230"/>
                </a:cubicBezTo>
                <a:cubicBezTo>
                  <a:pt x="12869" y="15152"/>
                  <a:pt x="12911" y="15016"/>
                  <a:pt x="12923" y="14908"/>
                </a:cubicBezTo>
                <a:cubicBezTo>
                  <a:pt x="12940" y="14758"/>
                  <a:pt x="12876" y="14609"/>
                  <a:pt x="12799" y="14486"/>
                </a:cubicBezTo>
                <a:cubicBezTo>
                  <a:pt x="12719" y="14359"/>
                  <a:pt x="12625" y="14349"/>
                  <a:pt x="12502" y="14288"/>
                </a:cubicBezTo>
                <a:cubicBezTo>
                  <a:pt x="12477" y="14271"/>
                  <a:pt x="12452" y="14255"/>
                  <a:pt x="1242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8"/>
          <p:cNvSpPr/>
          <p:nvPr/>
        </p:nvSpPr>
        <p:spPr>
          <a:xfrm>
            <a:off x="6446880" y="3830760"/>
            <a:ext cx="2635200" cy="1117440"/>
          </a:xfrm>
          <a:custGeom>
            <a:avLst/>
            <a:gdLst/>
            <a:ahLst/>
            <a:rect l="l" t="t" r="r" b="b"/>
            <a:pathLst>
              <a:path w="7318" h="3102">
                <a:moveTo>
                  <a:pt x="18058" y="11460"/>
                </a:moveTo>
                <a:cubicBezTo>
                  <a:pt x="18058" y="11594"/>
                  <a:pt x="18071" y="11729"/>
                  <a:pt x="18033" y="11857"/>
                </a:cubicBezTo>
                <a:cubicBezTo>
                  <a:pt x="18001" y="11965"/>
                  <a:pt x="17983" y="12072"/>
                  <a:pt x="17959" y="12179"/>
                </a:cubicBezTo>
                <a:cubicBezTo>
                  <a:pt x="17937" y="12279"/>
                  <a:pt x="17914" y="12374"/>
                  <a:pt x="17909" y="12477"/>
                </a:cubicBezTo>
                <a:cubicBezTo>
                  <a:pt x="17905" y="12571"/>
                  <a:pt x="17875" y="12884"/>
                  <a:pt x="17934" y="12923"/>
                </a:cubicBezTo>
              </a:path>
              <a:path w="7318" h="3102">
                <a:moveTo>
                  <a:pt x="18554" y="12725"/>
                </a:moveTo>
                <a:cubicBezTo>
                  <a:pt x="18543" y="12808"/>
                  <a:pt x="18529" y="12890"/>
                  <a:pt x="18504" y="12973"/>
                </a:cubicBezTo>
                <a:cubicBezTo>
                  <a:pt x="18472" y="13080"/>
                  <a:pt x="18439" y="13188"/>
                  <a:pt x="18405" y="13295"/>
                </a:cubicBezTo>
                <a:cubicBezTo>
                  <a:pt x="18380" y="13372"/>
                  <a:pt x="18347" y="13465"/>
                  <a:pt x="18331" y="13543"/>
                </a:cubicBezTo>
                <a:cubicBezTo>
                  <a:pt x="18325" y="13574"/>
                  <a:pt x="18322" y="13786"/>
                  <a:pt x="18355" y="13717"/>
                </a:cubicBezTo>
                <a:cubicBezTo>
                  <a:pt x="18355" y="13709"/>
                  <a:pt x="18355" y="13700"/>
                  <a:pt x="18355" y="13692"/>
                </a:cubicBezTo>
              </a:path>
              <a:path w="7318" h="3102">
                <a:moveTo>
                  <a:pt x="18901" y="12030"/>
                </a:moveTo>
                <a:cubicBezTo>
                  <a:pt x="19003" y="12012"/>
                  <a:pt x="19098" y="11985"/>
                  <a:pt x="19199" y="11981"/>
                </a:cubicBezTo>
                <a:cubicBezTo>
                  <a:pt x="19275" y="11978"/>
                  <a:pt x="19345" y="12025"/>
                  <a:pt x="19422" y="12005"/>
                </a:cubicBezTo>
                <a:cubicBezTo>
                  <a:pt x="19439" y="11997"/>
                  <a:pt x="19455" y="11989"/>
                  <a:pt x="19472" y="11981"/>
                </a:cubicBezTo>
              </a:path>
              <a:path w="7318" h="3102">
                <a:moveTo>
                  <a:pt x="20141" y="11336"/>
                </a:moveTo>
                <a:cubicBezTo>
                  <a:pt x="20162" y="11435"/>
                  <a:pt x="20166" y="11509"/>
                  <a:pt x="20166" y="11609"/>
                </a:cubicBezTo>
                <a:cubicBezTo>
                  <a:pt x="20166" y="11745"/>
                  <a:pt x="20155" y="11873"/>
                  <a:pt x="20141" y="12005"/>
                </a:cubicBezTo>
                <a:cubicBezTo>
                  <a:pt x="20118" y="12222"/>
                  <a:pt x="20105" y="12551"/>
                  <a:pt x="20166" y="12750"/>
                </a:cubicBezTo>
                <a:cubicBezTo>
                  <a:pt x="20166" y="12758"/>
                  <a:pt x="20166" y="12766"/>
                  <a:pt x="20166" y="12774"/>
                </a:cubicBezTo>
              </a:path>
              <a:path w="7318" h="3102">
                <a:moveTo>
                  <a:pt x="20588" y="12750"/>
                </a:moveTo>
                <a:cubicBezTo>
                  <a:pt x="20601" y="12917"/>
                  <a:pt x="20580" y="13014"/>
                  <a:pt x="20563" y="13171"/>
                </a:cubicBezTo>
                <a:cubicBezTo>
                  <a:pt x="20553" y="13259"/>
                  <a:pt x="20556" y="13358"/>
                  <a:pt x="20538" y="13444"/>
                </a:cubicBezTo>
                <a:cubicBezTo>
                  <a:pt x="20521" y="13527"/>
                  <a:pt x="20498" y="13527"/>
                  <a:pt x="20538" y="13593"/>
                </a:cubicBezTo>
              </a:path>
              <a:path w="7318" h="3102">
                <a:moveTo>
                  <a:pt x="20910" y="10864"/>
                </a:moveTo>
                <a:cubicBezTo>
                  <a:pt x="20950" y="10880"/>
                  <a:pt x="21050" y="10879"/>
                  <a:pt x="21109" y="10864"/>
                </a:cubicBezTo>
                <a:cubicBezTo>
                  <a:pt x="21232" y="10832"/>
                  <a:pt x="21356" y="10764"/>
                  <a:pt x="21481" y="10740"/>
                </a:cubicBezTo>
                <a:cubicBezTo>
                  <a:pt x="21574" y="10722"/>
                  <a:pt x="21567" y="10825"/>
                  <a:pt x="21555" y="10889"/>
                </a:cubicBezTo>
                <a:cubicBezTo>
                  <a:pt x="21539" y="10970"/>
                  <a:pt x="21530" y="11028"/>
                  <a:pt x="21530" y="11112"/>
                </a:cubicBezTo>
                <a:cubicBezTo>
                  <a:pt x="21530" y="11189"/>
                  <a:pt x="21506" y="11254"/>
                  <a:pt x="21506" y="11336"/>
                </a:cubicBezTo>
                <a:cubicBezTo>
                  <a:pt x="21506" y="11399"/>
                  <a:pt x="21481" y="11439"/>
                  <a:pt x="21481" y="11509"/>
                </a:cubicBezTo>
                <a:cubicBezTo>
                  <a:pt x="21481" y="11565"/>
                  <a:pt x="21464" y="11579"/>
                  <a:pt x="21456" y="11633"/>
                </a:cubicBezTo>
              </a:path>
              <a:path w="7318" h="3102">
                <a:moveTo>
                  <a:pt x="21878" y="10889"/>
                </a:moveTo>
                <a:cubicBezTo>
                  <a:pt x="21869" y="10975"/>
                  <a:pt x="21842" y="11056"/>
                  <a:pt x="21828" y="11137"/>
                </a:cubicBezTo>
                <a:cubicBezTo>
                  <a:pt x="21817" y="11202"/>
                  <a:pt x="21806" y="11272"/>
                  <a:pt x="21803" y="11336"/>
                </a:cubicBezTo>
                <a:cubicBezTo>
                  <a:pt x="21801" y="11385"/>
                  <a:pt x="21803" y="11436"/>
                  <a:pt x="21803" y="11485"/>
                </a:cubicBezTo>
              </a:path>
              <a:path w="7318" h="3102">
                <a:moveTo>
                  <a:pt x="21580" y="11261"/>
                </a:moveTo>
                <a:cubicBezTo>
                  <a:pt x="21627" y="11233"/>
                  <a:pt x="21672" y="11215"/>
                  <a:pt x="21729" y="11212"/>
                </a:cubicBezTo>
                <a:cubicBezTo>
                  <a:pt x="21807" y="11207"/>
                  <a:pt x="21873" y="11171"/>
                  <a:pt x="21952" y="11162"/>
                </a:cubicBezTo>
                <a:cubicBezTo>
                  <a:pt x="22020" y="11162"/>
                  <a:pt x="22039" y="11165"/>
                  <a:pt x="22076" y="11137"/>
                </a:cubicBezTo>
              </a:path>
              <a:path w="7318" h="3102">
                <a:moveTo>
                  <a:pt x="22275" y="11063"/>
                </a:moveTo>
                <a:cubicBezTo>
                  <a:pt x="22275" y="11145"/>
                  <a:pt x="22254" y="11189"/>
                  <a:pt x="22250" y="11261"/>
                </a:cubicBezTo>
                <a:cubicBezTo>
                  <a:pt x="22246" y="11335"/>
                  <a:pt x="22266" y="11390"/>
                  <a:pt x="22275" y="11460"/>
                </a:cubicBezTo>
                <a:cubicBezTo>
                  <a:pt x="22275" y="11291"/>
                  <a:pt x="22274" y="11125"/>
                  <a:pt x="22299" y="10964"/>
                </a:cubicBezTo>
                <a:cubicBezTo>
                  <a:pt x="22308" y="10907"/>
                  <a:pt x="22316" y="10843"/>
                  <a:pt x="22349" y="10790"/>
                </a:cubicBezTo>
                <a:cubicBezTo>
                  <a:pt x="22368" y="10759"/>
                  <a:pt x="22462" y="10700"/>
                  <a:pt x="22498" y="10691"/>
                </a:cubicBezTo>
                <a:cubicBezTo>
                  <a:pt x="22587" y="10670"/>
                  <a:pt x="22617" y="10641"/>
                  <a:pt x="22721" y="10641"/>
                </a:cubicBezTo>
                <a:cubicBezTo>
                  <a:pt x="22808" y="10641"/>
                  <a:pt x="22799" y="10638"/>
                  <a:pt x="22870" y="10691"/>
                </a:cubicBezTo>
              </a:path>
              <a:path w="7318" h="3102">
                <a:moveTo>
                  <a:pt x="22572" y="10914"/>
                </a:moveTo>
                <a:cubicBezTo>
                  <a:pt x="22572" y="10988"/>
                  <a:pt x="22551" y="11042"/>
                  <a:pt x="22547" y="11112"/>
                </a:cubicBezTo>
                <a:cubicBezTo>
                  <a:pt x="22541" y="11224"/>
                  <a:pt x="22490" y="11298"/>
                  <a:pt x="22523" y="11410"/>
                </a:cubicBezTo>
                <a:cubicBezTo>
                  <a:pt x="22544" y="11454"/>
                  <a:pt x="22547" y="11466"/>
                  <a:pt x="22572" y="11485"/>
                </a:cubicBezTo>
                <a:cubicBezTo>
                  <a:pt x="22672" y="11440"/>
                  <a:pt x="22681" y="11441"/>
                  <a:pt x="22721" y="11361"/>
                </a:cubicBezTo>
                <a:cubicBezTo>
                  <a:pt x="22752" y="11300"/>
                  <a:pt x="22786" y="11280"/>
                  <a:pt x="22796" y="11212"/>
                </a:cubicBezTo>
                <a:cubicBezTo>
                  <a:pt x="22751" y="11190"/>
                  <a:pt x="22719" y="11216"/>
                  <a:pt x="22671" y="11261"/>
                </a:cubicBezTo>
                <a:cubicBezTo>
                  <a:pt x="22624" y="11305"/>
                  <a:pt x="22603" y="11331"/>
                  <a:pt x="22572" y="11385"/>
                </a:cubicBezTo>
              </a:path>
              <a:path w="7318" h="3102">
                <a:moveTo>
                  <a:pt x="23143" y="10914"/>
                </a:moveTo>
                <a:cubicBezTo>
                  <a:pt x="23036" y="10941"/>
                  <a:pt x="22948" y="11029"/>
                  <a:pt x="22870" y="11112"/>
                </a:cubicBezTo>
                <a:cubicBezTo>
                  <a:pt x="22862" y="11120"/>
                  <a:pt x="22853" y="11129"/>
                  <a:pt x="22845" y="11137"/>
                </a:cubicBezTo>
                <a:cubicBezTo>
                  <a:pt x="22898" y="11158"/>
                  <a:pt x="22938" y="11141"/>
                  <a:pt x="22994" y="11112"/>
                </a:cubicBezTo>
                <a:cubicBezTo>
                  <a:pt x="23047" y="11084"/>
                  <a:pt x="23076" y="11055"/>
                  <a:pt x="23118" y="11013"/>
                </a:cubicBezTo>
                <a:cubicBezTo>
                  <a:pt x="23143" y="10988"/>
                  <a:pt x="23151" y="10980"/>
                  <a:pt x="23168" y="10964"/>
                </a:cubicBezTo>
                <a:cubicBezTo>
                  <a:pt x="23159" y="11033"/>
                  <a:pt x="23147" y="11098"/>
                  <a:pt x="23118" y="11162"/>
                </a:cubicBezTo>
                <a:cubicBezTo>
                  <a:pt x="23090" y="11224"/>
                  <a:pt x="23072" y="11293"/>
                  <a:pt x="23068" y="11361"/>
                </a:cubicBezTo>
                <a:cubicBezTo>
                  <a:pt x="23064" y="11430"/>
                  <a:pt x="23079" y="11477"/>
                  <a:pt x="23093" y="11534"/>
                </a:cubicBezTo>
              </a:path>
              <a:path w="7318" h="3102">
                <a:moveTo>
                  <a:pt x="21580" y="11832"/>
                </a:moveTo>
                <a:cubicBezTo>
                  <a:pt x="21725" y="11832"/>
                  <a:pt x="21862" y="11822"/>
                  <a:pt x="22002" y="11807"/>
                </a:cubicBezTo>
                <a:cubicBezTo>
                  <a:pt x="22110" y="11795"/>
                  <a:pt x="22215" y="11768"/>
                  <a:pt x="22324" y="11757"/>
                </a:cubicBezTo>
                <a:cubicBezTo>
                  <a:pt x="22403" y="11749"/>
                  <a:pt x="22467" y="11733"/>
                  <a:pt x="22547" y="11733"/>
                </a:cubicBezTo>
                <a:cubicBezTo>
                  <a:pt x="22589" y="11733"/>
                  <a:pt x="22597" y="11733"/>
                  <a:pt x="22622" y="11733"/>
                </a:cubicBezTo>
              </a:path>
              <a:path w="7318" h="3102">
                <a:moveTo>
                  <a:pt x="22175" y="12105"/>
                </a:moveTo>
                <a:cubicBezTo>
                  <a:pt x="22188" y="12249"/>
                  <a:pt x="22209" y="12214"/>
                  <a:pt x="22324" y="12278"/>
                </a:cubicBezTo>
                <a:cubicBezTo>
                  <a:pt x="22349" y="12292"/>
                  <a:pt x="22440" y="12356"/>
                  <a:pt x="22448" y="12378"/>
                </a:cubicBezTo>
                <a:cubicBezTo>
                  <a:pt x="22478" y="12462"/>
                  <a:pt x="22428" y="12533"/>
                  <a:pt x="22399" y="12601"/>
                </a:cubicBezTo>
                <a:cubicBezTo>
                  <a:pt x="22356" y="12703"/>
                  <a:pt x="22283" y="12777"/>
                  <a:pt x="22225" y="12874"/>
                </a:cubicBezTo>
                <a:cubicBezTo>
                  <a:pt x="22185" y="12942"/>
                  <a:pt x="22128" y="12985"/>
                  <a:pt x="22151" y="13072"/>
                </a:cubicBezTo>
                <a:cubicBezTo>
                  <a:pt x="22177" y="13171"/>
                  <a:pt x="22255" y="13146"/>
                  <a:pt x="22324" y="13122"/>
                </a:cubicBezTo>
                <a:cubicBezTo>
                  <a:pt x="22424" y="13088"/>
                  <a:pt x="22493" y="13067"/>
                  <a:pt x="22572" y="12998"/>
                </a:cubicBezTo>
              </a:path>
              <a:path w="7318" h="3102">
                <a:moveTo>
                  <a:pt x="23217" y="11857"/>
                </a:moveTo>
                <a:cubicBezTo>
                  <a:pt x="23256" y="11961"/>
                  <a:pt x="23209" y="11958"/>
                  <a:pt x="23192" y="12055"/>
                </a:cubicBezTo>
                <a:cubicBezTo>
                  <a:pt x="23179" y="12130"/>
                  <a:pt x="23147" y="12203"/>
                  <a:pt x="23143" y="12278"/>
                </a:cubicBezTo>
                <a:cubicBezTo>
                  <a:pt x="23143" y="12320"/>
                  <a:pt x="23143" y="12328"/>
                  <a:pt x="23143" y="12353"/>
                </a:cubicBezTo>
              </a:path>
              <a:path w="7318" h="3102">
                <a:moveTo>
                  <a:pt x="23416" y="10864"/>
                </a:moveTo>
                <a:cubicBezTo>
                  <a:pt x="23487" y="10845"/>
                  <a:pt x="23547" y="10819"/>
                  <a:pt x="23614" y="10815"/>
                </a:cubicBezTo>
                <a:cubicBezTo>
                  <a:pt x="23685" y="10811"/>
                  <a:pt x="23743" y="10794"/>
                  <a:pt x="23812" y="10790"/>
                </a:cubicBezTo>
                <a:cubicBezTo>
                  <a:pt x="23856" y="10788"/>
                  <a:pt x="23946" y="10810"/>
                  <a:pt x="23961" y="10864"/>
                </a:cubicBezTo>
                <a:cubicBezTo>
                  <a:pt x="23977" y="10920"/>
                  <a:pt x="23934" y="11037"/>
                  <a:pt x="23912" y="11088"/>
                </a:cubicBezTo>
                <a:cubicBezTo>
                  <a:pt x="23879" y="11164"/>
                  <a:pt x="23880" y="11232"/>
                  <a:pt x="23862" y="11311"/>
                </a:cubicBezTo>
                <a:cubicBezTo>
                  <a:pt x="23848" y="11372"/>
                  <a:pt x="23858" y="11479"/>
                  <a:pt x="23837" y="11534"/>
                </a:cubicBezTo>
                <a:cubicBezTo>
                  <a:pt x="23811" y="11600"/>
                  <a:pt x="23774" y="11599"/>
                  <a:pt x="23862" y="11584"/>
                </a:cubicBezTo>
              </a:path>
              <a:path w="7318" h="3102">
                <a:moveTo>
                  <a:pt x="24085" y="11187"/>
                </a:moveTo>
                <a:cubicBezTo>
                  <a:pt x="24141" y="11215"/>
                  <a:pt x="24216" y="11233"/>
                  <a:pt x="24284" y="11237"/>
                </a:cubicBezTo>
                <a:cubicBezTo>
                  <a:pt x="24333" y="11240"/>
                  <a:pt x="24363" y="11221"/>
                  <a:pt x="24408" y="11212"/>
                </a:cubicBezTo>
              </a:path>
              <a:path w="7318" h="3102">
                <a:moveTo>
                  <a:pt x="24581" y="11013"/>
                </a:moveTo>
                <a:cubicBezTo>
                  <a:pt x="24559" y="11096"/>
                  <a:pt x="24523" y="11178"/>
                  <a:pt x="24507" y="11261"/>
                </a:cubicBezTo>
                <a:cubicBezTo>
                  <a:pt x="24498" y="11306"/>
                  <a:pt x="24507" y="11364"/>
                  <a:pt x="24507" y="11410"/>
                </a:cubicBezTo>
                <a:cubicBezTo>
                  <a:pt x="24507" y="11312"/>
                  <a:pt x="24496" y="11232"/>
                  <a:pt x="24482" y="11137"/>
                </a:cubicBezTo>
                <a:cubicBezTo>
                  <a:pt x="24473" y="11076"/>
                  <a:pt x="24500" y="10958"/>
                  <a:pt x="24532" y="10914"/>
                </a:cubicBezTo>
                <a:cubicBezTo>
                  <a:pt x="24585" y="10841"/>
                  <a:pt x="24612" y="10817"/>
                  <a:pt x="24705" y="10790"/>
                </a:cubicBezTo>
                <a:cubicBezTo>
                  <a:pt x="24774" y="10770"/>
                  <a:pt x="24867" y="10728"/>
                  <a:pt x="24929" y="10716"/>
                </a:cubicBezTo>
                <a:cubicBezTo>
                  <a:pt x="24967" y="10709"/>
                  <a:pt x="25014" y="10716"/>
                  <a:pt x="25053" y="10716"/>
                </a:cubicBezTo>
              </a:path>
              <a:path w="7318" h="3102">
                <a:moveTo>
                  <a:pt x="24730" y="10939"/>
                </a:moveTo>
                <a:cubicBezTo>
                  <a:pt x="24695" y="11022"/>
                  <a:pt x="24670" y="11101"/>
                  <a:pt x="24656" y="11187"/>
                </a:cubicBezTo>
                <a:cubicBezTo>
                  <a:pt x="24651" y="11220"/>
                  <a:pt x="24675" y="11365"/>
                  <a:pt x="24730" y="11361"/>
                </a:cubicBezTo>
                <a:cubicBezTo>
                  <a:pt x="24786" y="11357"/>
                  <a:pt x="24866" y="11292"/>
                  <a:pt x="24879" y="11237"/>
                </a:cubicBezTo>
                <a:cubicBezTo>
                  <a:pt x="24879" y="11192"/>
                  <a:pt x="24882" y="11179"/>
                  <a:pt x="24854" y="11162"/>
                </a:cubicBezTo>
                <a:cubicBezTo>
                  <a:pt x="24811" y="11187"/>
                  <a:pt x="24758" y="11217"/>
                  <a:pt x="24730" y="11261"/>
                </a:cubicBezTo>
                <a:cubicBezTo>
                  <a:pt x="24708" y="11295"/>
                  <a:pt x="24690" y="11325"/>
                  <a:pt x="24681" y="11361"/>
                </a:cubicBezTo>
              </a:path>
              <a:path w="7318" h="3102">
                <a:moveTo>
                  <a:pt x="25127" y="10964"/>
                </a:moveTo>
                <a:cubicBezTo>
                  <a:pt x="25092" y="10904"/>
                  <a:pt x="25000" y="10936"/>
                  <a:pt x="24929" y="11013"/>
                </a:cubicBezTo>
                <a:cubicBezTo>
                  <a:pt x="24901" y="11044"/>
                  <a:pt x="24886" y="11081"/>
                  <a:pt x="24854" y="11112"/>
                </a:cubicBezTo>
                <a:cubicBezTo>
                  <a:pt x="24916" y="11149"/>
                  <a:pt x="24964" y="11132"/>
                  <a:pt x="25028" y="11088"/>
                </a:cubicBezTo>
                <a:cubicBezTo>
                  <a:pt x="25068" y="11061"/>
                  <a:pt x="25124" y="11031"/>
                  <a:pt x="25152" y="10988"/>
                </a:cubicBezTo>
                <a:cubicBezTo>
                  <a:pt x="25178" y="10947"/>
                  <a:pt x="25193" y="10923"/>
                  <a:pt x="25226" y="10889"/>
                </a:cubicBezTo>
                <a:cubicBezTo>
                  <a:pt x="25191" y="10971"/>
                  <a:pt x="25171" y="11051"/>
                  <a:pt x="25152" y="11137"/>
                </a:cubicBezTo>
                <a:cubicBezTo>
                  <a:pt x="25112" y="11335"/>
                  <a:pt x="25095" y="11367"/>
                  <a:pt x="25102" y="11485"/>
                </a:cubicBezTo>
              </a:path>
              <a:path w="7318" h="3102">
                <a:moveTo>
                  <a:pt x="23812" y="11733"/>
                </a:moveTo>
                <a:cubicBezTo>
                  <a:pt x="23906" y="11709"/>
                  <a:pt x="23992" y="11726"/>
                  <a:pt x="24085" y="11708"/>
                </a:cubicBezTo>
                <a:cubicBezTo>
                  <a:pt x="24209" y="11684"/>
                  <a:pt x="24329" y="11662"/>
                  <a:pt x="24457" y="11658"/>
                </a:cubicBezTo>
                <a:cubicBezTo>
                  <a:pt x="24583" y="11654"/>
                  <a:pt x="24703" y="11622"/>
                  <a:pt x="24829" y="11609"/>
                </a:cubicBezTo>
                <a:cubicBezTo>
                  <a:pt x="24879" y="11609"/>
                  <a:pt x="24896" y="11609"/>
                  <a:pt x="24929" y="11609"/>
                </a:cubicBezTo>
              </a:path>
              <a:path w="7318" h="3102">
                <a:moveTo>
                  <a:pt x="24011" y="12105"/>
                </a:moveTo>
                <a:cubicBezTo>
                  <a:pt x="24086" y="12082"/>
                  <a:pt x="24159" y="12043"/>
                  <a:pt x="24234" y="12030"/>
                </a:cubicBezTo>
                <a:cubicBezTo>
                  <a:pt x="24293" y="12020"/>
                  <a:pt x="24470" y="12007"/>
                  <a:pt x="24507" y="12055"/>
                </a:cubicBezTo>
                <a:cubicBezTo>
                  <a:pt x="24588" y="12160"/>
                  <a:pt x="24490" y="12205"/>
                  <a:pt x="24433" y="12278"/>
                </a:cubicBezTo>
                <a:cubicBezTo>
                  <a:pt x="24358" y="12374"/>
                  <a:pt x="24275" y="12476"/>
                  <a:pt x="24209" y="12576"/>
                </a:cubicBezTo>
                <a:cubicBezTo>
                  <a:pt x="24162" y="12647"/>
                  <a:pt x="24121" y="12689"/>
                  <a:pt x="24110" y="12774"/>
                </a:cubicBezTo>
                <a:cubicBezTo>
                  <a:pt x="24225" y="12718"/>
                  <a:pt x="24339" y="12674"/>
                  <a:pt x="24457" y="12626"/>
                </a:cubicBezTo>
                <a:cubicBezTo>
                  <a:pt x="24525" y="12599"/>
                  <a:pt x="24595" y="12599"/>
                  <a:pt x="24656" y="12576"/>
                </a:cubicBezTo>
                <a:cubicBezTo>
                  <a:pt x="24664" y="12568"/>
                  <a:pt x="24673" y="12559"/>
                  <a:pt x="24681" y="12551"/>
                </a:cubicBezTo>
                <a:cubicBezTo>
                  <a:pt x="24649" y="12583"/>
                  <a:pt x="24625" y="12621"/>
                  <a:pt x="24581" y="12626"/>
                </a:cubicBezTo>
                <a:cubicBezTo>
                  <a:pt x="24573" y="12626"/>
                  <a:pt x="24565" y="12626"/>
                  <a:pt x="24557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9"/>
          <p:cNvSpPr/>
          <p:nvPr/>
        </p:nvSpPr>
        <p:spPr>
          <a:xfrm>
            <a:off x="1035000" y="5473800"/>
            <a:ext cx="2216160" cy="662040"/>
          </a:xfrm>
          <a:custGeom>
            <a:avLst/>
            <a:gdLst/>
            <a:ahLst/>
            <a:rect l="l" t="t" r="r" b="b"/>
            <a:pathLst>
              <a:path w="6153" h="1837">
                <a:moveTo>
                  <a:pt x="3101" y="15404"/>
                </a:moveTo>
                <a:cubicBezTo>
                  <a:pt x="3093" y="15471"/>
                  <a:pt x="3070" y="15545"/>
                  <a:pt x="3026" y="15602"/>
                </a:cubicBezTo>
                <a:cubicBezTo>
                  <a:pt x="2935" y="15719"/>
                  <a:pt x="2930" y="15816"/>
                  <a:pt x="2902" y="15949"/>
                </a:cubicBezTo>
                <a:cubicBezTo>
                  <a:pt x="2871" y="16096"/>
                  <a:pt x="2863" y="16198"/>
                  <a:pt x="2927" y="16346"/>
                </a:cubicBezTo>
                <a:cubicBezTo>
                  <a:pt x="2970" y="16446"/>
                  <a:pt x="3048" y="16531"/>
                  <a:pt x="3150" y="16570"/>
                </a:cubicBezTo>
                <a:cubicBezTo>
                  <a:pt x="3248" y="16608"/>
                  <a:pt x="3269" y="16594"/>
                  <a:pt x="3349" y="16545"/>
                </a:cubicBezTo>
                <a:cubicBezTo>
                  <a:pt x="3441" y="16489"/>
                  <a:pt x="3462" y="16447"/>
                  <a:pt x="3497" y="16346"/>
                </a:cubicBezTo>
                <a:cubicBezTo>
                  <a:pt x="3538" y="16227"/>
                  <a:pt x="3568" y="16125"/>
                  <a:pt x="3572" y="15999"/>
                </a:cubicBezTo>
                <a:cubicBezTo>
                  <a:pt x="3576" y="15863"/>
                  <a:pt x="3561" y="15756"/>
                  <a:pt x="3522" y="15627"/>
                </a:cubicBezTo>
                <a:cubicBezTo>
                  <a:pt x="3491" y="15525"/>
                  <a:pt x="3439" y="15407"/>
                  <a:pt x="3373" y="15329"/>
                </a:cubicBezTo>
                <a:cubicBezTo>
                  <a:pt x="3315" y="15261"/>
                  <a:pt x="3235" y="15219"/>
                  <a:pt x="3150" y="15205"/>
                </a:cubicBezTo>
                <a:cubicBezTo>
                  <a:pt x="3058" y="15190"/>
                  <a:pt x="3004" y="15267"/>
                  <a:pt x="3026" y="15354"/>
                </a:cubicBezTo>
                <a:cubicBezTo>
                  <a:pt x="3056" y="15384"/>
                  <a:pt x="3067" y="15398"/>
                  <a:pt x="3076" y="15429"/>
                </a:cubicBezTo>
              </a:path>
              <a:path w="6153" h="1837">
                <a:moveTo>
                  <a:pt x="3746" y="15776"/>
                </a:moveTo>
                <a:cubicBezTo>
                  <a:pt x="3827" y="15797"/>
                  <a:pt x="3914" y="15812"/>
                  <a:pt x="3994" y="15825"/>
                </a:cubicBezTo>
                <a:cubicBezTo>
                  <a:pt x="4043" y="15825"/>
                  <a:pt x="4060" y="15825"/>
                  <a:pt x="4093" y="15825"/>
                </a:cubicBezTo>
              </a:path>
              <a:path w="6153" h="1837">
                <a:moveTo>
                  <a:pt x="3795" y="16123"/>
                </a:moveTo>
                <a:cubicBezTo>
                  <a:pt x="3903" y="16230"/>
                  <a:pt x="3918" y="16247"/>
                  <a:pt x="4068" y="16247"/>
                </a:cubicBezTo>
                <a:cubicBezTo>
                  <a:pt x="4101" y="16247"/>
                  <a:pt x="4134" y="16247"/>
                  <a:pt x="4167" y="16247"/>
                </a:cubicBezTo>
              </a:path>
              <a:path w="6153" h="1837">
                <a:moveTo>
                  <a:pt x="4564" y="15627"/>
                </a:moveTo>
                <a:cubicBezTo>
                  <a:pt x="4564" y="15731"/>
                  <a:pt x="4581" y="15800"/>
                  <a:pt x="4614" y="15900"/>
                </a:cubicBezTo>
                <a:cubicBezTo>
                  <a:pt x="4657" y="16031"/>
                  <a:pt x="4700" y="16147"/>
                  <a:pt x="4762" y="16272"/>
                </a:cubicBezTo>
                <a:cubicBezTo>
                  <a:pt x="4834" y="16416"/>
                  <a:pt x="4897" y="16560"/>
                  <a:pt x="4986" y="16694"/>
                </a:cubicBezTo>
                <a:cubicBezTo>
                  <a:pt x="5048" y="16787"/>
                  <a:pt x="5116" y="16859"/>
                  <a:pt x="5209" y="16917"/>
                </a:cubicBezTo>
              </a:path>
              <a:path w="6153" h="1837">
                <a:moveTo>
                  <a:pt x="5035" y="15528"/>
                </a:moveTo>
                <a:cubicBezTo>
                  <a:pt x="4964" y="15609"/>
                  <a:pt x="4959" y="15682"/>
                  <a:pt x="4911" y="15776"/>
                </a:cubicBezTo>
                <a:cubicBezTo>
                  <a:pt x="4852" y="15891"/>
                  <a:pt x="4812" y="16005"/>
                  <a:pt x="4762" y="16123"/>
                </a:cubicBezTo>
                <a:cubicBezTo>
                  <a:pt x="4709" y="16246"/>
                  <a:pt x="4676" y="16366"/>
                  <a:pt x="4638" y="16495"/>
                </a:cubicBezTo>
                <a:cubicBezTo>
                  <a:pt x="4615" y="16573"/>
                  <a:pt x="4592" y="16645"/>
                  <a:pt x="4564" y="16718"/>
                </a:cubicBezTo>
              </a:path>
              <a:path w="6153" h="1837">
                <a:moveTo>
                  <a:pt x="5259" y="15230"/>
                </a:moveTo>
                <a:cubicBezTo>
                  <a:pt x="5344" y="15212"/>
                  <a:pt x="5434" y="15187"/>
                  <a:pt x="5507" y="15255"/>
                </a:cubicBezTo>
                <a:cubicBezTo>
                  <a:pt x="5570" y="15314"/>
                  <a:pt x="5556" y="15400"/>
                  <a:pt x="5556" y="15478"/>
                </a:cubicBezTo>
                <a:cubicBezTo>
                  <a:pt x="5556" y="15569"/>
                  <a:pt x="5509" y="15632"/>
                  <a:pt x="5432" y="15677"/>
                </a:cubicBezTo>
                <a:cubicBezTo>
                  <a:pt x="5368" y="15714"/>
                  <a:pt x="5345" y="15719"/>
                  <a:pt x="5283" y="15701"/>
                </a:cubicBezTo>
                <a:cubicBezTo>
                  <a:pt x="5257" y="15609"/>
                  <a:pt x="5297" y="15584"/>
                  <a:pt x="5407" y="15627"/>
                </a:cubicBezTo>
                <a:cubicBezTo>
                  <a:pt x="5445" y="15642"/>
                  <a:pt x="5520" y="15701"/>
                  <a:pt x="5556" y="15726"/>
                </a:cubicBezTo>
                <a:cubicBezTo>
                  <a:pt x="5603" y="15759"/>
                  <a:pt x="5640" y="15805"/>
                  <a:pt x="5680" y="15825"/>
                </a:cubicBezTo>
              </a:path>
              <a:path w="6153" h="1837">
                <a:moveTo>
                  <a:pt x="5457" y="16049"/>
                </a:moveTo>
                <a:cubicBezTo>
                  <a:pt x="5525" y="16078"/>
                  <a:pt x="5630" y="16135"/>
                  <a:pt x="5705" y="16148"/>
                </a:cubicBezTo>
                <a:cubicBezTo>
                  <a:pt x="5771" y="16148"/>
                  <a:pt x="5788" y="16148"/>
                  <a:pt x="5829" y="16148"/>
                </a:cubicBezTo>
              </a:path>
              <a:path w="6153" h="1837">
                <a:moveTo>
                  <a:pt x="6226" y="15602"/>
                </a:moveTo>
                <a:cubicBezTo>
                  <a:pt x="6289" y="15570"/>
                  <a:pt x="6376" y="15581"/>
                  <a:pt x="6449" y="15602"/>
                </a:cubicBezTo>
                <a:cubicBezTo>
                  <a:pt x="6522" y="15623"/>
                  <a:pt x="6603" y="15655"/>
                  <a:pt x="6672" y="15677"/>
                </a:cubicBezTo>
                <a:cubicBezTo>
                  <a:pt x="6704" y="15687"/>
                  <a:pt x="6837" y="15693"/>
                  <a:pt x="6846" y="15726"/>
                </a:cubicBezTo>
                <a:cubicBezTo>
                  <a:pt x="6869" y="15808"/>
                  <a:pt x="6824" y="15894"/>
                  <a:pt x="6821" y="15974"/>
                </a:cubicBezTo>
                <a:cubicBezTo>
                  <a:pt x="6817" y="16085"/>
                  <a:pt x="6796" y="16183"/>
                  <a:pt x="6796" y="16297"/>
                </a:cubicBezTo>
                <a:cubicBezTo>
                  <a:pt x="6796" y="16417"/>
                  <a:pt x="6775" y="16526"/>
                  <a:pt x="6772" y="16644"/>
                </a:cubicBezTo>
                <a:cubicBezTo>
                  <a:pt x="6768" y="16769"/>
                  <a:pt x="6626" y="16983"/>
                  <a:pt x="6747" y="17016"/>
                </a:cubicBezTo>
                <a:cubicBezTo>
                  <a:pt x="6763" y="16999"/>
                  <a:pt x="6780" y="16983"/>
                  <a:pt x="6796" y="16966"/>
                </a:cubicBezTo>
              </a:path>
              <a:path w="6153" h="1837">
                <a:moveTo>
                  <a:pt x="6970" y="16173"/>
                </a:moveTo>
                <a:cubicBezTo>
                  <a:pt x="7019" y="16233"/>
                  <a:pt x="7053" y="16305"/>
                  <a:pt x="7094" y="16371"/>
                </a:cubicBezTo>
                <a:cubicBezTo>
                  <a:pt x="7169" y="16491"/>
                  <a:pt x="7230" y="16617"/>
                  <a:pt x="7293" y="16743"/>
                </a:cubicBezTo>
                <a:cubicBezTo>
                  <a:pt x="7334" y="16825"/>
                  <a:pt x="7424" y="16975"/>
                  <a:pt x="7516" y="17016"/>
                </a:cubicBezTo>
                <a:cubicBezTo>
                  <a:pt x="7532" y="17016"/>
                  <a:pt x="7549" y="17016"/>
                  <a:pt x="7565" y="17016"/>
                </a:cubicBezTo>
              </a:path>
              <a:path w="6153" h="1837">
                <a:moveTo>
                  <a:pt x="7491" y="16024"/>
                </a:moveTo>
                <a:cubicBezTo>
                  <a:pt x="7386" y="16156"/>
                  <a:pt x="7323" y="16293"/>
                  <a:pt x="7218" y="16421"/>
                </a:cubicBezTo>
                <a:cubicBezTo>
                  <a:pt x="7152" y="16502"/>
                  <a:pt x="7088" y="16590"/>
                  <a:pt x="7020" y="16669"/>
                </a:cubicBezTo>
                <a:cubicBezTo>
                  <a:pt x="6972" y="16724"/>
                  <a:pt x="6911" y="16782"/>
                  <a:pt x="6871" y="16842"/>
                </a:cubicBezTo>
                <a:cubicBezTo>
                  <a:pt x="6851" y="16883"/>
                  <a:pt x="6832" y="16899"/>
                  <a:pt x="6871" y="16892"/>
                </a:cubicBezTo>
              </a:path>
              <a:path w="6153" h="1837">
                <a:moveTo>
                  <a:pt x="7615" y="16247"/>
                </a:moveTo>
                <a:cubicBezTo>
                  <a:pt x="7718" y="16253"/>
                  <a:pt x="7864" y="16304"/>
                  <a:pt x="7962" y="16297"/>
                </a:cubicBezTo>
                <a:cubicBezTo>
                  <a:pt x="7987" y="16289"/>
                  <a:pt x="8012" y="16280"/>
                  <a:pt x="8037" y="16272"/>
                </a:cubicBezTo>
              </a:path>
              <a:path w="6153" h="1837">
                <a:moveTo>
                  <a:pt x="8508" y="15825"/>
                </a:moveTo>
                <a:cubicBezTo>
                  <a:pt x="8650" y="15788"/>
                  <a:pt x="8735" y="15796"/>
                  <a:pt x="8880" y="15801"/>
                </a:cubicBezTo>
                <a:cubicBezTo>
                  <a:pt x="8949" y="15803"/>
                  <a:pt x="8977" y="15807"/>
                  <a:pt x="9029" y="15776"/>
                </a:cubicBezTo>
              </a:path>
              <a:path w="6153" h="1837">
                <a:moveTo>
                  <a:pt x="8731" y="15677"/>
                </a:moveTo>
                <a:cubicBezTo>
                  <a:pt x="8638" y="15723"/>
                  <a:pt x="8581" y="15753"/>
                  <a:pt x="8508" y="15825"/>
                </a:cubicBezTo>
                <a:cubicBezTo>
                  <a:pt x="8454" y="15878"/>
                  <a:pt x="8413" y="15927"/>
                  <a:pt x="8409" y="15999"/>
                </a:cubicBezTo>
                <a:cubicBezTo>
                  <a:pt x="8406" y="16045"/>
                  <a:pt x="8436" y="16101"/>
                  <a:pt x="8483" y="16123"/>
                </a:cubicBezTo>
                <a:cubicBezTo>
                  <a:pt x="8535" y="16148"/>
                  <a:pt x="8633" y="16163"/>
                  <a:pt x="8682" y="16173"/>
                </a:cubicBezTo>
                <a:cubicBezTo>
                  <a:pt x="8747" y="16186"/>
                  <a:pt x="8791" y="16215"/>
                  <a:pt x="8855" y="16247"/>
                </a:cubicBezTo>
                <a:cubicBezTo>
                  <a:pt x="8923" y="16281"/>
                  <a:pt x="8967" y="16354"/>
                  <a:pt x="9004" y="16421"/>
                </a:cubicBezTo>
                <a:cubicBezTo>
                  <a:pt x="9040" y="16485"/>
                  <a:pt x="9044" y="16596"/>
                  <a:pt x="9029" y="16669"/>
                </a:cubicBezTo>
                <a:cubicBezTo>
                  <a:pt x="9006" y="16777"/>
                  <a:pt x="8923" y="16898"/>
                  <a:pt x="8855" y="16966"/>
                </a:cubicBezTo>
                <a:cubicBezTo>
                  <a:pt x="8814" y="17007"/>
                  <a:pt x="8697" y="17061"/>
                  <a:pt x="8632" y="17041"/>
                </a:cubicBezTo>
                <a:cubicBezTo>
                  <a:pt x="8582" y="17025"/>
                  <a:pt x="8554" y="16995"/>
                  <a:pt x="8508" y="16966"/>
                </a:cubicBezTo>
                <a:cubicBezTo>
                  <a:pt x="8439" y="16923"/>
                  <a:pt x="8421" y="16923"/>
                  <a:pt x="8409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0"/>
          <p:cNvSpPr/>
          <p:nvPr/>
        </p:nvSpPr>
        <p:spPr>
          <a:xfrm>
            <a:off x="1490760" y="3411360"/>
            <a:ext cx="3733560" cy="320760"/>
          </a:xfrm>
          <a:custGeom>
            <a:avLst/>
            <a:gdLst/>
            <a:ahLst/>
            <a:rect l="l" t="t" r="r" b="b"/>
            <a:pathLst>
              <a:path w="10370" h="894">
                <a:moveTo>
                  <a:pt x="4142" y="9525"/>
                </a:moveTo>
                <a:cubicBezTo>
                  <a:pt x="4204" y="9518"/>
                  <a:pt x="4289" y="9501"/>
                  <a:pt x="4366" y="9500"/>
                </a:cubicBezTo>
                <a:cubicBezTo>
                  <a:pt x="4666" y="9495"/>
                  <a:pt x="4967" y="9493"/>
                  <a:pt x="5259" y="9500"/>
                </a:cubicBezTo>
                <a:cubicBezTo>
                  <a:pt x="5673" y="9510"/>
                  <a:pt x="6086" y="9520"/>
                  <a:pt x="6499" y="9525"/>
                </a:cubicBezTo>
                <a:cubicBezTo>
                  <a:pt x="6789" y="9529"/>
                  <a:pt x="7052" y="9575"/>
                  <a:pt x="7342" y="9599"/>
                </a:cubicBezTo>
                <a:cubicBezTo>
                  <a:pt x="7700" y="9629"/>
                  <a:pt x="8079" y="9664"/>
                  <a:pt x="8434" y="9674"/>
                </a:cubicBezTo>
                <a:cubicBezTo>
                  <a:pt x="8689" y="9681"/>
                  <a:pt x="8929" y="9726"/>
                  <a:pt x="9178" y="9748"/>
                </a:cubicBezTo>
                <a:cubicBezTo>
                  <a:pt x="9598" y="9786"/>
                  <a:pt x="10025" y="9781"/>
                  <a:pt x="10443" y="9823"/>
                </a:cubicBezTo>
                <a:cubicBezTo>
                  <a:pt x="10806" y="9859"/>
                  <a:pt x="11172" y="9860"/>
                  <a:pt x="11534" y="9897"/>
                </a:cubicBezTo>
                <a:cubicBezTo>
                  <a:pt x="11793" y="9923"/>
                  <a:pt x="12073" y="9946"/>
                  <a:pt x="12328" y="9996"/>
                </a:cubicBezTo>
                <a:cubicBezTo>
                  <a:pt x="12582" y="10046"/>
                  <a:pt x="12818" y="10089"/>
                  <a:pt x="13072" y="10120"/>
                </a:cubicBezTo>
                <a:cubicBezTo>
                  <a:pt x="13300" y="10148"/>
                  <a:pt x="13520" y="10214"/>
                  <a:pt x="13742" y="10269"/>
                </a:cubicBezTo>
                <a:cubicBezTo>
                  <a:pt x="13908" y="10310"/>
                  <a:pt x="14092" y="10366"/>
                  <a:pt x="14263" y="10368"/>
                </a:cubicBezTo>
                <a:cubicBezTo>
                  <a:pt x="14372" y="10369"/>
                  <a:pt x="14444" y="10315"/>
                  <a:pt x="14511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1"/>
          <p:cNvSpPr/>
          <p:nvPr/>
        </p:nvSpPr>
        <p:spPr>
          <a:xfrm>
            <a:off x="6939000" y="1973160"/>
            <a:ext cx="1785960" cy="90720"/>
          </a:xfrm>
          <a:custGeom>
            <a:avLst/>
            <a:gdLst/>
            <a:ahLst/>
            <a:rect l="l" t="t" r="r" b="b"/>
            <a:pathLst>
              <a:path w="4962" h="249">
                <a:moveTo>
                  <a:pt x="19273" y="5606"/>
                </a:moveTo>
                <a:cubicBezTo>
                  <a:pt x="19348" y="5681"/>
                  <a:pt x="19374" y="5717"/>
                  <a:pt x="19496" y="5730"/>
                </a:cubicBezTo>
                <a:cubicBezTo>
                  <a:pt x="19611" y="5742"/>
                  <a:pt x="19711" y="5712"/>
                  <a:pt x="19819" y="5705"/>
                </a:cubicBezTo>
                <a:cubicBezTo>
                  <a:pt x="19984" y="5695"/>
                  <a:pt x="20152" y="5690"/>
                  <a:pt x="20315" y="5680"/>
                </a:cubicBezTo>
                <a:cubicBezTo>
                  <a:pt x="20729" y="5654"/>
                  <a:pt x="21141" y="5631"/>
                  <a:pt x="21555" y="5631"/>
                </a:cubicBezTo>
                <a:cubicBezTo>
                  <a:pt x="21749" y="5631"/>
                  <a:pt x="21932" y="5609"/>
                  <a:pt x="22126" y="5606"/>
                </a:cubicBezTo>
                <a:cubicBezTo>
                  <a:pt x="22518" y="5599"/>
                  <a:pt x="22906" y="5609"/>
                  <a:pt x="23292" y="5581"/>
                </a:cubicBezTo>
                <a:cubicBezTo>
                  <a:pt x="23452" y="5570"/>
                  <a:pt x="23604" y="5576"/>
                  <a:pt x="23763" y="5556"/>
                </a:cubicBezTo>
                <a:cubicBezTo>
                  <a:pt x="23946" y="5533"/>
                  <a:pt x="23987" y="5544"/>
                  <a:pt x="2416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2"/>
          <p:cNvSpPr/>
          <p:nvPr/>
        </p:nvSpPr>
        <p:spPr>
          <a:xfrm>
            <a:off x="6161040" y="3803760"/>
            <a:ext cx="2786040" cy="81000"/>
          </a:xfrm>
          <a:custGeom>
            <a:avLst/>
            <a:gdLst/>
            <a:ahLst/>
            <a:rect l="l" t="t" r="r" b="b"/>
            <a:pathLst>
              <a:path w="7740" h="224">
                <a:moveTo>
                  <a:pt x="17115" y="10790"/>
                </a:moveTo>
                <a:cubicBezTo>
                  <a:pt x="17176" y="10790"/>
                  <a:pt x="17258" y="10787"/>
                  <a:pt x="17338" y="10790"/>
                </a:cubicBezTo>
                <a:cubicBezTo>
                  <a:pt x="17427" y="10794"/>
                  <a:pt x="17501" y="10770"/>
                  <a:pt x="17587" y="10765"/>
                </a:cubicBezTo>
                <a:cubicBezTo>
                  <a:pt x="17988" y="10741"/>
                  <a:pt x="18402" y="10740"/>
                  <a:pt x="18802" y="10740"/>
                </a:cubicBezTo>
                <a:cubicBezTo>
                  <a:pt x="18961" y="10740"/>
                  <a:pt x="19113" y="10716"/>
                  <a:pt x="19273" y="10716"/>
                </a:cubicBezTo>
                <a:cubicBezTo>
                  <a:pt x="19429" y="10716"/>
                  <a:pt x="19643" y="10724"/>
                  <a:pt x="19794" y="10691"/>
                </a:cubicBezTo>
                <a:cubicBezTo>
                  <a:pt x="20032" y="10639"/>
                  <a:pt x="20275" y="10685"/>
                  <a:pt x="20513" y="10641"/>
                </a:cubicBezTo>
                <a:cubicBezTo>
                  <a:pt x="20758" y="10596"/>
                  <a:pt x="21004" y="10571"/>
                  <a:pt x="21258" y="10567"/>
                </a:cubicBezTo>
                <a:cubicBezTo>
                  <a:pt x="22360" y="10548"/>
                  <a:pt x="23486" y="10533"/>
                  <a:pt x="24581" y="10592"/>
                </a:cubicBezTo>
                <a:cubicBezTo>
                  <a:pt x="24687" y="10598"/>
                  <a:pt x="24747" y="10623"/>
                  <a:pt x="24829" y="10641"/>
                </a:cubicBezTo>
                <a:cubicBezTo>
                  <a:pt x="24837" y="10641"/>
                  <a:pt x="24846" y="10641"/>
                  <a:pt x="24854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3"/>
          <p:cNvSpPr/>
          <p:nvPr/>
        </p:nvSpPr>
        <p:spPr>
          <a:xfrm>
            <a:off x="5749920" y="3830760"/>
            <a:ext cx="447840" cy="2992320"/>
          </a:xfrm>
          <a:custGeom>
            <a:avLst/>
            <a:gdLst/>
            <a:ahLst/>
            <a:rect l="l" t="t" r="r" b="b"/>
            <a:pathLst>
              <a:path w="1241" h="8311">
                <a:moveTo>
                  <a:pt x="17214" y="10641"/>
                </a:moveTo>
                <a:cubicBezTo>
                  <a:pt x="17208" y="10662"/>
                  <a:pt x="17149" y="10772"/>
                  <a:pt x="17140" y="10815"/>
                </a:cubicBezTo>
                <a:cubicBezTo>
                  <a:pt x="17121" y="10910"/>
                  <a:pt x="17128" y="11016"/>
                  <a:pt x="17115" y="11112"/>
                </a:cubicBezTo>
                <a:cubicBezTo>
                  <a:pt x="17087" y="11318"/>
                  <a:pt x="17047" y="11501"/>
                  <a:pt x="16991" y="11708"/>
                </a:cubicBezTo>
                <a:cubicBezTo>
                  <a:pt x="16822" y="12330"/>
                  <a:pt x="16637" y="12947"/>
                  <a:pt x="16470" y="13568"/>
                </a:cubicBezTo>
                <a:cubicBezTo>
                  <a:pt x="16374" y="13926"/>
                  <a:pt x="16287" y="14270"/>
                  <a:pt x="16222" y="14635"/>
                </a:cubicBezTo>
                <a:cubicBezTo>
                  <a:pt x="16154" y="15017"/>
                  <a:pt x="16084" y="15390"/>
                  <a:pt x="16049" y="15776"/>
                </a:cubicBezTo>
                <a:cubicBezTo>
                  <a:pt x="15971" y="16639"/>
                  <a:pt x="15926" y="17501"/>
                  <a:pt x="16098" y="18355"/>
                </a:cubicBezTo>
                <a:cubicBezTo>
                  <a:pt x="16142" y="18576"/>
                  <a:pt x="16228" y="18750"/>
                  <a:pt x="16321" y="189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16Z</dcterms:created>
  <dc:creator>jnewman</dc:creator>
  <dc:description/>
  <dc:language>en-US</dc:language>
  <cp:lastModifiedBy>abeason</cp:lastModifiedBy>
  <dcterms:modified xsi:type="dcterms:W3CDTF">2010-05-19T14:40:28Z</dcterms:modified>
  <cp:revision>13</cp:revision>
  <dc:subject/>
  <dc:title>Lesson 2.5</dc:title>
</cp:coreProperties>
</file>